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59.png" ContentType="image/png"/>
  <Override PartName="/ppt/media/image21.png" ContentType="image/png"/>
  <Override PartName="/ppt/media/image19.wmf" ContentType="image/x-wmf"/>
  <Override PartName="/ppt/media/image58.png" ContentType="image/png"/>
  <Override PartName="/ppt/media/image20.png" ContentType="image/png"/>
  <Override PartName="/ppt/media/image18.wmf" ContentType="image/x-wmf"/>
  <Override PartName="/ppt/media/image17.wmf" ContentType="image/x-wmf"/>
  <Override PartName="/ppt/media/image56.png" ContentType="image/png"/>
  <Override PartName="/ppt/media/image16.wmf" ContentType="image/x-wmf"/>
  <Override PartName="/ppt/media/image15.wmf" ContentType="image/x-wmf"/>
  <Override PartName="/ppt/media/image54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30.png" ContentType="image/png"/>
  <Override PartName="/ppt/media/image5.wmf" ContentType="image/x-wmf"/>
  <Override PartName="/ppt/media/image25.jpeg" ContentType="image/jpeg"/>
  <Override PartName="/ppt/media/image2.png" ContentType="image/png"/>
  <Override PartName="/ppt/media/image32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9.png" ContentType="image/png"/>
  <Override PartName="/ppt/media/image42.wmf" ContentType="image/x-wmf"/>
  <Override PartName="/ppt/media/image44.wmf" ContentType="image/x-wmf"/>
  <Override PartName="/ppt/media/image45.png" ContentType="image/png"/>
  <Override PartName="/ppt/media/image46.wmf" ContentType="image/x-wmf"/>
  <Override PartName="/ppt/media/image26.png" ContentType="image/png"/>
  <Override PartName="/ppt/media/image50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1.wmf" ContentType="image/x-wmf"/>
  <Override PartName="/ppt/media/image53.wmf" ContentType="image/x-wmf"/>
  <Override PartName="/ppt/media/image33.png" ContentType="image/png"/>
  <Override PartName="/ppt/media/image43.wmf" ContentType="image/x-wmf"/>
  <Override PartName="/ppt/media/image55.wmf" ContentType="image/x-wmf"/>
  <Override PartName="/ppt/media/image35.png" ContentType="image/png"/>
  <Override PartName="/ppt/media/image57.wmf" ContentType="image/x-wmf"/>
  <Override PartName="/ppt/media/image40.wmf" ContentType="image/x-wmf"/>
  <Override PartName="/ppt/media/image37.png" ContentType="image/png"/>
  <Override PartName="/ppt/media/image36.png" ContentType="image/png"/>
  <Override PartName="/ppt/media/image34.png" ContentType="image/png"/>
  <Override PartName="/ppt/media/image9.wmf" ContentType="image/x-wmf"/>
  <Override PartName="/ppt/media/image13.wmf" ContentType="image/x-wmf"/>
  <Override PartName="/ppt/media/image52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CDBC-CB28-42C9-AD09-FBEBE00AD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1E62-DE70-4D47-8280-66B74D444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364A-1D0B-4ECD-9253-39C6A2B2B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EE67-4FC9-49DC-B033-F961D3E157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0139-AF37-488A-AABA-D25976FFF4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40FF-B9DB-47AF-8E0C-C74DC5D4D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C5CB-F582-4BA1-B17E-667F30D9C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9D25-A227-45FB-93B9-46F47199F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0287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B561-A6BB-47B5-AEA5-50A8B376E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6BF9-0048-45EB-BC4D-0AA751FEA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E4A0-A9C8-44D4-85B2-362F39FFA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43252-3437-487C-83DA-B5B824216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45160"/>
            <a:ext cx="91137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113400" y="6381360"/>
            <a:ext cx="11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51E4-9635-4385-9519-1317E3ECAE9C}" type="slidenum"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edoseev@phys.unn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5.wmf"/><Relationship Id="rId4" Type="http://schemas.openxmlformats.org/officeDocument/2006/relationships/image" Target="../media/image56.png"/><Relationship Id="rId5" Type="http://schemas.openxmlformats.org/officeDocument/2006/relationships/image" Target="../media/image57.wmf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6880" y="404280"/>
            <a:ext cx="8744040" cy="2303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Термодинамическое описание дисперс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42600" y="38862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факультет НН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урс, 9 семес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сеев Виктор Борис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ор кафедры физического материаловедения физического факультета ННГ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fedoseev@phys.unn.r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5040"/>
            <a:ext cx="10287000" cy="1206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29040" y="2565360"/>
            <a:ext cx="3537000" cy="471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834240" y="-27000"/>
            <a:ext cx="35290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389320" y="4508640"/>
            <a:ext cx="1506240" cy="2006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616280" cy="3686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15400" y="3789360"/>
            <a:ext cx="1908000" cy="262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-41400" y="4076640"/>
            <a:ext cx="2089440" cy="27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0DD1-D163-4197-A1D6-2D802581D1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"Красивыми" бывают не только химические форму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600" y="1252440"/>
            <a:ext cx="10207800" cy="527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AB7F-019B-4E17-8B0C-40F135D382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52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омбинаторика: число размещени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одинаковых элементов п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разным ящик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38400" y="1125360"/>
          <a:ext cx="3556080" cy="66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8400" y="1125360"/>
                    <a:ext cx="355608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5560" y="3273480"/>
            <a:ext cx="1022184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200!=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788657867364790503552363213932185062295135977687173263294742533244359449963403342920304284011984623904177212138919638830257642790242637105061926624952829931113462857270763317237396988943922445621451664240254033291864131227428294853277524242407573903240321257405579568660226031904170324062351700858796178922222789623703897374720000000000000000000000000000000000000000000000000</a:t>
            </a:r>
            <a:br>
              <a:rPr sz="2000"/>
            </a:b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P(200)=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397299902938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773360"/>
            <a:ext cx="10287000" cy="1617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исло размещени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одинаковых элементов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разным ящикам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данного размер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ящик или полон, или пуст!!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4830-30A2-4175-B13C-4D1344D8A5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600" y="44280"/>
            <a:ext cx="1020780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200!=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788657867364790503552363213932185062295135977687173263294742533244359449963403342920304284011984623904177212138919638830257642790242637105061926624952829931113462857270763317237396988943922445621451664240254033291864131227428294853277524242407573903240321257405579568660226031904170324062351700858796178922222789623703897374720000000000000000000000000000000000000000000000000</a:t>
            </a:r>
            <a:br>
              <a:rPr sz="2000"/>
            </a:b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P(200)=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397299902938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600" y="3645000"/>
            <a:ext cx="10126800" cy="26352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Дисперсная система, создана из того же количества элементарных частиц, но является малым подмножеством канонического ансамб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61D5-6EB0-416A-B6D1-C4ACBFA2B5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во количество макросостояний, в которых присутствуют дисперсные частицы размер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491240" y="1916280"/>
          <a:ext cx="234972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91240" y="1916280"/>
                    <a:ext cx="23497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9600" y="2421000"/>
            <a:ext cx="898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я макросостоя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персной систем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щ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мер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965320" y="2927520"/>
          <a:ext cx="6604200" cy="100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65320" y="2927520"/>
                    <a:ext cx="660420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9600" y="4149720"/>
            <a:ext cx="8183520" cy="2697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1600" y="1052640"/>
            <a:ext cx="100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стояний дисперсной системы можно выделить подмножество состояний, при которых в системе присутствует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крайней мере, од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лимер размер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5BF5-642E-4498-B9F8-EC9F8B53F4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во количество макросостояний, в которых присутствуют дисперсные частицы размер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00" y="1125360"/>
            <a:ext cx="101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я макросостоя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персной системы, содержащих полимеры размер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20880" y="1628640"/>
          <a:ext cx="6604200" cy="10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0880" y="1628640"/>
                    <a:ext cx="66042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215120" y="3541680"/>
            <a:ext cx="1542960" cy="555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41400" y="278136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хожа на экспоненциальные распределения типа Флори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или Весл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331040" y="2924280"/>
          <a:ext cx="210672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31040" y="2924280"/>
                    <a:ext cx="210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404040" y="4189320"/>
            <a:ext cx="3600360" cy="895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90600" y="3613320"/>
            <a:ext cx="4942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спользовать разложение в ря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одставить результат в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(N,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600" y="5229360"/>
            <a:ext cx="988380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кспоненциальное распределение можно рекомендовать для приближенного описания распределения средних и крупных частиц по размерам, но не для малых (кластер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7058-F7D1-4978-BA38-A83FB2A468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7524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олькими способами может быть получена система, содержащая ровно М дисперсных частиц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Сколько существует состояний, в которых максимальный размер дисперсных частиц равен 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76640"/>
            <a:ext cx="1028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сло разбиений числ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овно на М часте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число разбиений числ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имеющих максимальную часть М совпад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7760" y="3260880"/>
            <a:ext cx="942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сло разбиений числ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овно на М часте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4600" y="5221440"/>
            <a:ext cx="805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нимодальна и имеет максимум п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08320" y="3933720"/>
            <a:ext cx="5786280" cy="933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767040" y="5942160"/>
            <a:ext cx="1543320" cy="50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C421-2B5A-43B8-8E45-E2DE740C58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10287000" cy="3673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445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 унимодальности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следу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07920"/>
            <a:ext cx="10287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Tahoma"/>
              </a:rPr>
              <a:t>С ростом количества вещества, одновременно должны изменяться и число дисперсных частиц (полимеров), и распределение частиц по размер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Tahoma"/>
              </a:rPr>
              <a:t>Среднее число дисперсных частиц возрастает не прямо пропорционально количеству вещества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9999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Tahoma"/>
              </a:rPr>
              <a:t>Средний размер дисперсных частиц должен возрастать с ростом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N</a:t>
            </a:r>
            <a:r>
              <a:rPr b="1" lang="ru-RU" sz="2800" spc="-1" strike="noStrike">
                <a:solidFill>
                  <a:srgbClr val="009999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4320" y="4797360"/>
            <a:ext cx="680400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66"/>
                </a:solidFill>
                <a:latin typeface="Times New Roman"/>
              </a:rPr>
              <a:t>Дисперсная система неэкстенсивна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1E25-2F74-4E22-8A70-64C08780E1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44560"/>
          </a:xfrm>
          <a:prstGeom prst="rect">
            <a:avLst/>
          </a:prstGeom>
          <a:solidFill>
            <a:srgbClr val="99cc00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Дисперсная система неэкстенсивна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907920"/>
            <a:ext cx="10287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Размер и число пор в кристалле зависит от размеров самого кристалла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(чем больше облако, тем крупнее капли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00" y="2637000"/>
            <a:ext cx="6075360" cy="42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08320" y="4076640"/>
            <a:ext cx="2673360" cy="1944720"/>
          </a:xfrm>
          <a:prstGeom prst="ellipse">
            <a:avLst/>
          </a:prstGeom>
          <a:solidFill>
            <a:srgbClr val="bbe0e3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5880" y="2637000"/>
            <a:ext cx="2268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ристал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12040" y="4292640"/>
            <a:ext cx="2308320" cy="165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4221000"/>
            <a:ext cx="2673360" cy="1944720"/>
          </a:xfrm>
          <a:prstGeom prst="ellipse">
            <a:avLst/>
          </a:prstGeom>
          <a:solidFill>
            <a:srgbClr val="bbe0e3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55040" y="3429000"/>
            <a:ext cx="2268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ристал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73960" y="3705120"/>
            <a:ext cx="3725640" cy="2363760"/>
          </a:xfrm>
          <a:custGeom>
            <a:avLst/>
            <a:gdLst/>
            <a:ahLst/>
            <a:rect l="l" t="t" r="r" b="b"/>
            <a:pathLst>
              <a:path w="2086" h="1489">
                <a:moveTo>
                  <a:pt x="15" y="1459"/>
                </a:moveTo>
                <a:cubicBezTo>
                  <a:pt x="30" y="1429"/>
                  <a:pt x="567" y="1270"/>
                  <a:pt x="877" y="1051"/>
                </a:cubicBezTo>
                <a:cubicBezTo>
                  <a:pt x="1187" y="832"/>
                  <a:pt x="1686" y="288"/>
                  <a:pt x="1875" y="144"/>
                </a:cubicBezTo>
                <a:cubicBezTo>
                  <a:pt x="2064" y="0"/>
                  <a:pt x="1988" y="152"/>
                  <a:pt x="2011" y="189"/>
                </a:cubicBezTo>
                <a:cubicBezTo>
                  <a:pt x="2034" y="226"/>
                  <a:pt x="2086" y="264"/>
                  <a:pt x="2011" y="370"/>
                </a:cubicBezTo>
                <a:cubicBezTo>
                  <a:pt x="1936" y="476"/>
                  <a:pt x="1762" y="680"/>
                  <a:pt x="1558" y="824"/>
                </a:cubicBezTo>
                <a:cubicBezTo>
                  <a:pt x="1354" y="968"/>
                  <a:pt x="1044" y="1126"/>
                  <a:pt x="787" y="1232"/>
                </a:cubicBezTo>
                <a:cubicBezTo>
                  <a:pt x="530" y="1338"/>
                  <a:pt x="0" y="1489"/>
                  <a:pt x="15" y="1459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16600" y="3921120"/>
            <a:ext cx="3726000" cy="2363760"/>
          </a:xfrm>
          <a:custGeom>
            <a:avLst/>
            <a:gdLst/>
            <a:ahLst/>
            <a:rect l="l" t="t" r="r" b="b"/>
            <a:pathLst>
              <a:path w="2086" h="1489">
                <a:moveTo>
                  <a:pt x="15" y="1459"/>
                </a:moveTo>
                <a:cubicBezTo>
                  <a:pt x="30" y="1429"/>
                  <a:pt x="567" y="1270"/>
                  <a:pt x="877" y="1051"/>
                </a:cubicBezTo>
                <a:cubicBezTo>
                  <a:pt x="1187" y="832"/>
                  <a:pt x="1686" y="288"/>
                  <a:pt x="1875" y="144"/>
                </a:cubicBezTo>
                <a:cubicBezTo>
                  <a:pt x="2064" y="0"/>
                  <a:pt x="1988" y="152"/>
                  <a:pt x="2011" y="189"/>
                </a:cubicBezTo>
                <a:cubicBezTo>
                  <a:pt x="2034" y="226"/>
                  <a:pt x="2086" y="264"/>
                  <a:pt x="2011" y="370"/>
                </a:cubicBezTo>
                <a:cubicBezTo>
                  <a:pt x="1936" y="476"/>
                  <a:pt x="1762" y="680"/>
                  <a:pt x="1558" y="824"/>
                </a:cubicBezTo>
                <a:cubicBezTo>
                  <a:pt x="1354" y="968"/>
                  <a:pt x="1044" y="1126"/>
                  <a:pt x="787" y="1232"/>
                </a:cubicBezTo>
                <a:cubicBezTo>
                  <a:pt x="530" y="1338"/>
                  <a:pt x="0" y="1489"/>
                  <a:pt x="15" y="1459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62680" y="2492280"/>
            <a:ext cx="51051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ер кристалла ограничивает верхний предел функции распределения по размерам, с ним и статсумму (энтропию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FE98-2547-4E48-84FB-5B20F1337F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49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мер неэкстенсив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5040" y="547560"/>
            <a:ext cx="8666280" cy="3106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364500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деальный газ в гравитационном п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00" y="4221000"/>
            <a:ext cx="74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Термодинамика неэкстенсивных сист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rcRect l="5528" t="2537" r="0" b="0"/>
          <a:stretch/>
        </p:blipFill>
        <p:spPr>
          <a:xfrm>
            <a:off x="7412040" y="3641760"/>
            <a:ext cx="2855880" cy="2882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600" y="5157720"/>
            <a:ext cx="680400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рипов Ринат Герфанович (Казань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рипов Р.Г. Самоорганизация и необратимость в неэкстенсивных системах. Казань: Изд-во "Фэн", 200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57960" y="620640"/>
            <a:ext cx="39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Это не экзотик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037B0-3E6D-4FC8-BF3B-5A6AC58950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233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иск условного минимума функции Гиббса. Метод Лагранж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100" spc="-1" strike="noStrike">
                <a:solidFill>
                  <a:srgbClr val="333399"/>
                </a:solidFill>
                <a:latin typeface="Times New Roman"/>
              </a:rPr>
              <a:t>повторение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20840" y="4581360"/>
          <a:ext cx="4871880" cy="11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0840" y="4581360"/>
                    <a:ext cx="487188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22400" y="3933720"/>
            <a:ext cx="413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Функция Лагранж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15880" y="5877000"/>
            <a:ext cx="5492520" cy="609480"/>
            <a:chOff x="1415880" y="5877000"/>
            <a:chExt cx="5492520" cy="609480"/>
          </a:xfrm>
        </p:grpSpPr>
        <p:graphicFrame>
          <p:nvGraphicFramePr>
            <p:cNvPr id="47" name=""/>
            <p:cNvGraphicFramePr/>
            <p:nvPr/>
          </p:nvGraphicFramePr>
          <p:xfrm>
            <a:off x="1581840" y="5877000"/>
            <a:ext cx="746280" cy="609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81840" y="5877000"/>
                      <a:ext cx="746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1415880" y="5894280"/>
              <a:ext cx="5492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множители Лагранж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197760" y="3141720"/>
            <a:ext cx="388764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элемент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 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,H2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2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,H2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00" y="1268280"/>
            <a:ext cx="7534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найти минимум функции Гиббса системы при заданных услов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слов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истема закрытая, поэтому её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элементный состав сохраняет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и любых (химических) превраще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304040" y="2276640"/>
          <a:ext cx="2314800" cy="853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4040" y="2276640"/>
                    <a:ext cx="23148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713720" y="1365120"/>
          <a:ext cx="1347840" cy="660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3720" y="1365120"/>
                    <a:ext cx="13478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197760" y="4581360"/>
            <a:ext cx="3968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идеального раствора функция имеет один экстрему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ельдович Я.Б. ЖФХ 19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BB48-D63F-4538-A939-F71F031D7E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240" y="-360"/>
            <a:ext cx="10247400" cy="220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 исключением простейших случаев процессы рассматриваемые в химии твёрдого тела являются неэкстенсивным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1600" y="2478240"/>
            <a:ext cx="9802800" cy="37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Зависят от размеров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Зависят от геометрической формы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Зависят от геометрической формы элементов структуры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1848-7BD4-4663-BACD-3D1421C5B3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341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Результаты теории разбиений не учитывают физическую и химическую природу рассматриваемой системы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21000"/>
            <a:ext cx="102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модинамический критерий взаимодействия мономер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свободная энергия образования дисперсных частиц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на один моль элементарных частиц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ономеро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55680" y="4508640"/>
          <a:ext cx="7824960" cy="14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508640"/>
                    <a:ext cx="78249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0" y="1341360"/>
            <a:ext cx="10287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м слабее взаимодействия между "мономерами" (атомами, молекулами и т.п.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чем меньше изменения объема при этом взаимодейств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м меньше рассматриваемая система отличается от математического идеала, описанного теорией разбие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357720" y="5759280"/>
          <a:ext cx="380520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7720" y="5759280"/>
                    <a:ext cx="38052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5DE1-8D1F-46EE-89EF-D5B8E7AAB9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пределения по размера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 учетом теории разби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93680" y="2141640"/>
            <a:ext cx="7402680" cy="1828800"/>
          </a:xfrm>
          <a:custGeom>
            <a:avLst/>
            <a:gdLst/>
            <a:ahLst/>
            <a:rect l="l" t="t" r="r" b="b"/>
            <a:pathLst>
              <a:path w="3120" h="1152">
                <a:moveTo>
                  <a:pt x="0" y="0"/>
                </a:moveTo>
                <a:lnTo>
                  <a:pt x="0" y="1152"/>
                </a:lnTo>
                <a:lnTo>
                  <a:pt x="3120" y="1152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93680" y="2496960"/>
            <a:ext cx="7061400" cy="1473480"/>
          </a:xfrm>
          <a:custGeom>
            <a:avLst/>
            <a:gdLst/>
            <a:ahLst/>
            <a:rect l="l" t="t" r="r" b="b"/>
            <a:pathLst>
              <a:path w="2976" h="928">
                <a:moveTo>
                  <a:pt x="0" y="16"/>
                </a:moveTo>
                <a:cubicBezTo>
                  <a:pt x="0" y="16"/>
                  <a:pt x="1024" y="8"/>
                  <a:pt x="1296" y="16"/>
                </a:cubicBezTo>
                <a:cubicBezTo>
                  <a:pt x="1395" y="31"/>
                  <a:pt x="1441" y="0"/>
                  <a:pt x="1503" y="127"/>
                </a:cubicBezTo>
                <a:cubicBezTo>
                  <a:pt x="1565" y="254"/>
                  <a:pt x="1623" y="601"/>
                  <a:pt x="1659" y="733"/>
                </a:cubicBezTo>
                <a:cubicBezTo>
                  <a:pt x="1695" y="865"/>
                  <a:pt x="1653" y="896"/>
                  <a:pt x="1872" y="928"/>
                </a:cubicBezTo>
                <a:cubicBezTo>
                  <a:pt x="2424" y="928"/>
                  <a:pt x="2976" y="928"/>
                  <a:pt x="2976" y="92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08160" y="2522520"/>
            <a:ext cx="7059600" cy="1447920"/>
          </a:xfrm>
          <a:custGeom>
            <a:avLst/>
            <a:gdLst/>
            <a:ahLst/>
            <a:rect l="l" t="t" r="r" b="b"/>
            <a:pathLst>
              <a:path w="2976" h="912">
                <a:moveTo>
                  <a:pt x="0" y="912"/>
                </a:moveTo>
                <a:lnTo>
                  <a:pt x="532" y="912"/>
                </a:lnTo>
                <a:cubicBezTo>
                  <a:pt x="731" y="874"/>
                  <a:pt x="1023" y="865"/>
                  <a:pt x="1193" y="685"/>
                </a:cubicBezTo>
                <a:cubicBezTo>
                  <a:pt x="1363" y="505"/>
                  <a:pt x="1401" y="393"/>
                  <a:pt x="1467" y="251"/>
                </a:cubicBezTo>
                <a:cubicBezTo>
                  <a:pt x="1533" y="109"/>
                  <a:pt x="1665" y="19"/>
                  <a:pt x="1872" y="0"/>
                </a:cubicBezTo>
                <a:lnTo>
                  <a:pt x="2976" y="0"/>
                </a:lnTo>
              </a:path>
            </a:pathLst>
          </a:custGeom>
          <a:noFill/>
          <a:ln w="28440">
            <a:solidFill>
              <a:srgbClr val="99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2554200"/>
            <a:ext cx="7061400" cy="1433520"/>
          </a:xfrm>
          <a:custGeom>
            <a:avLst/>
            <a:gdLst/>
            <a:ahLst/>
            <a:rect l="l" t="t" r="r" b="b"/>
            <a:pathLst>
              <a:path w="3954" h="903">
                <a:moveTo>
                  <a:pt x="0" y="892"/>
                </a:moveTo>
                <a:lnTo>
                  <a:pt x="889" y="872"/>
                </a:lnTo>
                <a:cubicBezTo>
                  <a:pt x="1112" y="843"/>
                  <a:pt x="1214" y="784"/>
                  <a:pt x="1339" y="717"/>
                </a:cubicBezTo>
                <a:cubicBezTo>
                  <a:pt x="1464" y="650"/>
                  <a:pt x="1560" y="549"/>
                  <a:pt x="1638" y="467"/>
                </a:cubicBezTo>
                <a:cubicBezTo>
                  <a:pt x="1717" y="385"/>
                  <a:pt x="1768" y="287"/>
                  <a:pt x="1811" y="225"/>
                </a:cubicBezTo>
                <a:lnTo>
                  <a:pt x="1897" y="95"/>
                </a:lnTo>
                <a:cubicBezTo>
                  <a:pt x="1942" y="59"/>
                  <a:pt x="2035" y="0"/>
                  <a:pt x="2082" y="11"/>
                </a:cubicBezTo>
                <a:cubicBezTo>
                  <a:pt x="2120" y="29"/>
                  <a:pt x="2139" y="57"/>
                  <a:pt x="2180" y="160"/>
                </a:cubicBezTo>
                <a:lnTo>
                  <a:pt x="2267" y="643"/>
                </a:lnTo>
                <a:cubicBezTo>
                  <a:pt x="2294" y="754"/>
                  <a:pt x="2289" y="786"/>
                  <a:pt x="2342" y="829"/>
                </a:cubicBezTo>
                <a:cubicBezTo>
                  <a:pt x="2370" y="883"/>
                  <a:pt x="2321" y="891"/>
                  <a:pt x="2588" y="903"/>
                </a:cubicBezTo>
                <a:lnTo>
                  <a:pt x="3954" y="892"/>
                </a:lnTo>
              </a:path>
            </a:pathLst>
          </a:cu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56600" y="40464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141960" y="1969920"/>
          <a:ext cx="188136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1960" y="1969920"/>
                    <a:ext cx="18813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257040" y="836640"/>
            <a:ext cx="982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ноническое распределение и распределение разбиений независимы, поэтому результирующее распределение можно представить как произ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1600" y="4308480"/>
            <a:ext cx="9802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8880" indent="-758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С ростом поверхностной энергии, уменьшением температуры и увеличением количества вещества максимум распределения смещается в область более крупных полиме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-758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Times New Roman"/>
              </a:rPr>
              <a:t>С уменьшением поверхностной энергии и ростом температуры максимум распределения смещается в сторону мелких полимеров. В пределе распределение приобретает вид логарифмическ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70120" y="2133720"/>
          <a:ext cx="1738080" cy="34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70120" y="2133720"/>
                    <a:ext cx="17380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357960" y="256536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пределение Гибб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256536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пределение разби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851F-EE38-4CD9-9092-32FE99AF90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спределения по размера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 учетом теории разби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85840" y="3000240"/>
          <a:ext cx="5629320" cy="24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5840" y="3000240"/>
                    <a:ext cx="56293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851040" y="1341360"/>
            <a:ext cx="842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термодинамическое описание работало и в области больших размеров, согласно теории разбиений, следует добавить к характеристикам образования частиц энтропийный вклад, понижающий вероятность образования самых больших частиц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2542-89BD-4126-AA1D-C11C23F513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мер распределения по размерам: вода, сферические кап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без учета объема систем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87240" y="1268280"/>
            <a:ext cx="8861400" cy="3629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43657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асс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стехиометрическое число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7040" y="4797360"/>
            <a:ext cx="352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аксимум числового распредел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~10-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9240" y="4869000"/>
            <a:ext cx="58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Эти распределения слабо зависят от поверхностной энергии, к более сильным изменениям приводит учет в свободной энергии изменения объема при образовании част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23DE-6BE4-4A20-ADE1-1A9D717FB6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38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имеры распредел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4618" t="6819" r="23078" b="5484"/>
          <a:stretch/>
        </p:blipFill>
        <p:spPr>
          <a:xfrm>
            <a:off x="282600" y="836640"/>
            <a:ext cx="4286160" cy="292716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4629240" y="1752480"/>
            <a:ext cx="5657400" cy="3505320"/>
            <a:chOff x="4629240" y="1752480"/>
            <a:chExt cx="5657400" cy="350532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rcRect l="1926" t="9888" r="21152" b="0"/>
            <a:stretch/>
          </p:blipFill>
          <p:spPr>
            <a:xfrm>
              <a:off x="4629240" y="1752480"/>
              <a:ext cx="45799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066000" y="2370240"/>
              <a:ext cx="422064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В.Н.Анциферов, В.Г.Халтурин, Айнагос А.Ф. Лазерный синтез ультрадисперсных порошков оксидной керамики. Пермь, 1995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Точки — эксперимент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660680" y="692280"/>
            <a:ext cx="77151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Характер функции распределения по размерам при различных количествах вещества, поверхностном натяжении, температуре, давлен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rcRect l="3445" t="12136" r="5172" b="7649"/>
          <a:stretch/>
        </p:blipFill>
        <p:spPr>
          <a:xfrm>
            <a:off x="1457280" y="4495680"/>
            <a:ext cx="3086280" cy="1967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171960" y="5334120"/>
            <a:ext cx="33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Точки — эксперимент (Каверин Б. С. ИМХ РА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7240" y="3429000"/>
            <a:ext cx="299736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диус, мк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797280" y="3050640"/>
            <a:ext cx="180180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Концентрация части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00960" y="5070600"/>
            <a:ext cx="218736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адиус частиц,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65320" y="6539040"/>
            <a:ext cx="2187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адиус частиц,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D97C-CD6D-48B0-916E-B82E81B587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079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Без теории разбиений мож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1600" y="907920"/>
            <a:ext cx="9802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писание дисперсной системы может быть достаточно корректным, если использовать стандартные методы моделирования химического равновесия, считая дисперсные частицы разных размеров индивидуальными компонентами химической смес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сли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ограничить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 размеры дисперсных частиц областью, где "распределение разбиений" не отличается от 1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010040" y="5516640"/>
          <a:ext cx="1967040" cy="65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0040" y="5516640"/>
                    <a:ext cx="19670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51A0-8551-4054-8F70-E2B55A2B1D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41760" y="43920"/>
            <a:ext cx="10287000" cy="576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тандартный химический потенциал пе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9840" y="685800"/>
          <a:ext cx="6583320" cy="315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40" y="685800"/>
                    <a:ext cx="658332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754200" y="1644480"/>
            <a:ext cx="655560" cy="554040"/>
          </a:xfrm>
          <a:custGeom>
            <a:avLst/>
            <a:gdLst/>
            <a:ahLst/>
            <a:rect l="l" t="t" r="r" b="b"/>
            <a:pathLst>
              <a:path w="266" h="264">
                <a:moveTo>
                  <a:pt x="123" y="0"/>
                </a:moveTo>
                <a:cubicBezTo>
                  <a:pt x="106" y="31"/>
                  <a:pt x="26" y="149"/>
                  <a:pt x="18" y="189"/>
                </a:cubicBezTo>
                <a:cubicBezTo>
                  <a:pt x="10" y="229"/>
                  <a:pt x="50" y="233"/>
                  <a:pt x="77" y="239"/>
                </a:cubicBezTo>
                <a:cubicBezTo>
                  <a:pt x="104" y="245"/>
                  <a:pt x="166" y="225"/>
                  <a:pt x="183" y="227"/>
                </a:cubicBezTo>
                <a:cubicBezTo>
                  <a:pt x="200" y="229"/>
                  <a:pt x="167" y="264"/>
                  <a:pt x="179" y="248"/>
                </a:cubicBezTo>
                <a:cubicBezTo>
                  <a:pt x="191" y="232"/>
                  <a:pt x="244" y="155"/>
                  <a:pt x="255" y="129"/>
                </a:cubicBezTo>
                <a:cubicBezTo>
                  <a:pt x="266" y="103"/>
                  <a:pt x="253" y="107"/>
                  <a:pt x="245" y="90"/>
                </a:cubicBezTo>
                <a:cubicBezTo>
                  <a:pt x="237" y="73"/>
                  <a:pt x="245" y="43"/>
                  <a:pt x="204" y="28"/>
                </a:cubicBezTo>
                <a:cubicBezTo>
                  <a:pt x="163" y="13"/>
                  <a:pt x="42" y="6"/>
                  <a:pt x="0" y="0"/>
                </a:cubicBezTo>
              </a:path>
            </a:pathLst>
          </a:custGeom>
          <a:noFill/>
          <a:ln w="38160">
            <a:solidFill>
              <a:srgbClr val="cc6600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1120" y="2881440"/>
            <a:ext cx="687240" cy="547560"/>
          </a:xfrm>
          <a:custGeom>
            <a:avLst/>
            <a:gdLst/>
            <a:ahLst/>
            <a:rect l="l" t="t" r="r" b="b"/>
            <a:pathLst>
              <a:path w="276" h="297">
                <a:moveTo>
                  <a:pt x="132" y="57"/>
                </a:moveTo>
                <a:cubicBezTo>
                  <a:pt x="66" y="106"/>
                  <a:pt x="0" y="155"/>
                  <a:pt x="9" y="193"/>
                </a:cubicBezTo>
                <a:cubicBezTo>
                  <a:pt x="19" y="231"/>
                  <a:pt x="154" y="271"/>
                  <a:pt x="192" y="284"/>
                </a:cubicBezTo>
                <a:cubicBezTo>
                  <a:pt x="230" y="297"/>
                  <a:pt x="226" y="287"/>
                  <a:pt x="238" y="271"/>
                </a:cubicBezTo>
                <a:cubicBezTo>
                  <a:pt x="250" y="255"/>
                  <a:pt x="265" y="228"/>
                  <a:pt x="264" y="186"/>
                </a:cubicBezTo>
                <a:cubicBezTo>
                  <a:pt x="263" y="144"/>
                  <a:pt x="276" y="42"/>
                  <a:pt x="234" y="21"/>
                </a:cubicBezTo>
                <a:cubicBezTo>
                  <a:pt x="192" y="0"/>
                  <a:pt x="56" y="50"/>
                  <a:pt x="9" y="57"/>
                </a:cubicBezTo>
              </a:path>
            </a:pathLst>
          </a:custGeom>
          <a:noFill/>
          <a:ln w="38160">
            <a:solidFill>
              <a:srgbClr val="cc6600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77040" y="1508040"/>
            <a:ext cx="384012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2100" spc="-1" strike="noStrike">
                <a:solidFill>
                  <a:srgbClr val="6600cc"/>
                </a:solidFill>
                <a:latin typeface="Times New Roman"/>
              </a:rPr>
              <a:t>ростом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размера частиц энергия образования </a:t>
            </a:r>
            <a:r>
              <a:rPr b="0" lang="ru-RU" sz="2100" spc="-1" strike="noStrike">
                <a:solidFill>
                  <a:srgbClr val="6600cc"/>
                </a:solidFill>
                <a:latin typeface="Times New Roman"/>
              </a:rPr>
              <a:t>убывае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Энергия образования зависит от давления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так как дислокация имеет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бственный объё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54760" y="549360"/>
            <a:ext cx="43876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В пересчете на г-атом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кристалл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4840" y="4662360"/>
            <a:ext cx="974088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стандартный химический потенциал образования дефекта является функцией упругих и геометрических характеристик материала, давления, формы дефекта и стехиометрического числа дефект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8999-0D95-47E9-9C18-2F2AC276BE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спределение по размерам деф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240" y="685800"/>
            <a:ext cx="3220920" cy="3220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rcRect l="3373" t="0" r="2326" b="0"/>
          <a:stretch/>
        </p:blipFill>
        <p:spPr>
          <a:xfrm>
            <a:off x="3498840" y="685800"/>
            <a:ext cx="3219480" cy="3220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997680" y="685800"/>
            <a:ext cx="3219480" cy="322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01600" y="4292640"/>
            <a:ext cx="974088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ростом температуры плотность дислокационных петель растет, а их средний размер уменьш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ростом давления плотность дислокационных петель уменьшается, средний размер рас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252A-04F6-4AF7-A6CE-F3441DDD48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9053-6FE9-45B6-B9BE-F89D34AD00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619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Методы расчета химических и фазовых равновесий для многокомпонентных систем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100" spc="-1" strike="noStrike">
                <a:solidFill>
                  <a:srgbClr val="333399"/>
                </a:solidFill>
                <a:latin typeface="Times New Roman"/>
              </a:rPr>
              <a:t>повторение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1600" y="1042920"/>
            <a:ext cx="98838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мический потенци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омпонента – парциальное свойство 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парциальный термодинамический потенци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1600" y="3141720"/>
            <a:ext cx="955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00" y="2924280"/>
            <a:ext cx="10287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термодинамическом равновесии (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 отсутствие внешних полей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 химпотенциал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инвариантен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 меняется при переносе из одной области или фазы системы в любую иную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 переносу компонента внутри систем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98680" y="2060640"/>
          <a:ext cx="750420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8680" y="2060640"/>
                    <a:ext cx="75042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01600" y="4365720"/>
            <a:ext cx="987588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Химический потенциал –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интенсивный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параметр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ависит от массы системы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азность химических потенциалов определяет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ак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Т или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величину и направление движущих сил в термодинамических процессах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 отсутствие внешних полей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2D11-0107-46C7-A598-479BFCC281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облема: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Химические процессы в материалах при высоких нагрузк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322280"/>
            <a:ext cx="96390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.И.Капель, С.В.Разоренов, Л.В.Уткин, В.Е.Фортов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дарно-волновые явления в конденсированных сред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— М.: &lt;Янус-К», 1996. —408 с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 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иморфные превращения при ударном сжатии твердых те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 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равнения состояния и макрокинетика разложения твердых взрывчатых веществ в ударных и детонационных волн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6. Возникновение и развитие очагов реакции при ударно-волновом инициировании детон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7. Уравнения макрокинетики разложения твердых взрывчатых веществ в ударных волн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00" y="5022720"/>
            <a:ext cx="101268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Задача (проблем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Дефект как один из компонентов химической 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0C6C-AEA4-419B-973E-EF5DEB0F35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920" y="1440"/>
            <a:ext cx="51181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86320" y="0"/>
            <a:ext cx="490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НИКОЛОПОВ (Ениколопян) Николай Сергеевич (1924-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йский физикохимик, академик РАН (1991; академик АН СССР с 1976). Труды по кинетике и механизму окисления углеводородов и ионной полимеризации. Ленинская премия (198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738680" y="2406600"/>
            <a:ext cx="5548320" cy="1171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5143680" y="3789360"/>
            <a:ext cx="5143320" cy="8143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5143680" y="4641840"/>
            <a:ext cx="4941720" cy="1811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336680" y="2924280"/>
            <a:ext cx="2143080" cy="225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1866-FA7A-43CD-A12F-D057EC09F4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81240" cy="4184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038400" y="0"/>
            <a:ext cx="724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. 2. Медленное разложение кристалл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. 3. Теплово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. 4. Строение и устойчивость неорганическ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един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. 5. Инициирование взрыва удар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. 6. Инициирование взрыва све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. 7. Разложение и воспламенение при действ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дерных частиц и ионизующих излу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. 8. Спонтан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. 9. Быстрое развитие взры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ложения (свойства В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357720"/>
            <a:ext cx="1028700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вестны твердые ВВ, обладающие способность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рываться спонтанно, без видимой причин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 при кристаллизации азидов свинца и ртути (II) из 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лоразид CI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бромазид Вг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йодази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хлористый азот N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зид меди Cu(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и азид кремния Si(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очень чувствительные вещества, которые часто взрываются при комнатной температуре; РЬ(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лагается в растворе и не может быть выделен из него в кристаллическом состоян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им типом взрыва, который будет рассмотрен в этой главе, является взрыв при обнажении поверхности вещества …йодистый азот… может взрываться при комнатной температуре, если с его поверхности удалить аммиа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42EB-7595-4685-ACF8-9414697993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233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иск условного минимума функции Гиббса. Метод Лагранж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100" spc="-1" strike="noStrike">
                <a:solidFill>
                  <a:srgbClr val="333399"/>
                </a:solidFill>
                <a:latin typeface="Times New Roman"/>
              </a:rPr>
              <a:t>повторение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3280" y="1233360"/>
          <a:ext cx="4873680" cy="11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280" y="1233360"/>
                    <a:ext cx="487368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857920" y="1484280"/>
            <a:ext cx="413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Функция Лагранж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4840" y="2332080"/>
          <a:ext cx="74772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4840" y="2332080"/>
                    <a:ext cx="747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2332080"/>
            <a:ext cx="549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жители Лагранж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98440" y="3154320"/>
          <a:ext cx="4757760" cy="2563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440" y="3154320"/>
                    <a:ext cx="47577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7175520" y="3840120"/>
          <a:ext cx="2932200" cy="811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75520" y="3840120"/>
                    <a:ext cx="2932200" cy="81108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90360" y="5697360"/>
          <a:ext cx="1411560" cy="1160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360" y="5697360"/>
                    <a:ext cx="14115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961240" y="4662360"/>
          <a:ext cx="4071600" cy="1733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61240" y="4662360"/>
                    <a:ext cx="4071600" cy="173376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653160" y="2195640"/>
            <a:ext cx="274320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720" rIns="162720" tIns="81360" bIns="813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элемент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–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,H2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2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,H2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0240" y="3070080"/>
            <a:ext cx="5684760" cy="1487520"/>
          </a:xfrm>
          <a:custGeom>
            <a:avLst/>
            <a:gdLst/>
            <a:ahLst/>
            <a:rect l="l" t="t" r="r" b="b"/>
            <a:pathLst>
              <a:path w="3183" h="937">
                <a:moveTo>
                  <a:pt x="620" y="181"/>
                </a:moveTo>
                <a:cubicBezTo>
                  <a:pt x="646" y="438"/>
                  <a:pt x="673" y="695"/>
                  <a:pt x="666" y="816"/>
                </a:cubicBezTo>
                <a:cubicBezTo>
                  <a:pt x="659" y="937"/>
                  <a:pt x="673" y="906"/>
                  <a:pt x="575" y="906"/>
                </a:cubicBezTo>
                <a:cubicBezTo>
                  <a:pt x="477" y="906"/>
                  <a:pt x="152" y="899"/>
                  <a:pt x="76" y="816"/>
                </a:cubicBezTo>
                <a:cubicBezTo>
                  <a:pt x="0" y="733"/>
                  <a:pt x="98" y="528"/>
                  <a:pt x="121" y="407"/>
                </a:cubicBezTo>
                <a:cubicBezTo>
                  <a:pt x="144" y="286"/>
                  <a:pt x="136" y="150"/>
                  <a:pt x="212" y="90"/>
                </a:cubicBezTo>
                <a:cubicBezTo>
                  <a:pt x="288" y="30"/>
                  <a:pt x="492" y="30"/>
                  <a:pt x="575" y="45"/>
                </a:cubicBezTo>
                <a:cubicBezTo>
                  <a:pt x="658" y="60"/>
                  <a:pt x="628" y="174"/>
                  <a:pt x="711" y="181"/>
                </a:cubicBezTo>
                <a:cubicBezTo>
                  <a:pt x="794" y="188"/>
                  <a:pt x="870" y="113"/>
                  <a:pt x="1074" y="90"/>
                </a:cubicBezTo>
                <a:cubicBezTo>
                  <a:pt x="1278" y="67"/>
                  <a:pt x="1619" y="0"/>
                  <a:pt x="1936" y="45"/>
                </a:cubicBezTo>
                <a:cubicBezTo>
                  <a:pt x="2253" y="90"/>
                  <a:pt x="2775" y="294"/>
                  <a:pt x="2979" y="362"/>
                </a:cubicBezTo>
                <a:cubicBezTo>
                  <a:pt x="3183" y="430"/>
                  <a:pt x="3131" y="438"/>
                  <a:pt x="3161" y="453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324D-391D-4EF5-9F37-EA1082DAE6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220760"/>
            <a:ext cx="74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нергия дисперсной систем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приближении идеального раств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47760" y="1725480"/>
          <a:ext cx="4438440" cy="25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7760" y="1725480"/>
                    <a:ext cx="443844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43680" y="1149480"/>
            <a:ext cx="51433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химический потенциал частицы "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о частиц "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льная доля частиц "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– стехиометрическое число части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317840"/>
            <a:ext cx="10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решения необходимо найти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иметь зависимост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346880" y="4317840"/>
          <a:ext cx="1586160" cy="55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46880" y="4317840"/>
                    <a:ext cx="1586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4894200"/>
          <a:ext cx="4294080" cy="677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4894200"/>
                    <a:ext cx="4294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954760" y="2924280"/>
          <a:ext cx="4156200" cy="996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54760" y="2924280"/>
                    <a:ext cx="4156200" cy="996840"/>
                  </a:xfrm>
                  <a:prstGeom prst="rect">
                    <a:avLst/>
                  </a:prstGeom>
                  <a:ln w="381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86400" y="4894200"/>
            <a:ext cx="57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 ростом размера частиц энергия образования убыв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нергия образования зависит от д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исимость от давления появится, если плотность частиц явно зависит от размера и, если в объеме частицы учесть объем границ раздела частица-матр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1028700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рмодинамическое описание дисперсной систем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втор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34080"/>
            <a:ext cx="43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Всё ли так прост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C336-B0B6-4599-A31A-42E6F6F696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41400" y="0"/>
            <a:ext cx="10328400" cy="2852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Сколько силикатных (5 кг) и красных (3 кг) кирпичей находится в носилках со строительным мусором весом (</a:t>
            </a: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нетто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) 26.5 к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6A7E-F2E0-4684-98F5-880DD4049F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0825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рмодинамическое описание дефектной структуры кристалл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втор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10287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ндартный химический потенциал образования дефек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ункция упругих, кристаллографических характеристик материала, давления, температуры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рмы дефекта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исла элементарных частиц (атомов, вакансий), образующих дефект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61760" y="5084640"/>
            <a:ext cx="59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Размеров и формы 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2600" y="5805360"/>
            <a:ext cx="9721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екты в кристаллической системе образуют сложную динамическую дисперсную сист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1958-7FA5-4056-806A-2D33F03128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сновное различие в условиях сохранения вещества в системе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 мотивам носилок с мусором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360" y="89064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Канон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29360" y="890640"/>
            <a:ext cx="48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Дисперс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66720" y="1844640"/>
          <a:ext cx="358452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720" y="1844640"/>
                    <a:ext cx="35845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143680" y="1339920"/>
          <a:ext cx="4373280" cy="208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3680" y="1339920"/>
                    <a:ext cx="437328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28760" y="3429000"/>
            <a:ext cx="9494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хиометрическое число (размер) полиме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2 – димер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3 – тример, …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&gt;1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полимер).</a:t>
            </a: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исло частиц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имеров размера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2600" y="4869000"/>
            <a:ext cx="9721800" cy="1571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99"/>
                </a:solidFill>
                <a:latin typeface="Times New Roman"/>
              </a:rPr>
              <a:t>Разбиением натурального числа</a:t>
            </a:r>
            <a:r>
              <a:rPr b="0" i="1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9999"/>
                </a:solidFill>
                <a:latin typeface="Times New Roman"/>
              </a:rPr>
              <a:t>называется </a:t>
            </a:r>
            <a:br>
              <a:rPr sz="2800"/>
            </a:br>
            <a:r>
              <a:rPr b="0" i="1" lang="ru-RU" sz="2800" spc="-1" strike="noStrike">
                <a:solidFill>
                  <a:srgbClr val="009999"/>
                </a:solidFill>
                <a:latin typeface="Times New Roman"/>
              </a:rPr>
              <a:t>всякая не возрастающая последовательность </a:t>
            </a:r>
            <a:br>
              <a:rPr sz="2800"/>
            </a:br>
            <a:r>
              <a:rPr b="0" i="1" lang="ru-RU" sz="2800" spc="-1" strike="noStrike">
                <a:solidFill>
                  <a:srgbClr val="009999"/>
                </a:solidFill>
                <a:latin typeface="Times New Roman"/>
              </a:rPr>
              <a:t>натуральных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9999"/>
                </a:solidFill>
                <a:latin typeface="Times New Roman"/>
              </a:rPr>
              <a:t>чисел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9999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25000">
                <a:solidFill>
                  <a:srgbClr val="009999"/>
                </a:solidFill>
                <a:latin typeface="Times New Roman"/>
              </a:rPr>
              <a:t>i </a:t>
            </a:r>
            <a:r>
              <a:rPr b="0" i="1" lang="ru-RU" sz="2800" spc="-1" strike="noStrike">
                <a:solidFill>
                  <a:srgbClr val="009999"/>
                </a:solidFill>
                <a:latin typeface="Times New Roman"/>
              </a:rPr>
              <a:t>для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9999"/>
                </a:solidFill>
                <a:latin typeface="Times New Roman"/>
              </a:rPr>
              <a:t>которой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9999"/>
                </a:solidFill>
                <a:latin typeface="Times New Roman"/>
              </a:rPr>
              <a:t>N=</a:t>
            </a:r>
            <a:r>
              <a:rPr b="1" i="1" lang="en-US" sz="36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1" i="1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9999"/>
                </a:solidFill>
                <a:latin typeface="Symbol"/>
                <a:ea typeface="Symbol"/>
              </a:rPr>
              <a:t></a:t>
            </a:r>
            <a:r>
              <a:rPr b="1" i="1" lang="en-US" sz="3600" spc="-1" strike="noStrike" baseline="-25000">
                <a:solidFill>
                  <a:srgbClr val="009999"/>
                </a:solidFill>
                <a:latin typeface="Times New Roman"/>
              </a:rPr>
              <a:t>i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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AE9B-01CF-4CB5-9BD3-4E6439D0B9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6000" y="1415880"/>
            <a:ext cx="96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 разбиен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больши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очень высокой точностью описывается приближенным выражением, полученным из уравне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арди–Рамануджана–Радемах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3716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различных состояний, отличающихся по набору дисперсных частиц имеет дисперсная система, образованная и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мономеро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97160" y="2565360"/>
          <a:ext cx="42829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7160" y="2565360"/>
                    <a:ext cx="42829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3716280"/>
            <a:ext cx="1028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самбль состояний дисперсной системы является бесконечно малым подмножеством соответствующего канонического ансамбля, число состояний которого можно оценить как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исло размещени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одинаковых элемент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разным ящик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767040" y="5661000"/>
          <a:ext cx="1731960" cy="66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67040" y="5661000"/>
                    <a:ext cx="17319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1. Термодинамическое описание дисперсной систем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10C7-F06F-4A52-A1FB-62C2646BD4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9:03:29Z</dcterms:created>
  <dc:creator>Fedoseev</dc:creator>
  <dc:description/>
  <dc:language>en-US</dc:language>
  <cp:lastModifiedBy>Fedoseev</cp:lastModifiedBy>
  <dcterms:modified xsi:type="dcterms:W3CDTF">2010-12-11T09:36:43Z</dcterms:modified>
  <cp:revision>12</cp:revision>
  <dc:subject/>
  <dc:title>Слайд 1</dc:title>
</cp:coreProperties>
</file>