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5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6.wmf" ContentType="image/x-wmf"/>
  <Override PartName="/ppt/media/image55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1.jpeg" ContentType="image/jpeg"/>
  <Override PartName="/ppt/media/image1.png" ContentType="image/png"/>
  <Override PartName="/ppt/media/image29.wmf" ContentType="image/x-wmf"/>
  <Override PartName="/ppt/media/image31.png" ContentType="image/png"/>
  <Override PartName="/ppt/media/image2.png" ContentType="image/png"/>
  <Override PartName="/ppt/media/image32.png" ContentType="image/png"/>
  <Override PartName="/ppt/media/image26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39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6.png" ContentType="image/png"/>
  <Override PartName="/ppt/media/image47.png" ContentType="image/png"/>
  <Override PartName="/ppt/media/image50.wmf" ContentType="image/x-wmf"/>
  <Override PartName="/ppt/media/image48.wmf" ContentType="image/x-wmf"/>
  <Override PartName="/ppt/media/image28.png" ContentType="image/png"/>
  <Override PartName="/ppt/media/image23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38.png" ContentType="image/png"/>
  <Override PartName="/ppt/media/image41.wmf" ContentType="image/x-wmf"/>
  <Override PartName="/ppt/media/image42.png" ContentType="image/png"/>
  <Override PartName="/ppt/media/image53.wmf" ContentType="image/x-wmf"/>
  <Override PartName="/ppt/media/image33.png" ContentType="image/png"/>
  <Override PartName="/ppt/media/image37.png" ContentType="image/png"/>
  <Override PartName="/ppt/media/image36.png" ContentType="image/png"/>
  <Override PartName="/ppt/media/image34.png" ContentType="image/png"/>
  <Override PartName="/ppt/media/image10.jpeg" ContentType="image/jpeg"/>
  <Override PartName="/ppt/media/image54.wmf" ContentType="image/x-wmf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BA35-6F92-4DE4-B39F-403112FEC0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chemanalytica.com/book/novyy_spravochnik_khimika_i_tekhnologa/08_elektrodnye_protsessy_khimicheskaya_kinetika_i_diffuziya_kolloidnaya_khimiya/5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2D3A-232A-4CB1-981A-D038A208A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006A-BE64-4822-9D39-045816CBE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7205-FD82-4894-9143-719B339C1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CF24-EEA2-4965-8491-0BA69E6DCE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3E33-152D-4E11-A589-994678F34E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0F7E-6920-4E95-97AF-92739945A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4A55-73ED-4E2E-99FE-9BF3984C8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105D-025A-49F7-B724-6727FB3D2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0287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561D-7E5C-475A-9D06-4E00E2797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BE70-64E2-49E0-A3C0-3DDAF5C22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B08F-C883-4946-AE25-8B0BFA77B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C8EE-30EA-4269-A701-06EE3F6FF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45160"/>
            <a:ext cx="91137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113400" y="6381360"/>
            <a:ext cx="11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A480-0F2E-4937-8FB4-2EBD036C7616}" type="slidenum"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edoseev@phys.unn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9680" y="189000"/>
            <a:ext cx="8745480" cy="29527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инетика твердофазных реакций</a:t>
            </a:r>
            <a:br>
              <a:rPr sz="4400"/>
            </a:br>
            <a:br>
              <a:rPr sz="44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де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360" y="3501720"/>
            <a:ext cx="10287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кция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имический факультет НН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 курс, 9 семес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осеев Виктор Борисови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фессор кафедры физического материаловедения физического факультета ННГ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fedoseev@phys.unn.r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зародышеобразовани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51040" y="1341360"/>
          <a:ext cx="7854840" cy="130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341360"/>
                    <a:ext cx="785484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01600" y="765000"/>
            <a:ext cx="10085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орость зародыше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0320" y="2637000"/>
          <a:ext cx="9163080" cy="12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0320" y="2637000"/>
                    <a:ext cx="91630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3860640"/>
            <a:ext cx="639936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Где в этих уравнениях спрятано уравн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660680" y="5157720"/>
            <a:ext cx="38145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1579680" y="3141720"/>
            <a:ext cx="8019720" cy="1838520"/>
            <a:chOff x="1579680" y="3141720"/>
            <a:chExt cx="8019720" cy="1838520"/>
          </a:xfrm>
        </p:grpSpPr>
        <p:sp>
          <p:nvSpPr>
            <p:cNvPr id="163" name=""/>
            <p:cNvSpPr/>
            <p:nvPr/>
          </p:nvSpPr>
          <p:spPr>
            <a:xfrm>
              <a:off x="1579680" y="3141720"/>
              <a:ext cx="6343200" cy="1511280"/>
            </a:xfrm>
            <a:custGeom>
              <a:avLst/>
              <a:gdLst/>
              <a:ahLst/>
              <a:rect l="l" t="t" r="r" b="b"/>
              <a:pathLst>
                <a:path w="3552" h="952">
                  <a:moveTo>
                    <a:pt x="3552" y="952"/>
                  </a:moveTo>
                  <a:cubicBezTo>
                    <a:pt x="3325" y="785"/>
                    <a:pt x="3098" y="619"/>
                    <a:pt x="2645" y="544"/>
                  </a:cubicBezTo>
                  <a:cubicBezTo>
                    <a:pt x="2192" y="469"/>
                    <a:pt x="1262" y="514"/>
                    <a:pt x="831" y="499"/>
                  </a:cubicBezTo>
                  <a:cubicBezTo>
                    <a:pt x="400" y="484"/>
                    <a:pt x="120" y="536"/>
                    <a:pt x="60" y="453"/>
                  </a:cubicBezTo>
                  <a:cubicBezTo>
                    <a:pt x="0" y="370"/>
                    <a:pt x="234" y="185"/>
                    <a:pt x="468" y="0"/>
                  </a:cubicBezTo>
                </a:path>
              </a:pathLst>
            </a:custGeom>
            <a:noFill/>
            <a:ln w="28440">
              <a:solidFill>
                <a:srgbClr val="66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6400" y="4581360"/>
              <a:ext cx="26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Где-то здесь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9EAC-6656-4414-A835-0D3DDEF433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41760" y="-2736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пример как у Лифшица-Слезов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07920"/>
            <a:ext cx="9274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ростом числа зародышей пересыщение уменьшается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корость зарождения пада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ах выпадения растворенного вещества из пересыщенного раство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ью метастабильност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является величи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ого пересыщения раств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1320" y="2349360"/>
            <a:ext cx="2674800" cy="1079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82600" y="3933720"/>
            <a:ext cx="44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ь зарождения зависит от пересы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143680" y="3860640"/>
            <a:ext cx="3644640" cy="1036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508464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ьшение пересыщения сопровождается ростом размера критического зароды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491240" y="5157720"/>
            <a:ext cx="1463760" cy="89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C4D7-810C-4C85-9E0D-F9DD232623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одели механизмов топохимических реакци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00" y="765000"/>
            <a:ext cx="1028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тобы получить уравнения кинетики топохимической реакции, нужно зна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предположить) следующие парамет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ономерности диффузии компонентов систем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ономерности образования новых фаз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ономерности роста фаз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еометрические характеристики и дисперсность исходных и конечных фа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00" y="4292640"/>
            <a:ext cx="10287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в большинстве случаев практически невозможно подобрать такую физико-математическую модель, которая соответствует характеру топохимического процесса на всем протяжении  реакции или температурного интервал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8179-E6AC-43E3-A7D2-861600BD18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079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Эмпирический подход в кинетических исследованиях преоблад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052640"/>
            <a:ext cx="10287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 протекании параллельных процессов в полидисперсных системах предпочтительнее использовать физико-математическое описание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суммарног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роцесса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хнолога детальное исследование механизма реакции менее актуально, чем определение влияния различных факторов на его скорость и оптимизация процесс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эмпирических зависимостей позволяет достаточно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егко и</a:t>
            </a:r>
            <a:r>
              <a:rPr b="0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быстр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ать количественные характерис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ст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риближенные модели дают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удовлетворительн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результаты кинетика топохимических реакци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част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ражается в виде формального соотнош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41400" y="5013360"/>
          <a:ext cx="10355400" cy="14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1400" y="5013360"/>
                    <a:ext cx="10355400" cy="145080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6D59-002E-41DE-8A5A-B268EE7E7D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696960"/>
          <a:ext cx="10225080" cy="4417920"/>
        </p:xfrm>
        <a:graphic>
          <a:graphicData uri="http://schemas.openxmlformats.org/drawingml/2006/table">
            <a:tbl>
              <a:tblPr/>
              <a:tblGrid>
                <a:gridCol w="2146320"/>
                <a:gridCol w="2106720"/>
                <a:gridCol w="2187360"/>
                <a:gridCol w="2540160"/>
                <a:gridCol w="576360"/>
                <a:gridCol w="66816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образования и роста зароды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и симметрия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и, определяющие скорость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диффузии реагента через слой продукта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ая скорость зародыш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ый рост зароды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[–ln(1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ый рост зароды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5[–ln(1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левая скорость зародышеобразования при постоянном числе зароды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ый рост зароды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–ln(1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ый рост зароды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[–ln(1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78240" y="5322960"/>
          <a:ext cx="5330520" cy="113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8240" y="5322960"/>
                    <a:ext cx="533052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A2F7-A482-49EA-BBEF-50488F00DE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Зачем были нужны предыдущие лекци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5040" y="1484280"/>
            <a:ext cx="9477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Чтобы сделать выбор при огромном разнообразии эмпирических моделей необходимо чувствовать (понимать, представлять), что и как происходит с веществом в рассматриваемом технологическом процесс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124B-D4BA-468B-9C40-157C37CDBB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0" descr=""/>
          <p:cNvPicPr/>
          <p:nvPr/>
        </p:nvPicPr>
        <p:blipFill>
          <a:blip r:embed="rId2"/>
          <a:stretch/>
        </p:blipFill>
        <p:spPr>
          <a:xfrm>
            <a:off x="0" y="476280"/>
            <a:ext cx="3884760" cy="1846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66240"/>
            <a:ext cx="10287000" cy="3380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олее общее формальное урав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30240" y="3429000"/>
          <a:ext cx="8507520" cy="26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0240" y="3429000"/>
                    <a:ext cx="8507520" cy="260208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Text Box 42"/>
          <p:cNvSpPr/>
          <p:nvPr/>
        </p:nvSpPr>
        <p:spPr>
          <a:xfrm>
            <a:off x="851040" y="4395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равнения Аврами—Ерофеева и Праута-Томпкннса (пунктир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7"/>
          <p:cNvSpPr/>
          <p:nvPr/>
        </p:nvSpPr>
        <p:spPr>
          <a:xfrm>
            <a:off x="0" y="2205000"/>
            <a:ext cx="10287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438200"/>
                <a:tab algn="l" pos="502128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епень превращения 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438200"/>
                <a:tab algn="l" pos="502128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начальное и текущее  количество (или объем) исходного компонен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38200"/>
                <a:tab algn="l" pos="502128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0, α = 0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τ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∞, α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038400" y="981000"/>
          <a:ext cx="359568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38400" y="981000"/>
                    <a:ext cx="3595680" cy="93672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Text Box 49"/>
          <p:cNvSpPr/>
          <p:nvPr/>
        </p:nvSpPr>
        <p:spPr>
          <a:xfrm>
            <a:off x="0" y="6165720"/>
            <a:ext cx="96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бзор уравнений  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. Браун, Д. Доллимор, А. Галвей Реакции твердых тел. М.: Мир. 198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51" descr=""/>
          <p:cNvPicPr/>
          <p:nvPr/>
        </p:nvPicPr>
        <p:blipFill>
          <a:blip r:embed="rId7"/>
          <a:stretch/>
        </p:blipFill>
        <p:spPr>
          <a:xfrm>
            <a:off x="6715080" y="476280"/>
            <a:ext cx="3571920" cy="184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7956-DC6F-4FA6-8469-F98D7DB13B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0240" y="620640"/>
          <a:ext cx="10225080" cy="6054840"/>
        </p:xfrm>
        <a:graphic>
          <a:graphicData uri="http://schemas.openxmlformats.org/drawingml/2006/table">
            <a:tbl>
              <a:tblPr/>
              <a:tblGrid>
                <a:gridCol w="2557440"/>
                <a:gridCol w="2403360"/>
                <a:gridCol w="1895400"/>
                <a:gridCol w="2124360"/>
                <a:gridCol w="576000"/>
                <a:gridCol w="668520"/>
              </a:tblGrid>
              <a:tr h="106920">
                <a:tc rowSpan="8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одышеобразование по степенному закону; скорость зародышеобразования определяет скорость процесса в це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ич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но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ненциаль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каталитический (уравнение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ута — Томпкинса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каталитический обобщен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каталитический (уравнение 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гинского — Шульца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ая скорость зародыше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ый рост зародыш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ый рост зародыш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5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левая скорость зародышеобразования при постоянном числе зародыш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ый рост зародыш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ый рост зародыш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rowSpan="8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одышеобразование по степенному закону; скорость зародышеобразования определяет скорость процесса в це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ич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но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–1/</a:t>
                      </a:r>
                      <a:r>
                        <a:rPr b="0" i="1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1/</a:t>
                      </a: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ненциаль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каталитический (уравнение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ута — Томпкинса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[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/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 +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каталитический обобщенны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каталитический (уравнение 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гинского — Шульца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ая скорость зародыше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ый рост зародыш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ый рост зародыш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4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левая скорость зародышеобразования при постоянном числе зародыш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ый рост зародыш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ый рост зародыш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уравнения Иохансона — Меля — Аврами — Ерофеева — Колмогорова без выделения возможных стад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t 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5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t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≈ 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rowSpan="6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гновенное зародышеобразование. Реагирующая частица изменяется гомотетичн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ая симмет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 +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–ln(1 –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ая трехмерная симмет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2[1 – 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 – 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ая симметрия (уравнение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линга — Браунштейна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[1 –2/3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(1–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/3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1]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ая симмет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</a:t>
                      </a: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диффузия (уравнение анти-Яндера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[(1 +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1]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(1 +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(1 +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1]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узия с уменьшением активности реаген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[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/3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1]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3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/3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уравнения Иохансона —Меля — Аврами — Ерофеева — Колмогорова без выделения возможных стад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rowSpan="6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гновенное зародышеобразование. Реагирующая частица изменяется гомотетичн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ая симмет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[1 – 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ая трехмерная симмет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[1 – 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ая симметрия (уравнение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линга — Браунштейна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ая симмет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диффузия (уравнение анти-Яндера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узия с уменьшением активности реаген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9600" y="1440"/>
          <a:ext cx="10223640" cy="547920"/>
        </p:xfrm>
        <a:graphic>
          <a:graphicData uri="http://schemas.openxmlformats.org/drawingml/2006/table">
            <a:tbl>
              <a:tblPr/>
              <a:tblGrid>
                <a:gridCol w="2557440"/>
                <a:gridCol w="2403720"/>
                <a:gridCol w="1895400"/>
                <a:gridCol w="2122560"/>
                <a:gridCol w="577800"/>
                <a:gridCol w="666720"/>
              </a:tblGrid>
              <a:tr h="182880"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образования и роста зародыш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и симметрия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и, определяющие скорость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диффузии реагента через слой продукта ре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122400" y="2421000"/>
            <a:ext cx="9963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екомендую воспользоваться материалами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http://chemanalytica.com/book/novyy_spravochnik_khimika_i_tekhnologa/08_elektrodnye_protsessy_khimicheskaya_kinetika_i_diffuziya_kolloidnaya_khimiya/5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37EBB-DB7F-4EEF-9617-574C51258D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125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лияние температуры на скорость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48428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ие законы + эффекты, которых нет в гомогенной кинетик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рода до конца не раскры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1600" y="4365720"/>
            <a:ext cx="980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ратимых реак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ффект Смита — Топл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ффект Завадского — Бретшнайде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2600" y="2852640"/>
            <a:ext cx="988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На скорость каких стадий топохимической реакции влияет температур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3E92-1F63-45B7-808A-CAF2B6C560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ффект Завадского — Бретшнайд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49360"/>
            <a:ext cx="10287000" cy="46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тим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рмическое разложение твердого вещества происходит 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акуу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области ∆Т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т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атмосфере газообразного продукта реакции в соответствующей области ∆T при одном давлении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const)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т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более высоком давлении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const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т. д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ффективная энергия активации 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акономерн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зраста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условии, что реакция протекает в кинетическом режиме и нет побочных процес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энергии активации 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ак правило, компенсируется изменением А и сравнительно слабо зависит от изменения Т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с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41400" y="5130000"/>
            <a:ext cx="10287000" cy="12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мическое разложение CaC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 атмосфере углекислого газ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алогично для многих неорганических веществ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рбонатов серебра и кадмия; гидроксидов магния и кадмия; пероксида лития; гидроксосульфатов алюминия и аммония; кристаллогидратов хлорида лития; сульфатов меди, кальция и бериллия; гидрофосфата кальция; карбоната натрия; оксалата цин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491240" y="2046240"/>
            <a:ext cx="2675160" cy="9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EA9C-226A-4E8A-B79D-BFC6E759B4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тадии топохимических реак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07920"/>
            <a:ext cx="1028700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В предыдущих лекциях рассматривал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рхностная и объемная диффузия реагентов, продуктов, дефе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е поверхностных молекулярных пленок промежуточного или конечного продукта в местах контак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образование дефектной структуры кристаллических реше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е и распад твердых раств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никновение и рост зародышей фазы продук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кание и рекристаллизация (коалесценция, переконденсация) исходных веществ и продук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В предыдущих лекциях не рассматривал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ственно химическое взаимодействие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ение, обмен, окисление, восстановление, диссоциация и п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згон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0F4EC-3ED1-4C2A-A540-EDD2AD7477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ффект Смита — Топ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41400" y="620640"/>
            <a:ext cx="10288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и удалении воды из кристаллогидратов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(T=const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с ростом давления водяного пара скорость реакции проходит последовательно через минимум и максимум вместо того, чтобы монотонно уменьшаться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22400" y="1844640"/>
            <a:ext cx="2957400" cy="1828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441600" y="1989000"/>
            <a:ext cx="684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зможная причина = образование плотного слоя твердого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дукта реак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сохраняющего структуру кристаллической решетки исходной фазы, который сопротивляется удалению газа из зоны реа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41400" y="3716280"/>
            <a:ext cx="1028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А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рост тормозящего слоя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Б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разрыхление слоя + уменьшение его толщины (кристаллизация твердого продукта реакции).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- толщина тормозящего слоя стабилизируется, и дальнейшее изменение скорости реакции от давления приходит в соответствие с общими правилам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600" y="5446800"/>
            <a:ext cx="915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дегидратация кристаллогидра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термическое разложение карбонатов и гидрокарбонатов в атмосфере диоксида углерода и паров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536A-DA95-4F60-B893-2CF2B43268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21337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омпенсационный эффек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изокинетическая зависимость =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изопараметрическое соотношение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θ-прави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2600" y="2349360"/>
            <a:ext cx="97218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менение энергии актив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ызванное воздействием различных факторов на реакционную способность веществ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енсируется изменением предэкспоненциального множ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4040" y="4076640"/>
            <a:ext cx="955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связь выражается эмпирическим уравнени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g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мпирические конста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16640"/>
            <a:ext cx="10287000" cy="1323000"/>
          </a:xfrm>
          <a:prstGeom prst="rect">
            <a:avLst/>
          </a:prstGeom>
          <a:solidFill>
            <a:srgbClr val="ffff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Аналоги в формальной кинет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Автокатализ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&amp;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автоингибирова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CF9F-F850-4223-AE13-FE88AD142E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7"/>
          <p:cNvSpPr/>
          <p:nvPr/>
        </p:nvSpPr>
        <p:spPr>
          <a:xfrm>
            <a:off x="52560" y="1844640"/>
            <a:ext cx="10113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литемпературная кине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неизотермических условий или с изменением температуры во времен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висимости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лучают интегрированием п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01600" y="2997360"/>
            <a:ext cx="8507520" cy="23986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-41400" y="5680080"/>
            <a:ext cx="1028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жен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разных моделей реакций приведены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раун М., Доллимор Д., Галвей А. Реакции твердых тел. М.: МИР. 198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49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лияние температуры на скорость реа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200" y="692280"/>
            <a:ext cx="1020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Реакции, протекающие в области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низких температур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и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структурных переходов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не описываются уравнением Аррени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23120" y="3213000"/>
            <a:ext cx="17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мпература меняется (линейн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0D2BE-242B-49E7-BAFB-857B0215F8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1920" y="0"/>
          <a:ext cx="10225080" cy="6451560"/>
        </p:xfrm>
        <a:graphic>
          <a:graphicData uri="http://schemas.openxmlformats.org/drawingml/2006/table">
            <a:tbl>
              <a:tblPr/>
              <a:tblGrid>
                <a:gridCol w="2557440"/>
                <a:gridCol w="2405160"/>
                <a:gridCol w="1893960"/>
                <a:gridCol w="2124000"/>
                <a:gridCol w="576360"/>
                <a:gridCol w="668160"/>
              </a:tblGrid>
              <a:tr h="549000"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образования и роста зароды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и симметрия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и, определяющие скорость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диффузии реагента через слой продукта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8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одышеобразование по степенному закону; скорость зародышеобразования определяет скорость процесса в це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и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–1/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1/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ненци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каталитический (уравнение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ута — Томпкинс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[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/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 +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каталитический обобщ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каталитический (уравнение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гинского — Шуль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ая скорость зародыше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ый рост зародыш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[–ln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ый рост зародыш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4[–ln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левая скорость зародышеобразования при постоянном числе зародыш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ый рост зародыш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[–ln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ый рост зародыш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[–ln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065C-2CA6-45E5-9A1B-BBB8B0FFE6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3760" y="0"/>
          <a:ext cx="10223640" cy="6888240"/>
        </p:xfrm>
        <a:graphic>
          <a:graphicData uri="http://schemas.openxmlformats.org/drawingml/2006/table">
            <a:tbl>
              <a:tblPr/>
              <a:tblGrid>
                <a:gridCol w="1920960"/>
                <a:gridCol w="636480"/>
                <a:gridCol w="2200320"/>
                <a:gridCol w="204840"/>
                <a:gridCol w="846000"/>
                <a:gridCol w="973080"/>
                <a:gridCol w="206640"/>
                <a:gridCol w="441360"/>
                <a:gridCol w="1549440"/>
                <a:gridCol w="577800"/>
                <a:gridCol w="666720"/>
              </a:tblGrid>
              <a:tr h="30708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образования и роста зародыш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и симметрия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и, определяющие скорость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диффузии реагента через слой продукта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уравнения Иохансона — Меля — Аврами — Ерофеева — Колмогорова без выделения возможных ста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&gt;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t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5[–ln(1 –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[–ln(1 –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≈ 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гновенное зародышеобразование. Реагирующая частица изменяется гомотетич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ая симмет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ln(1 –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 +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–ln(1 –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]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ая трехмерная симмет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2[1 – (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 – (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ая симметрия (уравнени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линга — Браунштей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[1 –2/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(1–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(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/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1]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ая симмет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диффузия (уравнение анти-Янде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[(1 +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1]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(1 +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(1 +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1]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узия с уменьшением активности реаг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[(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/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1]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(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(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/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уравнения Иохансона —Меля — Аврами — Ерофеева — Колмогорова без выделения возможных ста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64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гновенное зародышеобразование. Реагирующая частица изменяется гомотетич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мерная симмет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[1 – (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ая трехмерная симмет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[1 – (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ая симметрия (уравнени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линга — Браунштей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мерная симмет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диффузия (уравнение анти-Янде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узия с уменьшением активности реаг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CC405-FD0B-48A2-A378-D0F9087E3E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авнения кинетики топохимических реакций и области их примен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840" y="28440"/>
          <a:ext cx="10256760" cy="6697800"/>
        </p:xfrm>
        <a:graphic>
          <a:graphicData uri="http://schemas.openxmlformats.org/drawingml/2006/table">
            <a:tbl>
              <a:tblPr/>
              <a:tblGrid>
                <a:gridCol w="3803760"/>
                <a:gridCol w="6453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Области применения урав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Описание кинетики реакций разложения перманганатов, карбонатов, оксалатов, гидрокси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Описание кинетики реакций термического разложения</a:t>
                      </a:r>
                      <a:r>
                        <a:rPr b="1" i="1" lang="en-US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и взаимодействия твердого тела с газом.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Описание кинетики процессов кристал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Яндера</a:t>
                      </a:r>
                      <a:r>
                        <a:rPr b="1" i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. Описание кинетики реакции твердофазного синтеза равновеликих сферических зерен при параболическом законе роста слоя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Гистлинга — Браунштейна</a:t>
                      </a:r>
                      <a:r>
                        <a:rPr b="1" i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 фронт реакционной диффузии не плоский, а сфериче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Картера — Валенси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i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Описание кинетики реакций взаимодействия в порошках между твердыми и между твердыми и жидкими веще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Журавл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Кригера — Цигл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анти-Валенси — Картера </a:t>
                      </a:r>
                      <a:r>
                        <a:rPr b="1" i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диффузия из объема зерна к поверх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е анти-Гистлинга — Браунште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сальное уравнение Аку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отношение объемов продукта реакции и реагента;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фактор гетерогенности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 для гомогенной реакции и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lt; 1 для гетероген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012680" y="404640"/>
            <a:ext cx="1943280" cy="474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07920" y="1092240"/>
            <a:ext cx="2124360" cy="468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774720" y="1695600"/>
            <a:ext cx="2390760" cy="639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44600" y="2349360"/>
            <a:ext cx="2481120" cy="663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201600" y="2997360"/>
            <a:ext cx="3571920" cy="649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1012680" y="3645000"/>
            <a:ext cx="2152800" cy="555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1093680" y="4076640"/>
            <a:ext cx="203220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687240" y="4581360"/>
            <a:ext cx="2351160" cy="630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1012680" y="5229360"/>
            <a:ext cx="1778040" cy="438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1"/>
          <a:stretch/>
        </p:blipFill>
        <p:spPr>
          <a:xfrm>
            <a:off x="1173240" y="5734080"/>
            <a:ext cx="1639800" cy="485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767040" y="1413000"/>
            <a:ext cx="63579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ем уравнение Журавлёва отличается от уравнения Кригера-Циглера и Яндер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613B-FDCC-47DA-935D-8D7A1DD8AE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108000" y="620640"/>
            <a:ext cx="1007280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акционные центры энергетически неэквивалент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локализация вблизи точечных дефектов, дислокаций - упругие напряжения; вблизи заряженных дефектов - электрическое поле и т.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ая энергия активации реак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исит от окружения (структур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мм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у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э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+...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мат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обственно свободная энергия активации химического превращения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уп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э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кальные  значения упругого и электрического потенциалов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мат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рный потенциал, определяемый окруже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984320" y="5445000"/>
          <a:ext cx="5832360" cy="93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5445000"/>
                    <a:ext cx="5832360" cy="932040"/>
                  </a:xfrm>
                  <a:prstGeom prst="rect">
                    <a:avLst/>
                  </a:prstGeom>
                  <a:ln w="93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49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иближение Рогинского - Алфре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41400" y="4365720"/>
            <a:ext cx="1028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д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функцию распредел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мин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м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аю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исимость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уммированием (или интегрирование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EA37-D5A1-4E63-80F7-DAD8F228C7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3019320"/>
            <a:ext cx="10287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35948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тражает условия образования и роста зародышей и механизм реак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079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иболее часто для анализа процессов разложения используется уравнение Ерофе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5240" y="836640"/>
            <a:ext cx="567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 — доля прореагировавшего вещества;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константа скорости;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время разложения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кинетический парамет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9160" y="2297160"/>
            <a:ext cx="7778520" cy="764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анта скорости 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азмерность [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]) может быть вычислена п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ормуле Сакови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9600" y="907920"/>
            <a:ext cx="4535640" cy="13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39600" y="4005360"/>
          <a:ext cx="10126800" cy="2495520"/>
        </p:xfrm>
        <a:graphic>
          <a:graphicData uri="http://schemas.openxmlformats.org/drawingml/2006/table">
            <a:tbl>
              <a:tblPr/>
              <a:tblGrid>
                <a:gridCol w="8191440"/>
                <a:gridCol w="193536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пропорциональна массе непрореагировавшего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находится в кинетической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реакции мало зависит от скорости зародышеобра-зования, определяется ростом существующих я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&gt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лимитируется диффузией.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 меньше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ем больше влияние диффузионных процес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8158320" y="2322360"/>
          <a:ext cx="1585800" cy="6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8320" y="2322360"/>
                    <a:ext cx="1585800" cy="675000"/>
                  </a:xfrm>
                  <a:prstGeom prst="rect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1EAC-6B80-4D32-AAA9-FEEAE2B747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орис Васильевич Ерофее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9600" y="836640"/>
            <a:ext cx="2568600" cy="3097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74960" y="692280"/>
            <a:ext cx="7412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0.V.1909 – 10.XII.19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адемик АН БССР, Гос.премия СССР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создание нового авиационного материала -- прозрачной пуленепробиваемой брони для самолет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4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896080"/>
            <a:ext cx="10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ботал с Н. И. Кобозевым (МГУ, каф. катализа) развитие теории активных ансам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1957320"/>
            <a:ext cx="74912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Уравн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рофее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рофее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рам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рофее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лмогоро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рофее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лмогоро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раам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лмогорова—Ерофее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охансона —Меля — Аврами — Ерофеева —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Колмогоро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рами — Колмогорова—Ерофее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ра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мпел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рофее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лмогоро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зее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рофеев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23EF-CE37-413C-8717-7715F3C113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549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Кобозев Николай Иван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49360"/>
            <a:ext cx="10287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903—1974), д. х. н., профессор МГ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ализ + электрохимия + термодинам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"катализ в мертвой и живой природе составляет единую проблему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ория активных ансамблей (1939)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обнаружил катализ на высокодисперсных коллоидных металлах и моноатомных слоях металл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электротермическая конверсия метана в присутствии в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учение азотной к-ты при очистке пром. газов от оксидов азо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Днепропетровск (1929) доклад В.К. Семенченк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429000"/>
            <a:ext cx="1028700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ЖФХ" № 2 и 4 статья Н. И. Кобозев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"О физико-химическом моделиро-вании процессов информации и мышления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Вводит аналогию "информация - энтропия"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97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. И. Кобозе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сследование в области термодинамики процессов информации и мышле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Г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Идея — модель информации = модель идеального га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Получение информации (сигнал внешней среды) </a:t>
            </a:r>
            <a:r>
              <a:rPr b="1" i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 изменение термодинамической энтропии </a:t>
            </a:r>
            <a:r>
              <a:rPr b="1" i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 необходимо совершить рабо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"логические суждения безэнтропий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B852-74DC-4E1E-8358-E732AF88C2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бязательные стадии химического твердофазного проце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84280"/>
            <a:ext cx="1028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иффуз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- зародышеобразов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обственно химическое взаимодейств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еобразование дефектной структуры кристаллических реш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81360"/>
            <a:ext cx="10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стальные стадии могут отсутствовать, либо протекать паралле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657D-DC2D-43F4-B954-F4DE33E01B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кторное и броуновское — энтропия системы (в фазовом пространстве) уменьшается при наличии внешнего потенци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5143680" cy="2881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rcRect l="13016" t="14787" r="16735" b="30412"/>
          <a:stretch/>
        </p:blipFill>
        <p:spPr>
          <a:xfrm>
            <a:off x="7342200" y="836640"/>
            <a:ext cx="2944800" cy="2340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467320" y="3067560"/>
            <a:ext cx="47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ой планар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переходе из света (броуновское) в темноту (векторизованно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202280"/>
            <a:ext cx="10287000" cy="237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ЧИСЛЕНИЕ= физический процес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ависимо от устройства (счеты, "в уме", …). 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сс = переход из состояния в состояние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писание процесс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= изменение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, S, G, H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размеров, площади) во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кие физические ограничения, налложены на процесс вычисления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дея квантовых вычисл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[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нин Ю.И. Вычислимое и невычислимое. М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ов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дио 198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,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ичар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ейнма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2 Feynman R. Simulating Physics with Computers. // Inter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Jour. Theor. Phys. 1982, v.21, N.6/7, pp.467-488. / Фейнман Р. Моделиро-вание физики на компьютерах. Сб. “Квантовый компьютер &amp; квантовые вычисления” т. 1, №2. 199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197000"/>
            <a:ext cx="4172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Энтропия распределения частицы в пространстве с увеличением векторной составляющ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26400" y="148428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мн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26400" y="231156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518F-D189-4457-BDE9-8AD1F3438F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476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"единое уравнение" изотермической кине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6360" y="2646360"/>
          <a:ext cx="10215720" cy="4167360"/>
        </p:xfrm>
        <a:graphic>
          <a:graphicData uri="http://schemas.openxmlformats.org/drawingml/2006/table">
            <a:tbl>
              <a:tblPr/>
              <a:tblGrid>
                <a:gridCol w="1368720"/>
                <a:gridCol w="1369800"/>
                <a:gridCol w="1371600"/>
                <a:gridCol w="6105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мод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лимитируется процессами на границе раздела фаз, реагенты состоят из сферических част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, но реагенты состоят из иг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, но реагенты — очень тонкие д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узионные мо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зм зародышео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3360600" y="549360"/>
            <a:ext cx="6926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зразмерный фактор, обычно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;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величина, определяемая механизмом взаимодействия;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ндексом реак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величина, зависящая от механизма и от формы реагирующих част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548320" y="476280"/>
          <a:ext cx="4656240" cy="22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8320" y="476280"/>
                    <a:ext cx="4656240" cy="2243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0" y="620640"/>
            <a:ext cx="3193920" cy="10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3B61-599C-4B3A-B57A-D215D27F7F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079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ипичные кривые a(t), для реакций термического разложения твердых веще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4172040" cy="35528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172040" y="1052640"/>
            <a:ext cx="611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сигмоидная кривая с периодом индукции;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сигмоидная кривая без периода индукции;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период ускорения значительно короче периода замедления;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торая часть кривой имеет сигмоидную фор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447A2-BCC0-4563-94E7-1B9CDE9887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бобщенная кривая термического раз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36640"/>
            <a:ext cx="10287000" cy="505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чальный период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 — 0,01 &lt; a &lt; 0,0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я могут быть обусловл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бо десорбцией газ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бо термическим разложение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кольких атомных слоев, прилегающи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поверхности твердого реаге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I —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инду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екание реакции весьма ограничен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II —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ускор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критического времен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корость реакции быстро возрастает, достигая максимального значения в точке перегиба (a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V —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спа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строе снижение скорости реакц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этой стадии прореагировавшая часть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жет достигать (или нет) 100% превращения исходного твердого реаге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791320" y="692280"/>
            <a:ext cx="4495680" cy="3033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9E50-A2BB-4402-BE1C-E99708202D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кинетика разложения перхлората аммони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0" y="779400"/>
          <a:ext cx="10287000" cy="5494320"/>
        </p:xfrm>
        <a:graphic>
          <a:graphicData uri="http://schemas.openxmlformats.org/drawingml/2006/table">
            <a:tbl>
              <a:tblPr/>
              <a:tblGrid>
                <a:gridCol w="2674800"/>
                <a:gridCol w="4526280"/>
                <a:gridCol w="3085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температурное разложение (200–300 є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1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ута — Томпкин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 ускорения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 замедления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омолекулярного раз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 замед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ного в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 уско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рами — Ерофее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температурное разложение (350–400 є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1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3 при описании кинетики разложения кристаллов и таблето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3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,1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712960" y="1571760"/>
            <a:ext cx="3987720" cy="468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659C-8E08-41E5-B9FF-45659F14FB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щества, разлагающиеся топохимичес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765000"/>
          <a:ext cx="10147320" cy="5480280"/>
        </p:xfrm>
        <a:graphic>
          <a:graphicData uri="http://schemas.openxmlformats.org/drawingml/2006/table">
            <a:tbl>
              <a:tblPr/>
              <a:tblGrid>
                <a:gridCol w="101473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хлораты: NH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Cl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нат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a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Mg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Sr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Ba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d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b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Zn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aMg(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La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Y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Eu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ы: Ag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, HgO, Pb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b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Mn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Li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a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Sr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Ba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ксиды: Mg(OH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d(OH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Zn(OH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латы: Ag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i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Hg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Y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Th(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La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U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b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анганаты: LiMn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aMn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KMn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bMn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sMn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gMn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Ba(Mn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аты, в частности, Pb(N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ды: K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a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b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s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g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a(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Ba(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Sr(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b(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хроматы, в частности, (NH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ьфид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Ag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, Fe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, Cu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, Cu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аты: LiCl · N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LiCl · 4N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LiBr · N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Br · N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Br · 3N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ывчатые вещества: Hg(OCN)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1,3,5-триазидо-2,4,6-тринитробензол (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стифнат свинца(II) моногидрат (Pb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· 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, стифнат бария моногидрат (Ba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· 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, стифниновая кислота (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пикриновая кислота (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пикраты калия (K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 аммония (N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D08A-90E7-4062-8A02-785B45F7DB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опохимический характер имеют процессы дегидрат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197000"/>
            <a:ext cx="10287000" cy="55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C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0,5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iC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2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MnC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2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Cu(HCOO)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4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CaS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2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CuS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5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ZnS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7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MnS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4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iS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7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MgS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7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La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8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Ce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8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CaC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6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KHC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HC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3NaHC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Cl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6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a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NaHC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2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La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8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Y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4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a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6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a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P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12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a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P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12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MnHP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3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ThF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2,5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UF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· 2,5H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цеолитов NaA и Na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ведении добаво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(допировании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 Mn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похимический характер приобретает разложение таких солей, как KCl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Cl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Cl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ClO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90DC-23BF-49CC-B021-6082589E53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5872320" cy="3960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0" y="5629320"/>
            <a:ext cx="9599760" cy="9684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0" y="476280"/>
            <a:ext cx="8223120" cy="13413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476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дородная энергет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54760" y="1916280"/>
            <a:ext cx="4008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Объяснить изотер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9240" y="4005360"/>
            <a:ext cx="5793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Какая изотерма выше: сорбции или десорбци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D936-318F-4F85-8410-6E30CDA97D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90792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одородная энергети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9600" y="541440"/>
            <a:ext cx="6203880" cy="3824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119200" y="2849400"/>
            <a:ext cx="4685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Объяснить изотер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327560"/>
            <a:ext cx="1028700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ответствии 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оном Сиверт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вл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Н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содержание водорода в металле [Н] связаны уравнени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[Н], рр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(гП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log К = (- 1900/Т) + 0.9201 ( Т в К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 - коэффициент активности водор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954760" y="5070600"/>
                <a:ext cx="4194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5183280" y="5205240"/>
            <a:ext cx="5103720" cy="5205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ывести закон Сиверт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C2B10-0C1F-45E5-A1D7-8F24086F52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rcRect l="9531" t="2241" r="10256" b="9621"/>
          <a:stretch/>
        </p:blipFill>
        <p:spPr>
          <a:xfrm>
            <a:off x="122400" y="115920"/>
            <a:ext cx="4778280" cy="568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62680" y="-360"/>
            <a:ext cx="5224320" cy="1197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очему металлогидри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86320" y="1484280"/>
            <a:ext cx="4900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Жидкий вод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жатый вод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пи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86320" y="3274920"/>
            <a:ext cx="4819680" cy="227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-во водорода часто даётся в объемах: д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00–800 об. …, однако, в весовых или мольных долях, "поразительность" двух нулей исчезает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 20 °С - 775 об.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9 г/литр, что сопоставимо с жидким водородом + пуд метал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2004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7040" y="5805360"/>
            <a:ext cx="38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кумуляторы водорода, изготовленные в ИПХ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3EA4-466A-4494-8D48-DC7DCA8E95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одели механизмов топохимических реакций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1400" y="1341360"/>
            <a:ext cx="1028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тобы получить уравнения кинетики топохимической реакции, нужно зна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предположить) следующие парамет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ономерности диффузии компонентов систем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ономерности образования новых фаз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ономерности роста фаз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еометрические характеристики и дисперсность исходных и конечных фа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B1D7-104E-47D3-8A67-CB90DA00A6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-5040"/>
            <a:ext cx="10287000" cy="1206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0"/>
          <a:ext cx="10287000" cy="6912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  <a:gridCol w="2057400"/>
              </a:tblGrid>
              <a:tr h="5666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,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/ли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, г/литр,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хранения (+/–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извлечения (+/–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 (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250 (28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-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2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(166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2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 (152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4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 (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130 (145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азин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 (14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4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 (133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2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н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 (125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балл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2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 (124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электро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н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 (12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балл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4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нол СН3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(110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2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 (109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4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Al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(10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термо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2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ан, С3Н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 (101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балл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100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2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(9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T, H2O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4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(8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(7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Т + дью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(77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2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l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(7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термо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нотру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135-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получение, 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9F6C-58ED-4338-9B50-F5BD2A89735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476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равнения Поляни-Вигне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7628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исание термодесорбции из двумерного гомоядерного поверхностного г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389320" y="1268280"/>
            <a:ext cx="5284800" cy="701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0" y="2060640"/>
            <a:ext cx="102870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адсорбированных частиц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9280" indent="-71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тропийный множитель, определяющий характер изменения движения частиц при переходе из адсорбированного состояния в газовую фаз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9280" indent="-71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ия активации десорб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9280" indent="-71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ядок десорбционной кинет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9280" indent="-71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=1   частицы десорбируются в том же виде, в котором находятся на поверхности (неассоциативная десорбция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9280" indent="-71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=2   десорбции предшествует образование двухатомных молекул (ассоциативная десорбция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9280" indent="-71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=0   послойное испарение твердого тела или постоянное испарение пленки адсорбата, (на поверхности существует равновес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2971-80B2-4E91-A66C-BE88359EFF4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9700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ипичные формы локализации топохимических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268280"/>
            <a:ext cx="10287000" cy="411732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лошная локализация на всех гранях (в реакци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гновен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ступает вся поверхность граней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9280" indent="-71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лошная локализация на активных гранях (неактивные грани либо не участвуют в реакции, либо вступают в реакцию через определенные промежутки времен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9280" indent="-71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аговая локализация на гранях (последние вступают в реакцию одновременно или последовательно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9280" indent="-71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аговая локализация в объеме кристалла (реакция начинается на изолированных центрах внутри кристалла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9280" indent="-71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лошная локализация в объеме кристалла (реакция протекает гомогенно по всему кристаллу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F992-8CC9-446C-874F-0FAB3A2AFD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0287000" cy="64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естак Я. Теория термического анализа: Физико-химические свойства твердых неорганических веществ. М.: Мир, 1987. 456 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нг Д. Кинетика разложения твердых веществ. М.: Мир, 1969. 263 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ьяков Ю.Д. Твердофазные реакции. М.: Химия, 1978. С. 19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рре П. Кинетика гетерогенных процессов. М.: Мир, 1976. С. 9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зовский А.Я. Кинетика топохимических реакций. М.: Химия, 1974. 224 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ан Е.А., Павлюченко М.М., Продан С.А. Закономерности топохимических реакций. Минск: Наука и техника, 1976. 264 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дреев К.К. Термическое разложение и горение взрывчатых веществ. М.: Наука, 1966. С. 7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ан Е.А. Неорганическая топохимия. Минск: Наука и техника, 1986. 134 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башевский О., Гопкинс Б. Окисление металлов и сплавов. М.: Металлургия, 1965. С. 6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нюков А.В., Зайцев В.Я. Теория пирометаллургических процессов. М.: Металлургия, 1973. 504 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терогенные химические реакции. Минск: Наука и техника, 1979. 184 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ботин В.Н., Перфильев М.В. Электрохимия твердых электролитов. М.: Химия, 1978. 312 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распространяющийся высокотемпературный синтез: теория и практика. Черноголовка: Территория, 2001. 432 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ржанов А.Г. Процессы горения и синтез материалов. Черноголовка: ИСМАН, 1998. 512 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ан Е.А. Топохимия кристаллов. Минск: Наука и техника, 1990. 245 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1E61-D282-4BF0-AD54-F8B47EB1851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4240" y="-27360"/>
            <a:ext cx="925812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Параболический закон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амман, 1920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32240" y="1771560"/>
            <a:ext cx="56736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араболический закон увеличения толщины прослойки продукта  (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ежду реагирующими фазами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Тамма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20 г., реакции окисления металлов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36680" y="838080"/>
            <a:ext cx="3077640" cy="646200"/>
            <a:chOff x="1336680" y="838080"/>
            <a:chExt cx="3077640" cy="646200"/>
          </a:xfrm>
        </p:grpSpPr>
        <p:sp>
          <p:nvSpPr>
            <p:cNvPr id="59" name=""/>
            <p:cNvSpPr/>
            <p:nvPr/>
          </p:nvSpPr>
          <p:spPr>
            <a:xfrm>
              <a:off x="1336680" y="909000"/>
              <a:ext cx="1539000" cy="4323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07600" y="909000"/>
              <a:ext cx="1539000" cy="43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38040" y="909000"/>
              <a:ext cx="1376280" cy="432360"/>
            </a:xfrm>
            <a:prstGeom prst="rect">
              <a:avLst/>
            </a:prstGeom>
            <a:solidFill>
              <a:srgbClr val="ffa9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07600" y="1484280"/>
              <a:ext cx="105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821960" y="1413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07600" y="838080"/>
              <a:ext cx="56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89320" y="541440"/>
            <a:ext cx="40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400720" y="692280"/>
          <a:ext cx="4054320" cy="99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00720" y="692280"/>
                    <a:ext cx="4054320" cy="99828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8" name=""/>
          <p:cNvGrpSpPr/>
          <p:nvPr/>
        </p:nvGrpSpPr>
        <p:grpSpPr>
          <a:xfrm>
            <a:off x="361800" y="1630440"/>
            <a:ext cx="3484440" cy="2230200"/>
            <a:chOff x="361800" y="1630440"/>
            <a:chExt cx="3484440" cy="2230200"/>
          </a:xfrm>
        </p:grpSpPr>
        <p:pic>
          <p:nvPicPr>
            <p:cNvPr id="69" name="" descr=""/>
            <p:cNvPicPr/>
            <p:nvPr/>
          </p:nvPicPr>
          <p:blipFill>
            <a:blip r:embed="rId4"/>
            <a:srcRect l="0" t="0" r="28966" b="0"/>
            <a:stretch/>
          </p:blipFill>
          <p:spPr>
            <a:xfrm>
              <a:off x="361800" y="1630440"/>
              <a:ext cx="3484440" cy="22302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70" name=""/>
            <p:cNvSpPr/>
            <p:nvPr/>
          </p:nvSpPr>
          <p:spPr>
            <a:xfrm flipV="1">
              <a:off x="796680" y="2153880"/>
              <a:ext cx="2612520" cy="1362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954760" y="4218120"/>
            <a:ext cx="3970440" cy="245268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853920" y="4171320"/>
            <a:ext cx="3802320" cy="2430000"/>
            <a:chOff x="853920" y="4171320"/>
            <a:chExt cx="3802320" cy="2430000"/>
          </a:xfrm>
        </p:grpSpPr>
        <p:sp>
          <p:nvSpPr>
            <p:cNvPr id="73" name=""/>
            <p:cNvSpPr/>
            <p:nvPr/>
          </p:nvSpPr>
          <p:spPr>
            <a:xfrm>
              <a:off x="4317480" y="50601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55400" y="6186240"/>
              <a:ext cx="720" cy="11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62920" y="6186240"/>
              <a:ext cx="1800" cy="11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19120" y="6186240"/>
              <a:ext cx="2160" cy="11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1880" y="6243840"/>
              <a:ext cx="1681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71880" y="4516560"/>
              <a:ext cx="1681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5400" y="6243840"/>
              <a:ext cx="3225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55400" y="4516560"/>
              <a:ext cx="720" cy="17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0040" y="6289200"/>
              <a:ext cx="1050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ремя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t/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-43920" y="5069520"/>
              <a:ext cx="2040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епень превращения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59720" y="4558320"/>
              <a:ext cx="3129120" cy="1675440"/>
            </a:xfrm>
            <a:custGeom>
              <a:avLst/>
              <a:gdLst/>
              <a:ahLst/>
              <a:rect l="l" t="t" r="r" b="b"/>
              <a:pathLst>
                <a:path w="2733" h="1365">
                  <a:moveTo>
                    <a:pt x="0" y="1364"/>
                  </a:moveTo>
                  <a:cubicBezTo>
                    <a:pt x="131" y="1364"/>
                    <a:pt x="264" y="1365"/>
                    <a:pt x="380" y="1247"/>
                  </a:cubicBezTo>
                  <a:cubicBezTo>
                    <a:pt x="496" y="1129"/>
                    <a:pt x="530" y="835"/>
                    <a:pt x="697" y="658"/>
                  </a:cubicBezTo>
                  <a:cubicBezTo>
                    <a:pt x="864" y="481"/>
                    <a:pt x="1042" y="293"/>
                    <a:pt x="1381" y="183"/>
                  </a:cubicBezTo>
                  <a:cubicBezTo>
                    <a:pt x="1720" y="73"/>
                    <a:pt x="2451" y="38"/>
                    <a:pt x="27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58120" y="6178680"/>
              <a:ext cx="25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0480" y="44478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4597560"/>
              <a:ext cx="3039840" cy="1632600"/>
            </a:xfrm>
            <a:custGeom>
              <a:avLst/>
              <a:gdLst/>
              <a:ahLst/>
              <a:rect l="l" t="t" r="r" b="b"/>
              <a:pathLst>
                <a:path w="2655" h="1330">
                  <a:moveTo>
                    <a:pt x="0" y="1328"/>
                  </a:moveTo>
                  <a:cubicBezTo>
                    <a:pt x="53" y="1302"/>
                    <a:pt x="218" y="1330"/>
                    <a:pt x="313" y="1170"/>
                  </a:cubicBezTo>
                  <a:cubicBezTo>
                    <a:pt x="408" y="1010"/>
                    <a:pt x="409" y="553"/>
                    <a:pt x="568" y="368"/>
                  </a:cubicBezTo>
                  <a:cubicBezTo>
                    <a:pt x="727" y="183"/>
                    <a:pt x="921" y="120"/>
                    <a:pt x="1269" y="60"/>
                  </a:cubicBezTo>
                  <a:cubicBezTo>
                    <a:pt x="1617" y="0"/>
                    <a:pt x="2366" y="20"/>
                    <a:pt x="2655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63320" y="4598640"/>
              <a:ext cx="3087720" cy="1662120"/>
            </a:xfrm>
            <a:custGeom>
              <a:avLst/>
              <a:gdLst/>
              <a:ahLst/>
              <a:rect l="l" t="t" r="r" b="b"/>
              <a:pathLst>
                <a:path w="2697" h="1354">
                  <a:moveTo>
                    <a:pt x="0" y="1336"/>
                  </a:moveTo>
                  <a:cubicBezTo>
                    <a:pt x="98" y="1309"/>
                    <a:pt x="433" y="1354"/>
                    <a:pt x="585" y="1177"/>
                  </a:cubicBezTo>
                  <a:cubicBezTo>
                    <a:pt x="737" y="1000"/>
                    <a:pt x="765" y="460"/>
                    <a:pt x="910" y="276"/>
                  </a:cubicBezTo>
                  <a:cubicBezTo>
                    <a:pt x="1055" y="92"/>
                    <a:pt x="1155" y="121"/>
                    <a:pt x="1453" y="75"/>
                  </a:cubicBezTo>
                  <a:cubicBezTo>
                    <a:pt x="1751" y="29"/>
                    <a:pt x="2438" y="16"/>
                    <a:pt x="269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6920" y="4595040"/>
              <a:ext cx="3084480" cy="1582200"/>
            </a:xfrm>
            <a:custGeom>
              <a:avLst/>
              <a:gdLst/>
              <a:ahLst/>
              <a:rect l="l" t="t" r="r" b="b"/>
              <a:pathLst>
                <a:path w="2694" h="1289">
                  <a:moveTo>
                    <a:pt x="0" y="1289"/>
                  </a:moveTo>
                  <a:cubicBezTo>
                    <a:pt x="34" y="1028"/>
                    <a:pt x="73" y="749"/>
                    <a:pt x="136" y="563"/>
                  </a:cubicBezTo>
                  <a:cubicBezTo>
                    <a:pt x="199" y="377"/>
                    <a:pt x="201" y="259"/>
                    <a:pt x="381" y="170"/>
                  </a:cubicBezTo>
                  <a:cubicBezTo>
                    <a:pt x="561" y="81"/>
                    <a:pt x="831" y="56"/>
                    <a:pt x="1216" y="28"/>
                  </a:cubicBezTo>
                  <a:cubicBezTo>
                    <a:pt x="1601" y="0"/>
                    <a:pt x="2386" y="8"/>
                    <a:pt x="2694" y="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2760" y="4547160"/>
              <a:ext cx="3106080" cy="1639800"/>
            </a:xfrm>
            <a:custGeom>
              <a:avLst/>
              <a:gdLst/>
              <a:ahLst/>
              <a:rect l="l" t="t" r="r" b="b"/>
              <a:pathLst>
                <a:path w="2713" h="1336">
                  <a:moveTo>
                    <a:pt x="0" y="1336"/>
                  </a:moveTo>
                  <a:cubicBezTo>
                    <a:pt x="22" y="1286"/>
                    <a:pt x="17" y="1192"/>
                    <a:pt x="134" y="1035"/>
                  </a:cubicBezTo>
                  <a:cubicBezTo>
                    <a:pt x="251" y="878"/>
                    <a:pt x="271" y="565"/>
                    <a:pt x="701" y="393"/>
                  </a:cubicBezTo>
                  <a:cubicBezTo>
                    <a:pt x="1131" y="221"/>
                    <a:pt x="2294" y="82"/>
                    <a:pt x="271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66920" y="4376520"/>
              <a:ext cx="3289320" cy="1855800"/>
            </a:xfrm>
            <a:custGeom>
              <a:avLst/>
              <a:gdLst/>
              <a:ahLst/>
              <a:rect l="l" t="t" r="r" b="b"/>
              <a:pathLst>
                <a:path w="2873" h="1512">
                  <a:moveTo>
                    <a:pt x="0" y="1512"/>
                  </a:moveTo>
                  <a:cubicBezTo>
                    <a:pt x="261" y="1243"/>
                    <a:pt x="522" y="975"/>
                    <a:pt x="953" y="741"/>
                  </a:cubicBezTo>
                  <a:cubicBezTo>
                    <a:pt x="1384" y="507"/>
                    <a:pt x="2299" y="212"/>
                    <a:pt x="2586" y="106"/>
                  </a:cubicBezTo>
                  <a:cubicBezTo>
                    <a:pt x="2873" y="0"/>
                    <a:pt x="2661" y="106"/>
                    <a:pt x="2676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D54E-A793-49FE-9ADF-EFB876CE1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7040" y="-27360"/>
            <a:ext cx="925848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Параболический закон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амман, 1920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5240" y="765000"/>
            <a:ext cx="571176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Скорость реакции определяется скоростью диффузии реагентов навстречу друг другу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27040" y="1052640"/>
            <a:ext cx="3076920" cy="942840"/>
            <a:chOff x="527040" y="1052640"/>
            <a:chExt cx="3076920" cy="942840"/>
          </a:xfrm>
        </p:grpSpPr>
        <p:grpSp>
          <p:nvGrpSpPr>
            <p:cNvPr id="94" name=""/>
            <p:cNvGrpSpPr/>
            <p:nvPr/>
          </p:nvGrpSpPr>
          <p:grpSpPr>
            <a:xfrm>
              <a:off x="527040" y="1349280"/>
              <a:ext cx="3076920" cy="646200"/>
              <a:chOff x="527040" y="1349280"/>
              <a:chExt cx="3076920" cy="646200"/>
            </a:xfrm>
          </p:grpSpPr>
          <p:sp>
            <p:nvSpPr>
              <p:cNvPr id="95" name=""/>
              <p:cNvSpPr/>
              <p:nvPr/>
            </p:nvSpPr>
            <p:spPr>
              <a:xfrm>
                <a:off x="527040" y="1420200"/>
                <a:ext cx="1539000" cy="4323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97960" y="1420200"/>
                <a:ext cx="1539000" cy="432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28040" y="1420200"/>
                <a:ext cx="1375920" cy="432360"/>
              </a:xfrm>
              <a:prstGeom prst="rect">
                <a:avLst/>
              </a:prstGeom>
              <a:solidFill>
                <a:srgbClr val="ffa9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97960" y="1995480"/>
                <a:ext cx="105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1012320" y="192420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97960" y="1349280"/>
                <a:ext cx="56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580400" y="1052640"/>
              <a:ext cx="403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825560" y="7650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Линейный случа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82600" y="2421000"/>
          <a:ext cx="4697280" cy="16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2600" y="2421000"/>
                    <a:ext cx="4697280" cy="167472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39680" y="4869000"/>
          <a:ext cx="2233800" cy="6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680" y="4869000"/>
                    <a:ext cx="22338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9600" y="2421000"/>
            <a:ext cx="62769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Написать уравнение диффузии для компонен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03840"/>
            <a:ext cx="5791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проинтегриров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3213000"/>
            <a:ext cx="4414680" cy="257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70800" bIns="370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Нарисовать кинетические крив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6A78-CF39-4D56-AF80-B7811ED998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3880" y="985680"/>
            <a:ext cx="9563400" cy="4367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6546960" y="1116000"/>
            <a:ext cx="35668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равне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рнста-Эйнштейна связывает подвижнос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омпонент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коэффициентом диффуз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6"/>
          <p:cNvSpPr/>
          <p:nvPr/>
        </p:nvSpPr>
        <p:spPr>
          <a:xfrm>
            <a:off x="2766960" y="1465200"/>
            <a:ext cx="2087640" cy="655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4495680" y="1365120"/>
            <a:ext cx="1944720" cy="347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467320" y="2162160"/>
            <a:ext cx="464652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концентрация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объем компонента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ок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имический потенциал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27"/>
          <p:cNvGrpSpPr/>
          <p:nvPr/>
        </p:nvGrpSpPr>
        <p:grpSpPr>
          <a:xfrm>
            <a:off x="201600" y="44280"/>
            <a:ext cx="3076920" cy="897840"/>
            <a:chOff x="201600" y="44280"/>
            <a:chExt cx="3076920" cy="897840"/>
          </a:xfrm>
        </p:grpSpPr>
        <p:sp>
          <p:nvSpPr>
            <p:cNvPr id="116" name="Text Box 18"/>
            <p:cNvSpPr/>
            <p:nvPr/>
          </p:nvSpPr>
          <p:spPr>
            <a:xfrm>
              <a:off x="1255680" y="4428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Group 26"/>
            <p:cNvGrpSpPr/>
            <p:nvPr/>
          </p:nvGrpSpPr>
          <p:grpSpPr>
            <a:xfrm>
              <a:off x="201600" y="94320"/>
              <a:ext cx="3076920" cy="847800"/>
              <a:chOff x="201600" y="94320"/>
              <a:chExt cx="3076920" cy="847800"/>
            </a:xfrm>
          </p:grpSpPr>
          <p:grpSp>
            <p:nvGrpSpPr>
              <p:cNvPr id="118" name="Group 11"/>
              <p:cNvGrpSpPr/>
              <p:nvPr/>
            </p:nvGrpSpPr>
            <p:grpSpPr>
              <a:xfrm>
                <a:off x="201600" y="243720"/>
                <a:ext cx="3076920" cy="648720"/>
                <a:chOff x="201600" y="243720"/>
                <a:chExt cx="3076920" cy="648720"/>
              </a:xfrm>
            </p:grpSpPr>
            <p:sp>
              <p:nvSpPr>
                <p:cNvPr id="119" name="Rectangle 12"/>
                <p:cNvSpPr/>
                <p:nvPr/>
              </p:nvSpPr>
              <p:spPr>
                <a:xfrm>
                  <a:off x="201600" y="315000"/>
                  <a:ext cx="1538640" cy="4341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Rectangle 13"/>
                <p:cNvSpPr/>
                <p:nvPr/>
              </p:nvSpPr>
              <p:spPr>
                <a:xfrm>
                  <a:off x="1172520" y="315000"/>
                  <a:ext cx="1538640" cy="4341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14"/>
                <p:cNvSpPr/>
                <p:nvPr/>
              </p:nvSpPr>
              <p:spPr>
                <a:xfrm>
                  <a:off x="1902600" y="315000"/>
                  <a:ext cx="1375920" cy="4341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5"/>
                <p:cNvSpPr/>
                <p:nvPr/>
              </p:nvSpPr>
              <p:spPr>
                <a:xfrm>
                  <a:off x="1172520" y="892440"/>
                  <a:ext cx="105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6"/>
                <p:cNvSpPr/>
                <p:nvPr/>
              </p:nvSpPr>
              <p:spPr>
                <a:xfrm flipH="1">
                  <a:off x="687240" y="82116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7"/>
                <p:cNvSpPr/>
                <p:nvPr/>
              </p:nvSpPr>
              <p:spPr>
                <a:xfrm>
                  <a:off x="1172520" y="243720"/>
                  <a:ext cx="56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Text Box 19"/>
              <p:cNvSpPr/>
              <p:nvPr/>
            </p:nvSpPr>
            <p:spPr>
              <a:xfrm>
                <a:off x="308160" y="94320"/>
                <a:ext cx="54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20"/>
              <p:cNvSpPr/>
              <p:nvPr/>
            </p:nvSpPr>
            <p:spPr>
              <a:xfrm>
                <a:off x="1172520" y="342720"/>
                <a:ext cx="75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АВ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21"/>
              <p:cNvSpPr/>
              <p:nvPr/>
            </p:nvSpPr>
            <p:spPr>
              <a:xfrm>
                <a:off x="2143440" y="94320"/>
                <a:ext cx="54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22"/>
              <p:cNvSpPr/>
              <p:nvPr/>
            </p:nvSpPr>
            <p:spPr>
              <a:xfrm>
                <a:off x="1172520" y="143640"/>
                <a:ext cx="0" cy="79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Text Box 23"/>
          <p:cNvSpPr/>
          <p:nvPr/>
        </p:nvSpPr>
        <p:spPr>
          <a:xfrm>
            <a:off x="173160" y="5445000"/>
            <a:ext cx="982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пись константы через химические потенциалы позволяет учитывать (моделировать) влияние внешних полей разной природы (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емпературное, электрическое, гравитационное, центробежное, акустическое, упругих напряжений, магнитное ..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влияние посторонних примесей и дефек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444600" y="6370560"/>
            <a:ext cx="93978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овтуненко П.В. Физическая химия твердого тела. Кристаллы с дефектами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.: Высшая школа. 199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1600" y="44280"/>
            <a:ext cx="6805800" cy="54936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Times New Roman"/>
              </a:rPr>
              <a:t>Линейная модель более детально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388F-722A-4C39-91BE-DCF187A3C7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инетика зародыше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29040" y="696240"/>
            <a:ext cx="63579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и доступных ме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гетерогенном образован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ом определя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фектами кристалла или примесями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родышей в момент времен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онстанта скорости зародыше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mage10275" descr=""/>
          <p:cNvPicPr/>
          <p:nvPr/>
        </p:nvPicPr>
        <p:blipFill>
          <a:blip r:embed=""/>
          <a:stretch/>
        </p:blipFill>
        <p:spPr>
          <a:xfrm>
            <a:off x="0" y="3429000"/>
            <a:ext cx="3846600" cy="642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600" y="3429000"/>
            <a:ext cx="5791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проинтегриров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00" y="4437000"/>
            <a:ext cx="10126800" cy="19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70800" bIns="370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Нарисовать 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кинетические крив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3803760" cy="11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F086-5943-492B-B458-FD9E1C33F1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620640"/>
          </a:xfrm>
          <a:prstGeom prst="rect">
            <a:avLst/>
          </a:prstGeom>
          <a:solidFill>
            <a:srgbClr val="bbe0e3">
              <a:alpha val="78000"/>
            </a:srgbClr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инетика зародыше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1400" y="939960"/>
            <a:ext cx="5102280" cy="280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15840" y="2400480"/>
            <a:ext cx="362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5840" y="2400480"/>
            <a:ext cx="299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143680" y="907920"/>
            <a:ext cx="5143320" cy="2840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84320" y="1200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6176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808440"/>
            <a:ext cx="49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инетические кривые зародышеобразо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 rot="10800000">
            <a:off x="5141880" y="3927240"/>
            <a:ext cx="51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висимости скорости зародышеобразования от време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940280"/>
            <a:ext cx="10287000" cy="202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58920"/>
                <a:tab algn="l" pos="4302000"/>
                <a:tab algn="l" pos="7180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 соответствуе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0 (мгновенное зародышеобразование);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&gt; 1;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инкубационный период зародышеобразования);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&lt;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Image10279" descr=""/>
          <p:cNvPicPr/>
          <p:nvPr/>
        </p:nvPicPr>
        <p:blipFill>
          <a:blip r:embed=""/>
          <a:stretch/>
        </p:blipFill>
        <p:spPr>
          <a:xfrm>
            <a:off x="689040" y="5373720"/>
            <a:ext cx="1863720" cy="414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10280" descr=""/>
          <p:cNvPicPr/>
          <p:nvPr/>
        </p:nvPicPr>
        <p:blipFill>
          <a:blip r:embed=""/>
          <a:stretch/>
        </p:blipFill>
        <p:spPr>
          <a:xfrm>
            <a:off x="3587760" y="5343480"/>
            <a:ext cx="1297080" cy="460440"/>
          </a:xfrm>
          <a:prstGeom prst="rect">
            <a:avLst/>
          </a:prstGeom>
          <a:ln w="0">
            <a:noFill/>
          </a:ln>
        </p:spPr>
      </p:pic>
      <p:pic>
        <p:nvPicPr>
          <p:cNvPr id="150" name="Image10281" descr=""/>
          <p:cNvPicPr/>
          <p:nvPr/>
        </p:nvPicPr>
        <p:blipFill>
          <a:blip r:embed=""/>
          <a:stretch/>
        </p:blipFill>
        <p:spPr>
          <a:xfrm>
            <a:off x="5743440" y="5297400"/>
            <a:ext cx="2316240" cy="523800"/>
          </a:xfrm>
          <a:prstGeom prst="rect">
            <a:avLst/>
          </a:prstGeom>
          <a:ln w="0">
            <a:noFill/>
          </a:ln>
        </p:spPr>
      </p:pic>
      <p:pic>
        <p:nvPicPr>
          <p:cNvPr id="151" name="Image10283" descr=""/>
          <p:cNvPicPr/>
          <p:nvPr/>
        </p:nvPicPr>
        <p:blipFill>
          <a:blip r:embed=""/>
          <a:stretch/>
        </p:blipFill>
        <p:spPr>
          <a:xfrm>
            <a:off x="930240" y="6453360"/>
            <a:ext cx="2836800" cy="428400"/>
          </a:xfrm>
          <a:prstGeom prst="rect">
            <a:avLst/>
          </a:prstGeom>
          <a:ln w="0">
            <a:noFill/>
          </a:ln>
        </p:spPr>
      </p:pic>
      <p:pic>
        <p:nvPicPr>
          <p:cNvPr id="152" name="Image10282" descr=""/>
          <p:cNvPicPr/>
          <p:nvPr/>
        </p:nvPicPr>
        <p:blipFill>
          <a:blip r:embed=""/>
          <a:stretch/>
        </p:blipFill>
        <p:spPr>
          <a:xfrm>
            <a:off x="851040" y="5661000"/>
            <a:ext cx="3402000" cy="522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0" y="4915080"/>
            <a:ext cx="10285560" cy="194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. Лекция 10. Кинетика реакций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59954-FE36-4435-A7F7-AA59710127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05:51Z</dcterms:created>
  <dc:creator>Виктор</dc:creator>
  <dc:description/>
  <dc:language>en-US</dc:language>
  <cp:lastModifiedBy>Fedoseev</cp:lastModifiedBy>
  <dcterms:modified xsi:type="dcterms:W3CDTF">2010-12-11T09:33:29Z</dcterms:modified>
  <cp:revision>97</cp:revision>
  <dc:subject/>
  <dc:title>Кинетика твердофазных реакций </dc:title>
</cp:coreProperties>
</file>