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40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8.wmf" ContentType="image/x-wmf"/>
  <Override PartName="/ppt/media/image46.wmf" ContentType="image/x-wmf"/>
  <Override PartName="/ppt/media/image47.png" ContentType="image/png"/>
  <Override PartName="/ppt/media/image48.png" ContentType="image/png"/>
  <Override PartName="/ppt/media/image33.wmf" ContentType="image/x-wmf"/>
  <Override PartName="/ppt/media/image34.wmf" ContentType="image/x-wmf"/>
  <Override PartName="/ppt/media/image49.png" ContentType="image/png"/>
  <Override PartName="/ppt/media/image52.wmf" ContentType="image/x-wmf"/>
  <Override PartName="/ppt/media/image42.png" ContentType="image/png"/>
  <Override PartName="/ppt/media/image53.wmf" ContentType="image/x-wmf"/>
  <Override PartName="/ppt/media/image43.png" ContentType="image/png"/>
  <Override PartName="/ppt/media/image54.wmf" ContentType="image/x-wmf"/>
  <Override PartName="/ppt/media/image55.wmf" ContentType="image/x-wmf"/>
  <Override PartName="/ppt/media/image44.wmf" ContentType="image/x-wmf"/>
  <Override PartName="/ppt/media/image45.png" ContentType="image/png"/>
  <Override PartName="/ppt/media/image5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8.png" ContentType="image/png"/>
  <Override PartName="/ppt/media/image36.wmf" ContentType="image/x-wmf"/>
  <Override PartName="/ppt/media/image35.wmf" ContentType="image/x-wmf"/>
  <Override PartName="/ppt/media/image30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51.png" ContentType="image/png"/>
  <Override PartName="/ppt/media/image12.wmf" ContentType="image/x-wmf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6CE4-B329-4A36-B320-0ED610757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7D98-BDB0-4297-A7FB-C05AD0AB2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2AA7-80F1-4F52-A2B9-8555F6843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6F3E-29D6-48B9-ADEB-C6C53D252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1C57-F971-4577-9515-2943AA5C6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25A2-D251-49A7-888A-770E2D560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1FF2-55DA-484C-9FAC-490556B1F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889E-ECCF-4940-9351-F2EAA5073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6DEF-7E6F-4EFA-9995-AA75494A0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CF6F-E790-483C-8348-35B044590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D929-9375-4037-84B7-978B0F033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E940-5A42-44C9-8E14-09C5C9582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AFE-421B-4FFD-9B22-F69A78684EFF}" type="slidenum"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2.png"/><Relationship Id="rId4" Type="http://schemas.openxmlformats.org/officeDocument/2006/relationships/image" Target="../media/image3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image" Target="../media/image45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9680" y="549000"/>
            <a:ext cx="8745480" cy="26924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пек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ипекани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decomposition of solid solution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-360" y="3501720"/>
            <a:ext cx="10287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ция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курс, 9 семес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edoseev@phys.unn.r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ри основных стадии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640" y="1197000"/>
            <a:ext cx="9315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Times New Roman"/>
              </a:rPr>
              <a:t>2 Промежуточная стад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разуется две непрерывные фазы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фаза вещества” + “фаза пустоты” (губка, сетка…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чало формирования закрытой пористости (замкнутых пор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ятие контакта между частицами теряет смысл: границы между элементами структуры спекающегося твердого тела не связаны с первоначальными границами частиц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ст зере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EB4D-1B5A-4C4F-AF9A-80E30DA1E8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ри основных стадии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640" y="549360"/>
            <a:ext cx="931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3 Заключительная стадия (образованы замкнутые пор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 общий объем пор обычно уменьшаютс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лотнение порошкового тел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истость может сохраняться неизменной при коалесценции пор = рост крупных пор за счет уменьшения размеров и исчезновения мелких, изолированных п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40" y="5734080"/>
            <a:ext cx="9234360" cy="5814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Как называется последний процес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64D0-6AB0-474C-ACB9-3D2198DC96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Если меняется поверхностное натяжени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897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1680" y="1125360"/>
          <a:ext cx="4862520" cy="17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1125360"/>
                    <a:ext cx="486252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2957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954760" y="765000"/>
            <a:ext cx="4331880" cy="3240360"/>
            <a:chOff x="5954760" y="765000"/>
            <a:chExt cx="4331880" cy="3240360"/>
          </a:xfrm>
        </p:grpSpPr>
        <p:sp>
          <p:nvSpPr>
            <p:cNvPr id="90" name=""/>
            <p:cNvSpPr/>
            <p:nvPr/>
          </p:nvSpPr>
          <p:spPr>
            <a:xfrm>
              <a:off x="5954760" y="765000"/>
              <a:ext cx="4331880" cy="32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6197400" y="836640"/>
            <a:ext cx="1965960" cy="72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97400" y="836640"/>
                      <a:ext cx="196596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6147360" y="1411560"/>
              <a:ext cx="2398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а поверхностной активности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8303040" y="836640"/>
              <a:ext cx="1983600" cy="1724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5" name=""/>
            <p:cNvGraphicFramePr/>
            <p:nvPr/>
          </p:nvGraphicFramePr>
          <p:xfrm>
            <a:off x="6440040" y="2997000"/>
            <a:ext cx="3567960" cy="9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40040" y="2997000"/>
                      <a:ext cx="356796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6488280" y="2635920"/>
              <a:ext cx="3446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изотерма адсорбции Гиббс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692280"/>
            <a:ext cx="60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имический потенциал компон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941720"/>
            <a:ext cx="10287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иффузионный поток может зависеть от поверхностной активности компонента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 геометрии системы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4021200"/>
          <a:ext cx="1028700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021200"/>
                    <a:ext cx="102870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238640" y="3213000"/>
          <a:ext cx="106668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38640" y="3213000"/>
                    <a:ext cx="1066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467320" y="1268280"/>
            <a:ext cx="647640" cy="1944720"/>
          </a:xfrm>
          <a:custGeom>
            <a:avLst/>
            <a:gdLst/>
            <a:ahLst/>
            <a:rect l="l" t="t" r="r" b="b"/>
            <a:pathLst>
              <a:path w="363" h="1225">
                <a:moveTo>
                  <a:pt x="0" y="1225"/>
                </a:moveTo>
                <a:cubicBezTo>
                  <a:pt x="98" y="1088"/>
                  <a:pt x="197" y="952"/>
                  <a:pt x="227" y="771"/>
                </a:cubicBezTo>
                <a:cubicBezTo>
                  <a:pt x="257" y="590"/>
                  <a:pt x="159" y="264"/>
                  <a:pt x="182" y="136"/>
                </a:cubicBezTo>
                <a:cubicBezTo>
                  <a:pt x="205" y="8"/>
                  <a:pt x="333" y="23"/>
                  <a:pt x="36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4158-B2E8-408E-8C06-D9616848A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Если меняется поверхностное натяжени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16120" y="2276640"/>
          <a:ext cx="8604000" cy="182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6120" y="2276640"/>
                    <a:ext cx="8604000" cy="1827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2897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78520" y="836640"/>
          <a:ext cx="3171960" cy="127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8520" y="836640"/>
                    <a:ext cx="317196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2957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2100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Диффузионный поток может зависеть от поверхностной активности компонент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и геометрии систем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2600" y="836640"/>
            <a:ext cx="56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Более детальное опис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0040" y="1484280"/>
          <a:ext cx="4838760" cy="72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0040" y="1484280"/>
                    <a:ext cx="48387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1B79-9E5F-45C3-97E5-E7096FBB56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Если меняется кривизна поверхности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34920" y="3436920"/>
          <a:ext cx="1370160" cy="12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4920" y="3436920"/>
                    <a:ext cx="137016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9600" y="3681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31960" y="3429000"/>
            <a:ext cx="753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ци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днород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вор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деальн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ивизна поверхност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еоднород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4600" y="4789440"/>
            <a:ext cx="9478800" cy="18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уда направлен диффузионный пот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Для случая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) ПАВ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) ПИВ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) ПН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69840" y="836640"/>
          <a:ext cx="8458200" cy="18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9840" y="836640"/>
                    <a:ext cx="8458200" cy="1827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78400" y="2637000"/>
          <a:ext cx="865080" cy="81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78400" y="2637000"/>
                    <a:ext cx="8650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93680" y="2781360"/>
            <a:ext cx="25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сферических част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037360" y="2637000"/>
          <a:ext cx="909720" cy="81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37360" y="2637000"/>
                    <a:ext cx="909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467320" y="270828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кубических част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0A41-FF50-4FE7-8D95-B118C3E833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Если кривизна поверхности разна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6280" y="2637000"/>
          <a:ext cx="191952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6280" y="2637000"/>
                    <a:ext cx="191952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22400" y="3213000"/>
            <a:ext cx="8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4040" y="2852640"/>
            <a:ext cx="599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ци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еоднород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вор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деальн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ивизна поверхности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еоднород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4600" y="4508640"/>
            <a:ext cx="9478800" cy="18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уда направлен диффузионный пот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Для случая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) ПАВ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) ПИВ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) ПН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97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69840" y="836640"/>
          <a:ext cx="8458200" cy="18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9840" y="836640"/>
                    <a:ext cx="8458200" cy="1827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4327-B7F7-42E4-8EB2-F975D25F0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ток атомов и поток вакансий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600" y="836640"/>
            <a:ext cx="4276800" cy="381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224320" y="4581360"/>
            <a:ext cx="2847960" cy="822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440400" y="1773360"/>
            <a:ext cx="2268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332240" y="765000"/>
            <a:ext cx="59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равнение Томпсона –Кельв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давления насыщенного пара над сферической поверхност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19680" y="2565360"/>
            <a:ext cx="469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лучить эти 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32240" y="3500280"/>
            <a:ext cx="59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равнение Пине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рис Яковле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онцентрации вакансий около сферической поверх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41400" y="5578560"/>
            <a:ext cx="7696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Куда должны двигаться вакансии, если их исходная концентрация однород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8545680" y="4581360"/>
            <a:ext cx="1660320" cy="22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0AE0-3D46-4791-9102-5F48338B9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ток атомов и поток вакансий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926400" y="1125360"/>
            <a:ext cx="2847960" cy="822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1600" y="1197000"/>
            <a:ext cx="980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близи поверхности шейк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шейка = место контакта частиц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ция вакансий больше чем в объем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никновение разности концентраций приводит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(?!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появлению диффузионного потока вакансий, направленного от шейки в объем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(?!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52960" y="3979800"/>
            <a:ext cx="4213440" cy="1033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600" y="4076640"/>
            <a:ext cx="1020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, соответственн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речному переносу веществ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бласть шей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ледствие этого происходит спекание, сопровождающееся уменьшением объема пор и уплотн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CBF3-F515-404D-87E2-787002D8B8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41760" y="43920"/>
            <a:ext cx="10287000" cy="10810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екание как диффузионно-вязкая ползучесть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дель Я.С. Френке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2400" y="1341360"/>
            <a:ext cx="2752560" cy="1112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38400" y="1197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никают капиллярные силы (сила Лапласа) = следствие разность давления в фазах, разделенных искривленными грани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00" y="2852640"/>
            <a:ext cx="4618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главные радиусы кривизны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верхностная энер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81680" y="2637000"/>
            <a:ext cx="51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стическая деформац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дислокационный (?!) массоперен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600" y="378936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этом усадка пропорциональна давлению всестороннего сжат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обратно пропорциональна вязкости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240" y="5157720"/>
            <a:ext cx="2430720" cy="86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9665-229C-410A-B166-CB2CBF0172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396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дель Я.С. Френкел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040" y="692280"/>
            <a:ext cx="2430720" cy="86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1600" y="1700280"/>
            <a:ext cx="75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аморфных тел вязкость по Френкел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412040" y="1413000"/>
            <a:ext cx="1957320" cy="113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94920" y="85716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сад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9320" y="2565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*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эффициент самодиффузи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- расстояние между атом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328464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ристаллических те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соотношение Набарро-Херрин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816680" y="3284640"/>
            <a:ext cx="2173320" cy="976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711760" y="4221000"/>
            <a:ext cx="44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- расстояние между источниками и стоками ваканс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1600" y="5013360"/>
            <a:ext cx="98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язкое течение реализуется диффузионным путём. Поэтому такой механизм уплотнения назван “диффузионно - вязкое течение” или “диффузионно - вязкая” ползуче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B1F4-69D4-4CA7-A311-D6D9F83A0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Эволюция дисперсной системы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5000"/>
            <a:ext cx="1028700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ние и рост зародышей новой фазы приводит к образованию дисперс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волюция дисперсной системы – 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коалесценция, 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коагуляция, 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агрегация, 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гелеобразование, 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флокуляция, 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коацервация,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перераспределение,</a:t>
            </a:r>
            <a:br>
              <a:rPr sz="2800"/>
            </a:b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переконденс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F869-9C45-4576-8347-FDDB8B669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дачк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631960" y="1052640"/>
            <a:ext cx="3767040" cy="1510200"/>
            <a:chOff x="2631960" y="1052640"/>
            <a:chExt cx="3767040" cy="1510200"/>
          </a:xfrm>
        </p:grpSpPr>
        <p:grpSp>
          <p:nvGrpSpPr>
            <p:cNvPr id="172" name=""/>
            <p:cNvGrpSpPr/>
            <p:nvPr/>
          </p:nvGrpSpPr>
          <p:grpSpPr>
            <a:xfrm>
              <a:off x="2794320" y="1807920"/>
              <a:ext cx="3241800" cy="754920"/>
              <a:chOff x="2794320" y="1807920"/>
              <a:chExt cx="3241800" cy="75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3119040" y="2144520"/>
                <a:ext cx="2188080" cy="83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07480" y="1807920"/>
                <a:ext cx="728640" cy="754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94320" y="1994400"/>
                <a:ext cx="324720" cy="334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631960" y="1052640"/>
              <a:ext cx="3767040" cy="703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1 Как изменятся пузырьки, соединенные соломинко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84320" y="4075200"/>
            <a:ext cx="5263920" cy="1515600"/>
            <a:chOff x="1984320" y="4075200"/>
            <a:chExt cx="5263920" cy="1515600"/>
          </a:xfrm>
        </p:grpSpPr>
        <p:grpSp>
          <p:nvGrpSpPr>
            <p:cNvPr id="178" name=""/>
            <p:cNvGrpSpPr/>
            <p:nvPr/>
          </p:nvGrpSpPr>
          <p:grpSpPr>
            <a:xfrm>
              <a:off x="3788640" y="4075200"/>
              <a:ext cx="1204200" cy="708840"/>
              <a:chOff x="3788640" y="4075200"/>
              <a:chExt cx="1204200" cy="708840"/>
            </a:xfrm>
          </p:grpSpPr>
          <p:sp>
            <p:nvSpPr>
              <p:cNvPr id="179" name=""/>
              <p:cNvSpPr/>
              <p:nvPr/>
            </p:nvSpPr>
            <p:spPr>
              <a:xfrm>
                <a:off x="3788640" y="4075200"/>
                <a:ext cx="887400" cy="70884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50040" y="4251960"/>
                <a:ext cx="442800" cy="4143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984320" y="4887000"/>
              <a:ext cx="5263920" cy="703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Нарисовать границу между этими мыльными пузырькам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D65B-1F28-4A3D-BB16-1B7D15F8F2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349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инетика спекан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2400" y="836640"/>
            <a:ext cx="100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ешними признаками спекания обычно служат уменьшение размеров тела = усадка, уменьшение пористости и увеличение кажущейся пло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46600" y="2060640"/>
            <a:ext cx="2130480" cy="1195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41400" y="3284640"/>
            <a:ext cx="1028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овременно могут действовать разные механизмы массоперен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ффузионно-вязкое (пластическое) тече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мная диффуз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ерхностная диффуз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арение – конденсац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слокационный механиз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выводе кинетических уравнений предполагают преобладание одного из возможных механиз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DBAF-00E3-4DF6-9242-212A4B5F0C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41400" y="0"/>
            <a:ext cx="10328400" cy="1125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еханизм диффузионно-вязкого течени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5355" r="0" b="9188"/>
          <a:stretch/>
        </p:blipFill>
        <p:spPr>
          <a:xfrm>
            <a:off x="122400" y="1268280"/>
            <a:ext cx="5271840" cy="2303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86320" y="1341360"/>
            <a:ext cx="453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тояние между центрами частиц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актный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поверх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20640" y="3429000"/>
          <a:ext cx="672012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3429000"/>
                    <a:ext cx="672012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841480" y="4365720"/>
          <a:ext cx="206244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1480" y="4365720"/>
                    <a:ext cx="2062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386320" y="4437000"/>
            <a:ext cx="40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Как это получи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6880" y="5157720"/>
          <a:ext cx="2768760" cy="107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" y="5157720"/>
                    <a:ext cx="2768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281400" y="522936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щность (работа в единицу времени) выделяемая при сокращении границ тратится на вязкое тр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280280" y="5116680"/>
          <a:ext cx="2793960" cy="11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80280" y="5116680"/>
                    <a:ext cx="279396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80A3-AFAE-4A7F-A68F-8DE4FB3B06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428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еханизм диффузионно-вязкого теч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22400" y="817560"/>
            <a:ext cx="2995560" cy="971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17960" y="8571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формация определяется уг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rcRect l="2435" t="8013" r="0" b="14490"/>
          <a:stretch/>
        </p:blipFill>
        <p:spPr>
          <a:xfrm>
            <a:off x="5143680" y="476280"/>
            <a:ext cx="5143320" cy="2089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01600" y="1844640"/>
            <a:ext cx="145908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06360" y="2924280"/>
          <a:ext cx="4935600" cy="33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360" y="2924280"/>
                    <a:ext cx="493560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762600" y="4365720"/>
          <a:ext cx="259236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62600" y="4365720"/>
                    <a:ext cx="2592360" cy="149220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872320" y="393372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инетика проце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9720" y="2637000"/>
            <a:ext cx="469728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Энергия не теряется в виде тепла и пр … </a:t>
            </a: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но куда исчезает материя?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3680" y="6416640"/>
            <a:ext cx="5143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Если материя не исчезает, то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CAC0-67D9-4C43-ADF2-D717FFFE98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rcRect l="2435" t="8013" r="0" b="14490"/>
          <a:stretch/>
        </p:blipFill>
        <p:spPr>
          <a:xfrm>
            <a:off x="3198960" y="646200"/>
            <a:ext cx="3484440" cy="1414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39880" y="2060640"/>
            <a:ext cx="6805800" cy="230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ерия не исчезае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ак реально может выглядеть форма двух срастающихся частиц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Зависимость от размера взаимодействующих части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43160" y="5589720"/>
            <a:ext cx="5411880" cy="1295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70040" y="4581360"/>
            <a:ext cx="874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равнения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гузин Я.Е. Физика спека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р.34-35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9, 114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тограф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стр. 40, 125, 1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55680" y="5877000"/>
            <a:ext cx="7370640" cy="0"/>
          </a:xfrm>
          <a:prstGeom prst="line">
            <a:avLst/>
          </a:prstGeom>
          <a:ln w="936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98680" y="6524640"/>
            <a:ext cx="7370640" cy="0"/>
          </a:xfrm>
          <a:prstGeom prst="line">
            <a:avLst/>
          </a:prstGeom>
          <a:ln w="936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8320" y="6237360"/>
            <a:ext cx="16207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70240" y="6237360"/>
            <a:ext cx="16210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4760" y="6237360"/>
            <a:ext cx="16207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B02E-967A-4073-806B-1BC5E38B99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349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механизм объемной диффузи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rcRect l="0" t="0" r="4508" b="0"/>
          <a:stretch/>
        </p:blipFill>
        <p:spPr>
          <a:xfrm>
            <a:off x="0" y="549360"/>
            <a:ext cx="5386320" cy="225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86320" y="620640"/>
            <a:ext cx="486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кансии в поле градиента концентраций диффундируют в объем частиц. Встречный поток вещества, приводит к росту шейк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продиффундировавшего вещества, из объема частиц на поверхность шейки, соответствует объему “линзы” между частицами 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0" y="2719440"/>
            <a:ext cx="1336680" cy="919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1415880" y="285264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24400" y="3452760"/>
            <a:ext cx="67626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1 закону Фи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в, ч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ивный диффузионный путь =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и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езразмерной величиной = отношение числа вакансий к общему числу уз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уравнение Пине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3680" y="3645000"/>
          <a:ext cx="309564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680" y="3645000"/>
                    <a:ext cx="3095640" cy="180000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4454640" y="5373720"/>
            <a:ext cx="5832360" cy="11383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0" y="5670720"/>
            <a:ext cx="4332240" cy="8254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Получим!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(?)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проверьте разме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7737480" y="3486240"/>
            <a:ext cx="2104920" cy="6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2836-3ECA-41A3-8A68-2505B713A0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едпочтение отдается механизма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200" y="765000"/>
            <a:ext cx="972180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ффузионно-вязкого те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ъемной диффуз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и позволяют объяснить большие усадки, наблюдающиеся в процессе спекания неметаллических сист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00" y="4365720"/>
            <a:ext cx="10207800" cy="211320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buClr>
                <a:srgbClr val="ff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ри больших (каких) усадках следует аккуратнее обращаться с округлением и условием сохранением ве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ff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Скорость поверхностной диффузии на 2-4 порядка выше, чем объемной, при каком размер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частиц поверхностная диффузия будет существенно выгоднее, чем объемн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2760" y="371628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EBF8-5F52-41B6-8126-B241585EAE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вая спекан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55680" y="2349360"/>
            <a:ext cx="7753320" cy="3684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4600" y="836640"/>
            <a:ext cx="3322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Френкел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еханизм вязкого течения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709120" y="2492280"/>
            <a:ext cx="1590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Times New Roman"/>
              </a:rPr>
              <a:t>Конечная остаточная порист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45680" y="556416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907920"/>
            <a:ext cx="3160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Times New Roman"/>
              </a:rPr>
              <a:t>Пинес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Диффузионное растворение п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69040" y="1844640"/>
            <a:ext cx="405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74960" y="1773360"/>
            <a:ext cx="566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D293-E571-4542-85B8-8E85A049A3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ругие механизмы массопереноса при спекании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197000"/>
          <a:ext cx="9883800" cy="4809960"/>
        </p:xfrm>
        <a:graphic>
          <a:graphicData uri="http://schemas.openxmlformats.org/drawingml/2006/table">
            <a:tbl>
              <a:tblPr/>
              <a:tblGrid>
                <a:gridCol w="3295800"/>
                <a:gridCol w="3292200"/>
                <a:gridCol w="3295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зм массопере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радиуса шейки x = f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а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онно-вязкое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н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ная диффу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рение-конден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екание под влиянием прижимающих усилий (горячее прессов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4680" y="1976400"/>
            <a:ext cx="1376640" cy="558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414680" y="2624040"/>
            <a:ext cx="137664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79840" y="3314880"/>
            <a:ext cx="1295640" cy="614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4414680" y="4002120"/>
            <a:ext cx="1297080" cy="644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4253040" y="5013360"/>
            <a:ext cx="1457280" cy="59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55680" y="6216480"/>
            <a:ext cx="7210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Где самый быстры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7726-9140-42E8-92A5-DC7D85928A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405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фазовой диаграмме T(x) для бинарной системы Ar – 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ласти фазовых переход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е – жидкость (T, К)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данные: Long H.M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i Paolo F.S., 196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hem. Eng. Prog. Symp. Ser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9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0–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846600" y="0"/>
            <a:ext cx="6440400" cy="3117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4587840"/>
            <a:ext cx="10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анализе диаграммы необходимо учесть, что в соответствии с правилом фаз Гиббса линия солидуса – горизонтальная прямая, если в граничащих областях диаграммы существуют 3 фазы (например, в области D – Ж и Т2, а в области С – Ж и Т1). Если же линия солидуса – кривая, то в граничащих областях существуют только 2 фазы (например, по этой причине область B может быть только однофазной и содержит твердый раствор Т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07200" y="29829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05000" y="3429000"/>
            <a:ext cx="501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– жидкий раствор аргона в азоте (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7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09280" y="3429000"/>
            <a:ext cx="537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– твердый раствор Т1 аргона в азоте (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7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6200" y="3429000"/>
            <a:ext cx="8993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– 2 фазы: жидкость с 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70 % и твердое Т1 с 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62 % соотношение Ж/Т1 ~ (67-62)/(70-67) = 5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98440" y="3429000"/>
            <a:ext cx="9088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– 2 фазы: жидкость с 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63 % и твердое Т2 с 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40 % соотношение Ж/Т2 ~ (55-40)/(63-55) = 15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52640" y="3429000"/>
            <a:ext cx="8180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– 2 фазы: твердое Т1 с 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61 % и твердое Т2 с 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~ 54 % соотношение Т1/Т2 ~ (55-54)/(61-55) = 1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0040" y="3429000"/>
            <a:ext cx="608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– 1 фаза: твердый раствор Т2 азота в аргоне (х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4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160" y="2421000"/>
            <a:ext cx="40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пишите фазовый состав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в точках А-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429000"/>
            <a:ext cx="10287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4CDC-B4A6-4083-B739-ECCBEF01E4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ХАНИЗ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КОНДЕНСАЦИИ =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ТВАЛЬДОВСКОЕ СОЗРЕВАНИ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07920"/>
            <a:ext cx="10287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ц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лат.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tio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гущение) = переход вещества из газообразного состояния в жидкое или твёрдое вследствие его охлаждения или сжатия = фазовый переход 1 род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600" y="2276640"/>
            <a:ext cx="10274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ВАЛЬДОВСКОЕ СОЗРЕ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вещества от мелких дисперсных частиц к круп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644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льгельм Фридрих Остваль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wal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ига, Росс. империя) — балтийский немец,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-химик +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лософ–идеали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я = форма проявления энер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б. премия по химии 190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"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учение природы катализа и основополагающие исследования химического равновесия и скоростей химических реак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л.-корр. Петербургской 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40400" y="3068640"/>
            <a:ext cx="35355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E1FB-87EE-489D-BB68-68D24B63CF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пекание взаимно 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0080" y="1125360"/>
            <a:ext cx="100854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о спеканию твердых тел А +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ние новых ф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ая скорость диффуз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9498-9690-47E1-A27B-943A2BD515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5522760" cy="5904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48320" y="836640"/>
            <a:ext cx="4738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профиля царапины на поверхности (100) монокрист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Вг в процессе отжига (Т = 650 °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в контакте с кристаллом КВ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в контакте с кристаллом 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ифры у кадров — длительность отжи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ас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личение Х3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омогенный » отжиг кристаллов в парах (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КВг—КВг) все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одит к нивелировке царап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гузин Я.Е. Диффузионная з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C8CE-EEAF-442A-9366-A9C0E2213B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00680" y="836640"/>
            <a:ext cx="5386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новение гофра в диффузионной зоне контакта медь – никел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адины – сток ваканс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клости – сток ато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гузин Я.Е. Очерки о диффузии в кристалл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819680" cy="5823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332240" y="3141720"/>
            <a:ext cx="5954760" cy="27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AF07-3CD3-4D61-BF05-1EDFD19F04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00680" y="836640"/>
            <a:ext cx="538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гузин Я.Е. Очерки о диффузии в кристалл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27040" y="765000"/>
            <a:ext cx="9315360" cy="4840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173240" y="5734080"/>
            <a:ext cx="8264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да делась пустота в первом и втором случае? Что стало с плотностью материал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B100-3EF2-4B23-BD0E-3F19002D32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ффект Горского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5345280" cy="2276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86320" y="765000"/>
            <a:ext cx="490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днородное распределение атомов разных сортов в изогнутой пластине сплав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гузин Я.Е. Очерки о диффузии в кристаллах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. Е. Гегузии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ходящая диффузия и диффузионное последействие // УФ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49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п.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6197760" cy="3544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791320" y="3068640"/>
            <a:ext cx="4495680" cy="25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ОПЫТАТЬСЯ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ывести уравнение диффузии не пренебрегая давлением, температурой, электрическим потенциал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чем ещё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2122-7818-4C48-A1C4-69D286EA85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пекание взаимно 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46320" y="3429000"/>
            <a:ext cx="591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Что будет, когда в газовой фазе есть третий компонен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3960" y="1197000"/>
            <a:ext cx="469728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6819-FD18-4BEB-A9FA-8928839023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пекание взаимно 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46320" y="3429000"/>
            <a:ext cx="591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Что будет, когда в порошке есть третий компонен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93960" y="1197000"/>
            <a:ext cx="469728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DBC3-264B-48C4-A8D0-6DA8B5BC7A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ханизм переконденсации актуален  при рассмотрении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25360"/>
            <a:ext cx="10287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ов старения диспер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еконденсации частиц в обла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нега перед лави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ЕНИЕ И СОЗРЕВАНИЕ ПРЕЦИПИТАТОВ В МАССИВАХ 2D ОСТРОВКОВ К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енсированные среды и межфазные границ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№ 4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8)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-т физики полупроводников СО РАН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льдовское созревание наноструктур с квантовыми точками (ФТП 2001, Т 35, № 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2320" y="4720680"/>
            <a:ext cx="8216280" cy="1798200"/>
          </a:xfrm>
          <a:prstGeom prst="rect">
            <a:avLst/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жет быть вреден для описания кине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ждает иллюзии: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ое растворение мелких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се капли круглые + все кристаллы правильные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13DB-1C74-4A64-837C-96F4CE1D43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66400" cy="1341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Основные 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240" y="1483920"/>
            <a:ext cx="102870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поверхностная дифф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Химическая реакция 2) Диффузия в приповерхностные слои (в местах контакта компонентов)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Возникновение дефектов, разрыхление кристаллических реше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Образование и распад твердых раств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6) Спекание и рекристаллизация исходных веществ и продукта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Отжиг дефектов в кристаллической решетке проду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Возго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Диссоци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Возникновение и рост зародышей фазы продук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) Собственно хим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A8C6-F990-44FA-AF3E-B32F66B4E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125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ханизм зарастания (срастания)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коагуляци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600" y="1266840"/>
            <a:ext cx="729288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контакта образу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с отрицательной кривиз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) =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) =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=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) &gt;&gt;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в места контактов частиц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25040" y="4365720"/>
            <a:ext cx="1241280" cy="151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359400" y="3413160"/>
            <a:ext cx="3807000" cy="94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НОИ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рхность, образуемая вращением цепной линии; одна из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имальных поверхносте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ьная плёнк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роволок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42280" y="1571760"/>
            <a:ext cx="1023840" cy="363240"/>
          </a:xfrm>
          <a:custGeom>
            <a:avLst/>
            <a:gdLst/>
            <a:ahLst/>
            <a:rect l="l" t="t" r="r" b="b"/>
            <a:pathLst>
              <a:path w="573" h="458">
                <a:moveTo>
                  <a:pt x="287" y="0"/>
                </a:moveTo>
                <a:lnTo>
                  <a:pt x="271" y="0"/>
                </a:lnTo>
                <a:lnTo>
                  <a:pt x="257" y="1"/>
                </a:lnTo>
                <a:lnTo>
                  <a:pt x="243" y="2"/>
                </a:lnTo>
                <a:lnTo>
                  <a:pt x="228" y="5"/>
                </a:lnTo>
                <a:lnTo>
                  <a:pt x="215" y="8"/>
                </a:lnTo>
                <a:lnTo>
                  <a:pt x="202" y="10"/>
                </a:lnTo>
                <a:lnTo>
                  <a:pt x="189" y="14"/>
                </a:lnTo>
                <a:lnTo>
                  <a:pt x="175" y="19"/>
                </a:lnTo>
                <a:lnTo>
                  <a:pt x="162" y="23"/>
                </a:lnTo>
                <a:lnTo>
                  <a:pt x="150" y="28"/>
                </a:lnTo>
                <a:lnTo>
                  <a:pt x="138" y="34"/>
                </a:lnTo>
                <a:lnTo>
                  <a:pt x="127" y="39"/>
                </a:lnTo>
                <a:lnTo>
                  <a:pt x="115" y="45"/>
                </a:lnTo>
                <a:lnTo>
                  <a:pt x="105" y="52"/>
                </a:lnTo>
                <a:lnTo>
                  <a:pt x="94" y="59"/>
                </a:lnTo>
                <a:lnTo>
                  <a:pt x="84" y="67"/>
                </a:lnTo>
                <a:lnTo>
                  <a:pt x="74" y="75"/>
                </a:lnTo>
                <a:lnTo>
                  <a:pt x="65" y="83"/>
                </a:lnTo>
                <a:lnTo>
                  <a:pt x="58" y="92"/>
                </a:lnTo>
                <a:lnTo>
                  <a:pt x="49" y="101"/>
                </a:lnTo>
                <a:lnTo>
                  <a:pt x="42" y="110"/>
                </a:lnTo>
                <a:lnTo>
                  <a:pt x="35" y="120"/>
                </a:lnTo>
                <a:lnTo>
                  <a:pt x="29" y="130"/>
                </a:lnTo>
                <a:lnTo>
                  <a:pt x="22" y="140"/>
                </a:lnTo>
                <a:lnTo>
                  <a:pt x="18" y="151"/>
                </a:lnTo>
                <a:lnTo>
                  <a:pt x="14" y="161"/>
                </a:lnTo>
                <a:lnTo>
                  <a:pt x="9" y="172"/>
                </a:lnTo>
                <a:lnTo>
                  <a:pt x="6" y="183"/>
                </a:lnTo>
                <a:lnTo>
                  <a:pt x="4" y="194"/>
                </a:lnTo>
                <a:lnTo>
                  <a:pt x="2" y="206"/>
                </a:lnTo>
                <a:lnTo>
                  <a:pt x="0" y="217"/>
                </a:lnTo>
                <a:lnTo>
                  <a:pt x="0" y="229"/>
                </a:lnTo>
                <a:lnTo>
                  <a:pt x="0" y="241"/>
                </a:lnTo>
                <a:lnTo>
                  <a:pt x="2" y="253"/>
                </a:lnTo>
                <a:lnTo>
                  <a:pt x="4" y="264"/>
                </a:lnTo>
                <a:lnTo>
                  <a:pt x="6" y="275"/>
                </a:lnTo>
                <a:lnTo>
                  <a:pt x="9" y="286"/>
                </a:lnTo>
                <a:lnTo>
                  <a:pt x="14" y="297"/>
                </a:lnTo>
                <a:lnTo>
                  <a:pt x="18" y="308"/>
                </a:lnTo>
                <a:lnTo>
                  <a:pt x="22" y="318"/>
                </a:lnTo>
                <a:lnTo>
                  <a:pt x="29" y="328"/>
                </a:lnTo>
                <a:lnTo>
                  <a:pt x="35" y="338"/>
                </a:lnTo>
                <a:lnTo>
                  <a:pt x="42" y="347"/>
                </a:lnTo>
                <a:lnTo>
                  <a:pt x="49" y="357"/>
                </a:lnTo>
                <a:lnTo>
                  <a:pt x="58" y="366"/>
                </a:lnTo>
                <a:lnTo>
                  <a:pt x="65" y="374"/>
                </a:lnTo>
                <a:lnTo>
                  <a:pt x="74" y="383"/>
                </a:lnTo>
                <a:lnTo>
                  <a:pt x="84" y="390"/>
                </a:lnTo>
                <a:lnTo>
                  <a:pt x="94" y="399"/>
                </a:lnTo>
                <a:lnTo>
                  <a:pt x="105" y="406"/>
                </a:lnTo>
                <a:lnTo>
                  <a:pt x="115" y="413"/>
                </a:lnTo>
                <a:lnTo>
                  <a:pt x="127" y="420"/>
                </a:lnTo>
                <a:lnTo>
                  <a:pt x="138" y="425"/>
                </a:lnTo>
                <a:lnTo>
                  <a:pt x="150" y="430"/>
                </a:lnTo>
                <a:lnTo>
                  <a:pt x="162" y="436"/>
                </a:lnTo>
                <a:lnTo>
                  <a:pt x="175" y="440"/>
                </a:lnTo>
                <a:lnTo>
                  <a:pt x="189" y="444"/>
                </a:lnTo>
                <a:lnTo>
                  <a:pt x="202" y="447"/>
                </a:lnTo>
                <a:lnTo>
                  <a:pt x="215" y="451"/>
                </a:lnTo>
                <a:lnTo>
                  <a:pt x="228" y="454"/>
                </a:lnTo>
                <a:lnTo>
                  <a:pt x="243" y="455"/>
                </a:lnTo>
                <a:lnTo>
                  <a:pt x="257" y="457"/>
                </a:lnTo>
                <a:lnTo>
                  <a:pt x="271" y="458"/>
                </a:lnTo>
                <a:lnTo>
                  <a:pt x="287" y="458"/>
                </a:lnTo>
                <a:lnTo>
                  <a:pt x="301" y="458"/>
                </a:lnTo>
                <a:lnTo>
                  <a:pt x="315" y="457"/>
                </a:lnTo>
                <a:lnTo>
                  <a:pt x="330" y="455"/>
                </a:lnTo>
                <a:lnTo>
                  <a:pt x="344" y="454"/>
                </a:lnTo>
                <a:lnTo>
                  <a:pt x="358" y="451"/>
                </a:lnTo>
                <a:lnTo>
                  <a:pt x="371" y="447"/>
                </a:lnTo>
                <a:lnTo>
                  <a:pt x="385" y="444"/>
                </a:lnTo>
                <a:lnTo>
                  <a:pt x="398" y="440"/>
                </a:lnTo>
                <a:lnTo>
                  <a:pt x="411" y="436"/>
                </a:lnTo>
                <a:lnTo>
                  <a:pt x="423" y="430"/>
                </a:lnTo>
                <a:lnTo>
                  <a:pt x="435" y="425"/>
                </a:lnTo>
                <a:lnTo>
                  <a:pt x="446" y="420"/>
                </a:lnTo>
                <a:lnTo>
                  <a:pt x="457" y="413"/>
                </a:lnTo>
                <a:lnTo>
                  <a:pt x="468" y="406"/>
                </a:lnTo>
                <a:lnTo>
                  <a:pt x="479" y="399"/>
                </a:lnTo>
                <a:lnTo>
                  <a:pt x="489" y="392"/>
                </a:lnTo>
                <a:lnTo>
                  <a:pt x="498" y="383"/>
                </a:lnTo>
                <a:lnTo>
                  <a:pt x="507" y="374"/>
                </a:lnTo>
                <a:lnTo>
                  <a:pt x="516" y="366"/>
                </a:lnTo>
                <a:lnTo>
                  <a:pt x="523" y="357"/>
                </a:lnTo>
                <a:lnTo>
                  <a:pt x="531" y="347"/>
                </a:lnTo>
                <a:lnTo>
                  <a:pt x="538" y="338"/>
                </a:lnTo>
                <a:lnTo>
                  <a:pt x="544" y="328"/>
                </a:lnTo>
                <a:lnTo>
                  <a:pt x="550" y="318"/>
                </a:lnTo>
                <a:lnTo>
                  <a:pt x="555" y="308"/>
                </a:lnTo>
                <a:lnTo>
                  <a:pt x="560" y="297"/>
                </a:lnTo>
                <a:lnTo>
                  <a:pt x="564" y="286"/>
                </a:lnTo>
                <a:lnTo>
                  <a:pt x="566" y="275"/>
                </a:lnTo>
                <a:lnTo>
                  <a:pt x="569" y="264"/>
                </a:lnTo>
                <a:lnTo>
                  <a:pt x="571" y="253"/>
                </a:lnTo>
                <a:lnTo>
                  <a:pt x="572" y="241"/>
                </a:lnTo>
                <a:lnTo>
                  <a:pt x="573" y="229"/>
                </a:lnTo>
                <a:lnTo>
                  <a:pt x="572" y="217"/>
                </a:lnTo>
                <a:lnTo>
                  <a:pt x="571" y="206"/>
                </a:lnTo>
                <a:lnTo>
                  <a:pt x="569" y="194"/>
                </a:lnTo>
                <a:lnTo>
                  <a:pt x="566" y="183"/>
                </a:lnTo>
                <a:lnTo>
                  <a:pt x="564" y="172"/>
                </a:lnTo>
                <a:lnTo>
                  <a:pt x="560" y="161"/>
                </a:lnTo>
                <a:lnTo>
                  <a:pt x="555" y="151"/>
                </a:lnTo>
                <a:lnTo>
                  <a:pt x="550" y="140"/>
                </a:lnTo>
                <a:lnTo>
                  <a:pt x="544" y="130"/>
                </a:lnTo>
                <a:lnTo>
                  <a:pt x="538" y="120"/>
                </a:lnTo>
                <a:lnTo>
                  <a:pt x="531" y="110"/>
                </a:lnTo>
                <a:lnTo>
                  <a:pt x="523" y="101"/>
                </a:lnTo>
                <a:lnTo>
                  <a:pt x="516" y="92"/>
                </a:lnTo>
                <a:lnTo>
                  <a:pt x="507" y="83"/>
                </a:lnTo>
                <a:lnTo>
                  <a:pt x="498" y="75"/>
                </a:lnTo>
                <a:lnTo>
                  <a:pt x="489" y="67"/>
                </a:lnTo>
                <a:lnTo>
                  <a:pt x="479" y="59"/>
                </a:lnTo>
                <a:lnTo>
                  <a:pt x="468" y="52"/>
                </a:lnTo>
                <a:lnTo>
                  <a:pt x="457" y="45"/>
                </a:lnTo>
                <a:lnTo>
                  <a:pt x="446" y="39"/>
                </a:lnTo>
                <a:lnTo>
                  <a:pt x="435" y="34"/>
                </a:lnTo>
                <a:lnTo>
                  <a:pt x="423" y="28"/>
                </a:lnTo>
                <a:lnTo>
                  <a:pt x="411" y="23"/>
                </a:lnTo>
                <a:lnTo>
                  <a:pt x="398" y="19"/>
                </a:lnTo>
                <a:lnTo>
                  <a:pt x="385" y="14"/>
                </a:lnTo>
                <a:lnTo>
                  <a:pt x="371" y="10"/>
                </a:lnTo>
                <a:lnTo>
                  <a:pt x="358" y="8"/>
                </a:lnTo>
                <a:lnTo>
                  <a:pt x="344" y="5"/>
                </a:lnTo>
                <a:lnTo>
                  <a:pt x="330" y="2"/>
                </a:lnTo>
                <a:lnTo>
                  <a:pt x="315" y="1"/>
                </a:lnTo>
                <a:lnTo>
                  <a:pt x="301" y="0"/>
                </a:lnTo>
                <a:lnTo>
                  <a:pt x="287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42280" y="1571760"/>
            <a:ext cx="1023840" cy="363240"/>
          </a:xfrm>
          <a:custGeom>
            <a:avLst/>
            <a:gdLst/>
            <a:ahLst/>
            <a:rect l="l" t="t" r="r" b="b"/>
            <a:pathLst>
              <a:path w="573" h="458">
                <a:moveTo>
                  <a:pt x="287" y="0"/>
                </a:moveTo>
                <a:lnTo>
                  <a:pt x="271" y="0"/>
                </a:lnTo>
                <a:lnTo>
                  <a:pt x="257" y="1"/>
                </a:lnTo>
                <a:lnTo>
                  <a:pt x="243" y="2"/>
                </a:lnTo>
                <a:lnTo>
                  <a:pt x="228" y="5"/>
                </a:lnTo>
                <a:lnTo>
                  <a:pt x="215" y="8"/>
                </a:lnTo>
                <a:lnTo>
                  <a:pt x="202" y="10"/>
                </a:lnTo>
                <a:lnTo>
                  <a:pt x="189" y="14"/>
                </a:lnTo>
                <a:lnTo>
                  <a:pt x="175" y="19"/>
                </a:lnTo>
                <a:lnTo>
                  <a:pt x="162" y="23"/>
                </a:lnTo>
                <a:lnTo>
                  <a:pt x="150" y="28"/>
                </a:lnTo>
                <a:lnTo>
                  <a:pt x="138" y="34"/>
                </a:lnTo>
                <a:lnTo>
                  <a:pt x="127" y="39"/>
                </a:lnTo>
                <a:lnTo>
                  <a:pt x="115" y="45"/>
                </a:lnTo>
                <a:lnTo>
                  <a:pt x="105" y="52"/>
                </a:lnTo>
                <a:lnTo>
                  <a:pt x="94" y="59"/>
                </a:lnTo>
                <a:lnTo>
                  <a:pt x="84" y="67"/>
                </a:lnTo>
                <a:lnTo>
                  <a:pt x="74" y="75"/>
                </a:lnTo>
                <a:lnTo>
                  <a:pt x="65" y="83"/>
                </a:lnTo>
                <a:lnTo>
                  <a:pt x="58" y="92"/>
                </a:lnTo>
                <a:lnTo>
                  <a:pt x="49" y="101"/>
                </a:lnTo>
                <a:lnTo>
                  <a:pt x="42" y="110"/>
                </a:lnTo>
                <a:lnTo>
                  <a:pt x="35" y="120"/>
                </a:lnTo>
                <a:lnTo>
                  <a:pt x="29" y="130"/>
                </a:lnTo>
                <a:lnTo>
                  <a:pt x="22" y="140"/>
                </a:lnTo>
                <a:lnTo>
                  <a:pt x="18" y="151"/>
                </a:lnTo>
                <a:lnTo>
                  <a:pt x="14" y="161"/>
                </a:lnTo>
                <a:lnTo>
                  <a:pt x="9" y="172"/>
                </a:lnTo>
                <a:lnTo>
                  <a:pt x="6" y="183"/>
                </a:lnTo>
                <a:lnTo>
                  <a:pt x="4" y="194"/>
                </a:lnTo>
                <a:lnTo>
                  <a:pt x="2" y="206"/>
                </a:lnTo>
                <a:lnTo>
                  <a:pt x="0" y="217"/>
                </a:lnTo>
                <a:lnTo>
                  <a:pt x="0" y="229"/>
                </a:lnTo>
                <a:lnTo>
                  <a:pt x="0" y="241"/>
                </a:lnTo>
                <a:lnTo>
                  <a:pt x="2" y="253"/>
                </a:lnTo>
                <a:lnTo>
                  <a:pt x="4" y="264"/>
                </a:lnTo>
                <a:lnTo>
                  <a:pt x="6" y="275"/>
                </a:lnTo>
                <a:lnTo>
                  <a:pt x="9" y="286"/>
                </a:lnTo>
                <a:lnTo>
                  <a:pt x="14" y="297"/>
                </a:lnTo>
                <a:lnTo>
                  <a:pt x="18" y="308"/>
                </a:lnTo>
                <a:lnTo>
                  <a:pt x="22" y="318"/>
                </a:lnTo>
                <a:lnTo>
                  <a:pt x="29" y="328"/>
                </a:lnTo>
                <a:lnTo>
                  <a:pt x="35" y="338"/>
                </a:lnTo>
                <a:lnTo>
                  <a:pt x="42" y="347"/>
                </a:lnTo>
                <a:lnTo>
                  <a:pt x="49" y="357"/>
                </a:lnTo>
                <a:lnTo>
                  <a:pt x="58" y="366"/>
                </a:lnTo>
                <a:lnTo>
                  <a:pt x="65" y="374"/>
                </a:lnTo>
                <a:lnTo>
                  <a:pt x="74" y="383"/>
                </a:lnTo>
                <a:lnTo>
                  <a:pt x="84" y="390"/>
                </a:lnTo>
                <a:lnTo>
                  <a:pt x="94" y="399"/>
                </a:lnTo>
                <a:lnTo>
                  <a:pt x="105" y="406"/>
                </a:lnTo>
                <a:lnTo>
                  <a:pt x="115" y="413"/>
                </a:lnTo>
                <a:lnTo>
                  <a:pt x="127" y="420"/>
                </a:lnTo>
                <a:lnTo>
                  <a:pt x="138" y="425"/>
                </a:lnTo>
                <a:lnTo>
                  <a:pt x="150" y="430"/>
                </a:lnTo>
                <a:lnTo>
                  <a:pt x="162" y="436"/>
                </a:lnTo>
                <a:lnTo>
                  <a:pt x="175" y="440"/>
                </a:lnTo>
                <a:lnTo>
                  <a:pt x="189" y="444"/>
                </a:lnTo>
                <a:lnTo>
                  <a:pt x="202" y="447"/>
                </a:lnTo>
                <a:lnTo>
                  <a:pt x="215" y="451"/>
                </a:lnTo>
                <a:lnTo>
                  <a:pt x="228" y="454"/>
                </a:lnTo>
                <a:lnTo>
                  <a:pt x="243" y="455"/>
                </a:lnTo>
                <a:lnTo>
                  <a:pt x="257" y="457"/>
                </a:lnTo>
                <a:lnTo>
                  <a:pt x="271" y="458"/>
                </a:lnTo>
                <a:lnTo>
                  <a:pt x="287" y="458"/>
                </a:lnTo>
                <a:lnTo>
                  <a:pt x="301" y="458"/>
                </a:lnTo>
                <a:lnTo>
                  <a:pt x="315" y="457"/>
                </a:lnTo>
                <a:lnTo>
                  <a:pt x="330" y="455"/>
                </a:lnTo>
                <a:lnTo>
                  <a:pt x="344" y="454"/>
                </a:lnTo>
                <a:lnTo>
                  <a:pt x="358" y="451"/>
                </a:lnTo>
                <a:lnTo>
                  <a:pt x="371" y="447"/>
                </a:lnTo>
                <a:lnTo>
                  <a:pt x="385" y="444"/>
                </a:lnTo>
                <a:lnTo>
                  <a:pt x="398" y="440"/>
                </a:lnTo>
                <a:lnTo>
                  <a:pt x="411" y="436"/>
                </a:lnTo>
                <a:lnTo>
                  <a:pt x="423" y="430"/>
                </a:lnTo>
                <a:lnTo>
                  <a:pt x="435" y="425"/>
                </a:lnTo>
                <a:lnTo>
                  <a:pt x="446" y="420"/>
                </a:lnTo>
                <a:lnTo>
                  <a:pt x="457" y="413"/>
                </a:lnTo>
                <a:lnTo>
                  <a:pt x="468" y="406"/>
                </a:lnTo>
                <a:lnTo>
                  <a:pt x="479" y="399"/>
                </a:lnTo>
                <a:lnTo>
                  <a:pt x="489" y="392"/>
                </a:lnTo>
                <a:lnTo>
                  <a:pt x="498" y="383"/>
                </a:lnTo>
                <a:lnTo>
                  <a:pt x="507" y="374"/>
                </a:lnTo>
                <a:lnTo>
                  <a:pt x="516" y="366"/>
                </a:lnTo>
                <a:lnTo>
                  <a:pt x="523" y="357"/>
                </a:lnTo>
                <a:lnTo>
                  <a:pt x="531" y="347"/>
                </a:lnTo>
                <a:lnTo>
                  <a:pt x="538" y="338"/>
                </a:lnTo>
                <a:lnTo>
                  <a:pt x="544" y="328"/>
                </a:lnTo>
                <a:lnTo>
                  <a:pt x="550" y="318"/>
                </a:lnTo>
                <a:lnTo>
                  <a:pt x="555" y="308"/>
                </a:lnTo>
                <a:lnTo>
                  <a:pt x="560" y="297"/>
                </a:lnTo>
                <a:lnTo>
                  <a:pt x="564" y="286"/>
                </a:lnTo>
                <a:lnTo>
                  <a:pt x="566" y="275"/>
                </a:lnTo>
                <a:lnTo>
                  <a:pt x="569" y="264"/>
                </a:lnTo>
                <a:lnTo>
                  <a:pt x="571" y="253"/>
                </a:lnTo>
                <a:lnTo>
                  <a:pt x="572" y="241"/>
                </a:lnTo>
                <a:lnTo>
                  <a:pt x="573" y="229"/>
                </a:lnTo>
                <a:lnTo>
                  <a:pt x="572" y="217"/>
                </a:lnTo>
                <a:lnTo>
                  <a:pt x="571" y="206"/>
                </a:lnTo>
                <a:lnTo>
                  <a:pt x="569" y="194"/>
                </a:lnTo>
                <a:lnTo>
                  <a:pt x="566" y="183"/>
                </a:lnTo>
                <a:lnTo>
                  <a:pt x="564" y="172"/>
                </a:lnTo>
                <a:lnTo>
                  <a:pt x="560" y="161"/>
                </a:lnTo>
                <a:lnTo>
                  <a:pt x="555" y="151"/>
                </a:lnTo>
                <a:lnTo>
                  <a:pt x="550" y="140"/>
                </a:lnTo>
                <a:lnTo>
                  <a:pt x="544" y="130"/>
                </a:lnTo>
                <a:lnTo>
                  <a:pt x="538" y="120"/>
                </a:lnTo>
                <a:lnTo>
                  <a:pt x="531" y="110"/>
                </a:lnTo>
                <a:lnTo>
                  <a:pt x="523" y="101"/>
                </a:lnTo>
                <a:lnTo>
                  <a:pt x="516" y="92"/>
                </a:lnTo>
                <a:lnTo>
                  <a:pt x="507" y="83"/>
                </a:lnTo>
                <a:lnTo>
                  <a:pt x="498" y="75"/>
                </a:lnTo>
                <a:lnTo>
                  <a:pt x="489" y="67"/>
                </a:lnTo>
                <a:lnTo>
                  <a:pt x="479" y="59"/>
                </a:lnTo>
                <a:lnTo>
                  <a:pt x="468" y="52"/>
                </a:lnTo>
                <a:lnTo>
                  <a:pt x="457" y="45"/>
                </a:lnTo>
                <a:lnTo>
                  <a:pt x="446" y="39"/>
                </a:lnTo>
                <a:lnTo>
                  <a:pt x="435" y="34"/>
                </a:lnTo>
                <a:lnTo>
                  <a:pt x="423" y="28"/>
                </a:lnTo>
                <a:lnTo>
                  <a:pt x="411" y="23"/>
                </a:lnTo>
                <a:lnTo>
                  <a:pt x="398" y="19"/>
                </a:lnTo>
                <a:lnTo>
                  <a:pt x="385" y="14"/>
                </a:lnTo>
                <a:lnTo>
                  <a:pt x="371" y="10"/>
                </a:lnTo>
                <a:lnTo>
                  <a:pt x="358" y="8"/>
                </a:lnTo>
                <a:lnTo>
                  <a:pt x="344" y="5"/>
                </a:lnTo>
                <a:lnTo>
                  <a:pt x="330" y="2"/>
                </a:lnTo>
                <a:lnTo>
                  <a:pt x="315" y="1"/>
                </a:lnTo>
                <a:lnTo>
                  <a:pt x="301" y="0"/>
                </a:lnTo>
                <a:lnTo>
                  <a:pt x="28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66160" y="1935000"/>
            <a:ext cx="1666800" cy="644760"/>
          </a:xfrm>
          <a:custGeom>
            <a:avLst/>
            <a:gdLst/>
            <a:ahLst/>
            <a:rect l="l" t="t" r="r" b="b"/>
            <a:pathLst>
              <a:path w="936" h="813">
                <a:moveTo>
                  <a:pt x="468" y="0"/>
                </a:moveTo>
                <a:lnTo>
                  <a:pt x="444" y="0"/>
                </a:lnTo>
                <a:lnTo>
                  <a:pt x="421" y="2"/>
                </a:lnTo>
                <a:lnTo>
                  <a:pt x="398" y="5"/>
                </a:lnTo>
                <a:lnTo>
                  <a:pt x="374" y="9"/>
                </a:lnTo>
                <a:lnTo>
                  <a:pt x="351" y="13"/>
                </a:lnTo>
                <a:lnTo>
                  <a:pt x="329" y="19"/>
                </a:lnTo>
                <a:lnTo>
                  <a:pt x="307" y="25"/>
                </a:lnTo>
                <a:lnTo>
                  <a:pt x="286" y="32"/>
                </a:lnTo>
                <a:lnTo>
                  <a:pt x="265" y="40"/>
                </a:lnTo>
                <a:lnTo>
                  <a:pt x="246" y="50"/>
                </a:lnTo>
                <a:lnTo>
                  <a:pt x="226" y="59"/>
                </a:lnTo>
                <a:lnTo>
                  <a:pt x="207" y="69"/>
                </a:lnTo>
                <a:lnTo>
                  <a:pt x="188" y="81"/>
                </a:lnTo>
                <a:lnTo>
                  <a:pt x="171" y="93"/>
                </a:lnTo>
                <a:lnTo>
                  <a:pt x="154" y="106"/>
                </a:lnTo>
                <a:lnTo>
                  <a:pt x="138" y="120"/>
                </a:lnTo>
                <a:lnTo>
                  <a:pt x="122" y="134"/>
                </a:lnTo>
                <a:lnTo>
                  <a:pt x="107" y="148"/>
                </a:lnTo>
                <a:lnTo>
                  <a:pt x="94" y="164"/>
                </a:lnTo>
                <a:lnTo>
                  <a:pt x="81" y="180"/>
                </a:lnTo>
                <a:lnTo>
                  <a:pt x="68" y="196"/>
                </a:lnTo>
                <a:lnTo>
                  <a:pt x="57" y="213"/>
                </a:lnTo>
                <a:lnTo>
                  <a:pt x="46" y="230"/>
                </a:lnTo>
                <a:lnTo>
                  <a:pt x="38" y="249"/>
                </a:lnTo>
                <a:lnTo>
                  <a:pt x="29" y="267"/>
                </a:lnTo>
                <a:lnTo>
                  <a:pt x="21" y="286"/>
                </a:lnTo>
                <a:lnTo>
                  <a:pt x="16" y="304"/>
                </a:lnTo>
                <a:lnTo>
                  <a:pt x="12" y="315"/>
                </a:lnTo>
                <a:lnTo>
                  <a:pt x="10" y="325"/>
                </a:lnTo>
                <a:lnTo>
                  <a:pt x="8" y="335"/>
                </a:lnTo>
                <a:lnTo>
                  <a:pt x="6" y="344"/>
                </a:lnTo>
                <a:lnTo>
                  <a:pt x="5" y="355"/>
                </a:lnTo>
                <a:lnTo>
                  <a:pt x="2" y="365"/>
                </a:lnTo>
                <a:lnTo>
                  <a:pt x="1" y="375"/>
                </a:lnTo>
                <a:lnTo>
                  <a:pt x="1" y="386"/>
                </a:lnTo>
                <a:lnTo>
                  <a:pt x="0" y="396"/>
                </a:lnTo>
                <a:lnTo>
                  <a:pt x="0" y="407"/>
                </a:lnTo>
                <a:lnTo>
                  <a:pt x="0" y="417"/>
                </a:lnTo>
                <a:lnTo>
                  <a:pt x="1" y="427"/>
                </a:lnTo>
                <a:lnTo>
                  <a:pt x="2" y="438"/>
                </a:lnTo>
                <a:lnTo>
                  <a:pt x="2" y="449"/>
                </a:lnTo>
                <a:lnTo>
                  <a:pt x="5" y="458"/>
                </a:lnTo>
                <a:lnTo>
                  <a:pt x="6" y="469"/>
                </a:lnTo>
                <a:lnTo>
                  <a:pt x="8" y="479"/>
                </a:lnTo>
                <a:lnTo>
                  <a:pt x="10" y="488"/>
                </a:lnTo>
                <a:lnTo>
                  <a:pt x="12" y="498"/>
                </a:lnTo>
                <a:lnTo>
                  <a:pt x="16" y="509"/>
                </a:lnTo>
                <a:lnTo>
                  <a:pt x="21" y="527"/>
                </a:lnTo>
                <a:lnTo>
                  <a:pt x="29" y="546"/>
                </a:lnTo>
                <a:lnTo>
                  <a:pt x="38" y="565"/>
                </a:lnTo>
                <a:lnTo>
                  <a:pt x="46" y="583"/>
                </a:lnTo>
                <a:lnTo>
                  <a:pt x="57" y="600"/>
                </a:lnTo>
                <a:lnTo>
                  <a:pt x="68" y="617"/>
                </a:lnTo>
                <a:lnTo>
                  <a:pt x="81" y="633"/>
                </a:lnTo>
                <a:lnTo>
                  <a:pt x="94" y="650"/>
                </a:lnTo>
                <a:lnTo>
                  <a:pt x="107" y="666"/>
                </a:lnTo>
                <a:lnTo>
                  <a:pt x="122" y="680"/>
                </a:lnTo>
                <a:lnTo>
                  <a:pt x="138" y="694"/>
                </a:lnTo>
                <a:lnTo>
                  <a:pt x="154" y="708"/>
                </a:lnTo>
                <a:lnTo>
                  <a:pt x="171" y="721"/>
                </a:lnTo>
                <a:lnTo>
                  <a:pt x="188" y="732"/>
                </a:lnTo>
                <a:lnTo>
                  <a:pt x="207" y="744"/>
                </a:lnTo>
                <a:lnTo>
                  <a:pt x="226" y="754"/>
                </a:lnTo>
                <a:lnTo>
                  <a:pt x="246" y="764"/>
                </a:lnTo>
                <a:lnTo>
                  <a:pt x="265" y="773"/>
                </a:lnTo>
                <a:lnTo>
                  <a:pt x="286" y="781"/>
                </a:lnTo>
                <a:lnTo>
                  <a:pt x="307" y="788"/>
                </a:lnTo>
                <a:lnTo>
                  <a:pt x="329" y="795"/>
                </a:lnTo>
                <a:lnTo>
                  <a:pt x="351" y="800"/>
                </a:lnTo>
                <a:lnTo>
                  <a:pt x="374" y="804"/>
                </a:lnTo>
                <a:lnTo>
                  <a:pt x="396" y="809"/>
                </a:lnTo>
                <a:lnTo>
                  <a:pt x="421" y="811"/>
                </a:lnTo>
                <a:lnTo>
                  <a:pt x="444" y="813"/>
                </a:lnTo>
                <a:lnTo>
                  <a:pt x="468" y="813"/>
                </a:lnTo>
                <a:lnTo>
                  <a:pt x="492" y="813"/>
                </a:lnTo>
                <a:lnTo>
                  <a:pt x="516" y="811"/>
                </a:lnTo>
                <a:lnTo>
                  <a:pt x="539" y="809"/>
                </a:lnTo>
                <a:lnTo>
                  <a:pt x="563" y="804"/>
                </a:lnTo>
                <a:lnTo>
                  <a:pt x="585" y="800"/>
                </a:lnTo>
                <a:lnTo>
                  <a:pt x="608" y="795"/>
                </a:lnTo>
                <a:lnTo>
                  <a:pt x="629" y="788"/>
                </a:lnTo>
                <a:lnTo>
                  <a:pt x="651" y="781"/>
                </a:lnTo>
                <a:lnTo>
                  <a:pt x="672" y="773"/>
                </a:lnTo>
                <a:lnTo>
                  <a:pt x="691" y="765"/>
                </a:lnTo>
                <a:lnTo>
                  <a:pt x="711" y="754"/>
                </a:lnTo>
                <a:lnTo>
                  <a:pt x="730" y="744"/>
                </a:lnTo>
                <a:lnTo>
                  <a:pt x="749" y="732"/>
                </a:lnTo>
                <a:lnTo>
                  <a:pt x="766" y="721"/>
                </a:lnTo>
                <a:lnTo>
                  <a:pt x="783" y="708"/>
                </a:lnTo>
                <a:lnTo>
                  <a:pt x="799" y="694"/>
                </a:lnTo>
                <a:lnTo>
                  <a:pt x="815" y="680"/>
                </a:lnTo>
                <a:lnTo>
                  <a:pt x="829" y="666"/>
                </a:lnTo>
                <a:lnTo>
                  <a:pt x="843" y="650"/>
                </a:lnTo>
                <a:lnTo>
                  <a:pt x="856" y="633"/>
                </a:lnTo>
                <a:lnTo>
                  <a:pt x="869" y="617"/>
                </a:lnTo>
                <a:lnTo>
                  <a:pt x="880" y="600"/>
                </a:lnTo>
                <a:lnTo>
                  <a:pt x="889" y="583"/>
                </a:lnTo>
                <a:lnTo>
                  <a:pt x="899" y="565"/>
                </a:lnTo>
                <a:lnTo>
                  <a:pt x="907" y="546"/>
                </a:lnTo>
                <a:lnTo>
                  <a:pt x="915" y="527"/>
                </a:lnTo>
                <a:lnTo>
                  <a:pt x="921" y="509"/>
                </a:lnTo>
                <a:lnTo>
                  <a:pt x="924" y="498"/>
                </a:lnTo>
                <a:lnTo>
                  <a:pt x="927" y="488"/>
                </a:lnTo>
                <a:lnTo>
                  <a:pt x="929" y="479"/>
                </a:lnTo>
                <a:lnTo>
                  <a:pt x="930" y="469"/>
                </a:lnTo>
                <a:lnTo>
                  <a:pt x="932" y="458"/>
                </a:lnTo>
                <a:lnTo>
                  <a:pt x="933" y="449"/>
                </a:lnTo>
                <a:lnTo>
                  <a:pt x="935" y="438"/>
                </a:lnTo>
                <a:lnTo>
                  <a:pt x="936" y="427"/>
                </a:lnTo>
                <a:lnTo>
                  <a:pt x="936" y="417"/>
                </a:lnTo>
                <a:lnTo>
                  <a:pt x="936" y="407"/>
                </a:lnTo>
                <a:lnTo>
                  <a:pt x="936" y="396"/>
                </a:lnTo>
                <a:lnTo>
                  <a:pt x="936" y="386"/>
                </a:lnTo>
                <a:lnTo>
                  <a:pt x="935" y="375"/>
                </a:lnTo>
                <a:lnTo>
                  <a:pt x="933" y="365"/>
                </a:lnTo>
                <a:lnTo>
                  <a:pt x="932" y="355"/>
                </a:lnTo>
                <a:lnTo>
                  <a:pt x="930" y="344"/>
                </a:lnTo>
                <a:lnTo>
                  <a:pt x="929" y="335"/>
                </a:lnTo>
                <a:lnTo>
                  <a:pt x="927" y="325"/>
                </a:lnTo>
                <a:lnTo>
                  <a:pt x="924" y="315"/>
                </a:lnTo>
                <a:lnTo>
                  <a:pt x="921" y="306"/>
                </a:lnTo>
                <a:lnTo>
                  <a:pt x="915" y="286"/>
                </a:lnTo>
                <a:lnTo>
                  <a:pt x="907" y="267"/>
                </a:lnTo>
                <a:lnTo>
                  <a:pt x="899" y="249"/>
                </a:lnTo>
                <a:lnTo>
                  <a:pt x="889" y="230"/>
                </a:lnTo>
                <a:lnTo>
                  <a:pt x="880" y="213"/>
                </a:lnTo>
                <a:lnTo>
                  <a:pt x="869" y="196"/>
                </a:lnTo>
                <a:lnTo>
                  <a:pt x="856" y="180"/>
                </a:lnTo>
                <a:lnTo>
                  <a:pt x="843" y="164"/>
                </a:lnTo>
                <a:lnTo>
                  <a:pt x="829" y="148"/>
                </a:lnTo>
                <a:lnTo>
                  <a:pt x="815" y="134"/>
                </a:lnTo>
                <a:lnTo>
                  <a:pt x="799" y="120"/>
                </a:lnTo>
                <a:lnTo>
                  <a:pt x="783" y="106"/>
                </a:lnTo>
                <a:lnTo>
                  <a:pt x="766" y="93"/>
                </a:lnTo>
                <a:lnTo>
                  <a:pt x="749" y="81"/>
                </a:lnTo>
                <a:lnTo>
                  <a:pt x="730" y="69"/>
                </a:lnTo>
                <a:lnTo>
                  <a:pt x="711" y="59"/>
                </a:lnTo>
                <a:lnTo>
                  <a:pt x="691" y="50"/>
                </a:lnTo>
                <a:lnTo>
                  <a:pt x="670" y="40"/>
                </a:lnTo>
                <a:lnTo>
                  <a:pt x="651" y="32"/>
                </a:lnTo>
                <a:lnTo>
                  <a:pt x="629" y="25"/>
                </a:lnTo>
                <a:lnTo>
                  <a:pt x="608" y="19"/>
                </a:lnTo>
                <a:lnTo>
                  <a:pt x="585" y="13"/>
                </a:lnTo>
                <a:lnTo>
                  <a:pt x="563" y="9"/>
                </a:lnTo>
                <a:lnTo>
                  <a:pt x="539" y="5"/>
                </a:lnTo>
                <a:lnTo>
                  <a:pt x="516" y="2"/>
                </a:lnTo>
                <a:lnTo>
                  <a:pt x="492" y="0"/>
                </a:lnTo>
                <a:lnTo>
                  <a:pt x="468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66160" y="1935000"/>
            <a:ext cx="1666800" cy="644760"/>
          </a:xfrm>
          <a:custGeom>
            <a:avLst/>
            <a:gdLst/>
            <a:ahLst/>
            <a:rect l="l" t="t" r="r" b="b"/>
            <a:pathLst>
              <a:path w="936" h="813">
                <a:moveTo>
                  <a:pt x="468" y="0"/>
                </a:moveTo>
                <a:lnTo>
                  <a:pt x="444" y="0"/>
                </a:lnTo>
                <a:lnTo>
                  <a:pt x="421" y="2"/>
                </a:lnTo>
                <a:lnTo>
                  <a:pt x="398" y="5"/>
                </a:lnTo>
                <a:lnTo>
                  <a:pt x="374" y="9"/>
                </a:lnTo>
                <a:lnTo>
                  <a:pt x="351" y="13"/>
                </a:lnTo>
                <a:lnTo>
                  <a:pt x="329" y="19"/>
                </a:lnTo>
                <a:lnTo>
                  <a:pt x="307" y="25"/>
                </a:lnTo>
                <a:lnTo>
                  <a:pt x="286" y="32"/>
                </a:lnTo>
                <a:lnTo>
                  <a:pt x="265" y="40"/>
                </a:lnTo>
                <a:lnTo>
                  <a:pt x="246" y="50"/>
                </a:lnTo>
                <a:lnTo>
                  <a:pt x="226" y="59"/>
                </a:lnTo>
                <a:lnTo>
                  <a:pt x="207" y="69"/>
                </a:lnTo>
                <a:lnTo>
                  <a:pt x="188" y="81"/>
                </a:lnTo>
                <a:lnTo>
                  <a:pt x="171" y="93"/>
                </a:lnTo>
                <a:lnTo>
                  <a:pt x="154" y="106"/>
                </a:lnTo>
                <a:lnTo>
                  <a:pt x="138" y="120"/>
                </a:lnTo>
                <a:lnTo>
                  <a:pt x="122" y="134"/>
                </a:lnTo>
                <a:lnTo>
                  <a:pt x="107" y="148"/>
                </a:lnTo>
                <a:lnTo>
                  <a:pt x="94" y="164"/>
                </a:lnTo>
                <a:lnTo>
                  <a:pt x="81" y="180"/>
                </a:lnTo>
                <a:lnTo>
                  <a:pt x="68" y="196"/>
                </a:lnTo>
                <a:lnTo>
                  <a:pt x="57" y="213"/>
                </a:lnTo>
                <a:lnTo>
                  <a:pt x="46" y="230"/>
                </a:lnTo>
                <a:lnTo>
                  <a:pt x="38" y="249"/>
                </a:lnTo>
                <a:lnTo>
                  <a:pt x="29" y="267"/>
                </a:lnTo>
                <a:lnTo>
                  <a:pt x="21" y="286"/>
                </a:lnTo>
                <a:lnTo>
                  <a:pt x="16" y="304"/>
                </a:lnTo>
                <a:lnTo>
                  <a:pt x="12" y="315"/>
                </a:lnTo>
                <a:lnTo>
                  <a:pt x="10" y="325"/>
                </a:lnTo>
                <a:lnTo>
                  <a:pt x="8" y="335"/>
                </a:lnTo>
                <a:lnTo>
                  <a:pt x="6" y="344"/>
                </a:lnTo>
                <a:lnTo>
                  <a:pt x="5" y="355"/>
                </a:lnTo>
                <a:lnTo>
                  <a:pt x="2" y="365"/>
                </a:lnTo>
                <a:lnTo>
                  <a:pt x="1" y="375"/>
                </a:lnTo>
                <a:lnTo>
                  <a:pt x="1" y="386"/>
                </a:lnTo>
                <a:lnTo>
                  <a:pt x="0" y="396"/>
                </a:lnTo>
                <a:lnTo>
                  <a:pt x="0" y="407"/>
                </a:lnTo>
                <a:lnTo>
                  <a:pt x="0" y="417"/>
                </a:lnTo>
                <a:lnTo>
                  <a:pt x="1" y="427"/>
                </a:lnTo>
                <a:lnTo>
                  <a:pt x="2" y="438"/>
                </a:lnTo>
                <a:lnTo>
                  <a:pt x="2" y="449"/>
                </a:lnTo>
                <a:lnTo>
                  <a:pt x="5" y="458"/>
                </a:lnTo>
                <a:lnTo>
                  <a:pt x="6" y="469"/>
                </a:lnTo>
                <a:lnTo>
                  <a:pt x="8" y="479"/>
                </a:lnTo>
                <a:lnTo>
                  <a:pt x="10" y="488"/>
                </a:lnTo>
                <a:lnTo>
                  <a:pt x="12" y="498"/>
                </a:lnTo>
                <a:lnTo>
                  <a:pt x="16" y="509"/>
                </a:lnTo>
                <a:lnTo>
                  <a:pt x="21" y="527"/>
                </a:lnTo>
                <a:lnTo>
                  <a:pt x="29" y="546"/>
                </a:lnTo>
                <a:lnTo>
                  <a:pt x="38" y="565"/>
                </a:lnTo>
                <a:lnTo>
                  <a:pt x="46" y="583"/>
                </a:lnTo>
                <a:lnTo>
                  <a:pt x="57" y="600"/>
                </a:lnTo>
                <a:lnTo>
                  <a:pt x="68" y="617"/>
                </a:lnTo>
                <a:lnTo>
                  <a:pt x="81" y="633"/>
                </a:lnTo>
                <a:lnTo>
                  <a:pt x="94" y="650"/>
                </a:lnTo>
                <a:lnTo>
                  <a:pt x="107" y="666"/>
                </a:lnTo>
                <a:lnTo>
                  <a:pt x="122" y="680"/>
                </a:lnTo>
                <a:lnTo>
                  <a:pt x="138" y="694"/>
                </a:lnTo>
                <a:lnTo>
                  <a:pt x="154" y="708"/>
                </a:lnTo>
                <a:lnTo>
                  <a:pt x="171" y="721"/>
                </a:lnTo>
                <a:lnTo>
                  <a:pt x="188" y="732"/>
                </a:lnTo>
                <a:lnTo>
                  <a:pt x="207" y="744"/>
                </a:lnTo>
                <a:lnTo>
                  <a:pt x="226" y="754"/>
                </a:lnTo>
                <a:lnTo>
                  <a:pt x="246" y="764"/>
                </a:lnTo>
                <a:lnTo>
                  <a:pt x="265" y="773"/>
                </a:lnTo>
                <a:lnTo>
                  <a:pt x="286" y="781"/>
                </a:lnTo>
                <a:lnTo>
                  <a:pt x="307" y="788"/>
                </a:lnTo>
                <a:lnTo>
                  <a:pt x="329" y="795"/>
                </a:lnTo>
                <a:lnTo>
                  <a:pt x="351" y="800"/>
                </a:lnTo>
                <a:lnTo>
                  <a:pt x="374" y="804"/>
                </a:lnTo>
                <a:lnTo>
                  <a:pt x="396" y="809"/>
                </a:lnTo>
                <a:lnTo>
                  <a:pt x="421" y="811"/>
                </a:lnTo>
                <a:lnTo>
                  <a:pt x="444" y="813"/>
                </a:lnTo>
                <a:lnTo>
                  <a:pt x="468" y="813"/>
                </a:lnTo>
                <a:lnTo>
                  <a:pt x="492" y="813"/>
                </a:lnTo>
                <a:lnTo>
                  <a:pt x="516" y="811"/>
                </a:lnTo>
                <a:lnTo>
                  <a:pt x="539" y="809"/>
                </a:lnTo>
                <a:lnTo>
                  <a:pt x="563" y="804"/>
                </a:lnTo>
                <a:lnTo>
                  <a:pt x="585" y="800"/>
                </a:lnTo>
                <a:lnTo>
                  <a:pt x="608" y="795"/>
                </a:lnTo>
                <a:lnTo>
                  <a:pt x="629" y="788"/>
                </a:lnTo>
                <a:lnTo>
                  <a:pt x="651" y="781"/>
                </a:lnTo>
                <a:lnTo>
                  <a:pt x="672" y="773"/>
                </a:lnTo>
                <a:lnTo>
                  <a:pt x="691" y="765"/>
                </a:lnTo>
                <a:lnTo>
                  <a:pt x="711" y="754"/>
                </a:lnTo>
                <a:lnTo>
                  <a:pt x="730" y="744"/>
                </a:lnTo>
                <a:lnTo>
                  <a:pt x="749" y="732"/>
                </a:lnTo>
                <a:lnTo>
                  <a:pt x="766" y="721"/>
                </a:lnTo>
                <a:lnTo>
                  <a:pt x="783" y="708"/>
                </a:lnTo>
                <a:lnTo>
                  <a:pt x="799" y="694"/>
                </a:lnTo>
                <a:lnTo>
                  <a:pt x="815" y="680"/>
                </a:lnTo>
                <a:lnTo>
                  <a:pt x="829" y="666"/>
                </a:lnTo>
                <a:lnTo>
                  <a:pt x="843" y="650"/>
                </a:lnTo>
                <a:lnTo>
                  <a:pt x="856" y="633"/>
                </a:lnTo>
                <a:lnTo>
                  <a:pt x="869" y="617"/>
                </a:lnTo>
                <a:lnTo>
                  <a:pt x="880" y="600"/>
                </a:lnTo>
                <a:lnTo>
                  <a:pt x="889" y="583"/>
                </a:lnTo>
                <a:lnTo>
                  <a:pt x="899" y="565"/>
                </a:lnTo>
                <a:lnTo>
                  <a:pt x="907" y="546"/>
                </a:lnTo>
                <a:lnTo>
                  <a:pt x="915" y="527"/>
                </a:lnTo>
                <a:lnTo>
                  <a:pt x="921" y="509"/>
                </a:lnTo>
                <a:lnTo>
                  <a:pt x="924" y="498"/>
                </a:lnTo>
                <a:lnTo>
                  <a:pt x="927" y="488"/>
                </a:lnTo>
                <a:lnTo>
                  <a:pt x="929" y="479"/>
                </a:lnTo>
                <a:lnTo>
                  <a:pt x="930" y="469"/>
                </a:lnTo>
                <a:lnTo>
                  <a:pt x="932" y="458"/>
                </a:lnTo>
                <a:lnTo>
                  <a:pt x="933" y="449"/>
                </a:lnTo>
                <a:lnTo>
                  <a:pt x="935" y="438"/>
                </a:lnTo>
                <a:lnTo>
                  <a:pt x="936" y="427"/>
                </a:lnTo>
                <a:lnTo>
                  <a:pt x="936" y="417"/>
                </a:lnTo>
                <a:lnTo>
                  <a:pt x="936" y="407"/>
                </a:lnTo>
                <a:lnTo>
                  <a:pt x="936" y="396"/>
                </a:lnTo>
                <a:lnTo>
                  <a:pt x="936" y="386"/>
                </a:lnTo>
                <a:lnTo>
                  <a:pt x="935" y="375"/>
                </a:lnTo>
                <a:lnTo>
                  <a:pt x="933" y="365"/>
                </a:lnTo>
                <a:lnTo>
                  <a:pt x="932" y="355"/>
                </a:lnTo>
                <a:lnTo>
                  <a:pt x="930" y="344"/>
                </a:lnTo>
                <a:lnTo>
                  <a:pt x="929" y="335"/>
                </a:lnTo>
                <a:lnTo>
                  <a:pt x="927" y="325"/>
                </a:lnTo>
                <a:lnTo>
                  <a:pt x="924" y="315"/>
                </a:lnTo>
                <a:lnTo>
                  <a:pt x="921" y="306"/>
                </a:lnTo>
                <a:lnTo>
                  <a:pt x="915" y="286"/>
                </a:lnTo>
                <a:lnTo>
                  <a:pt x="907" y="267"/>
                </a:lnTo>
                <a:lnTo>
                  <a:pt x="899" y="249"/>
                </a:lnTo>
                <a:lnTo>
                  <a:pt x="889" y="230"/>
                </a:lnTo>
                <a:lnTo>
                  <a:pt x="880" y="213"/>
                </a:lnTo>
                <a:lnTo>
                  <a:pt x="869" y="196"/>
                </a:lnTo>
                <a:lnTo>
                  <a:pt x="856" y="180"/>
                </a:lnTo>
                <a:lnTo>
                  <a:pt x="843" y="164"/>
                </a:lnTo>
                <a:lnTo>
                  <a:pt x="829" y="148"/>
                </a:lnTo>
                <a:lnTo>
                  <a:pt x="815" y="134"/>
                </a:lnTo>
                <a:lnTo>
                  <a:pt x="799" y="120"/>
                </a:lnTo>
                <a:lnTo>
                  <a:pt x="783" y="106"/>
                </a:lnTo>
                <a:lnTo>
                  <a:pt x="766" y="93"/>
                </a:lnTo>
                <a:lnTo>
                  <a:pt x="749" y="81"/>
                </a:lnTo>
                <a:lnTo>
                  <a:pt x="730" y="69"/>
                </a:lnTo>
                <a:lnTo>
                  <a:pt x="711" y="59"/>
                </a:lnTo>
                <a:lnTo>
                  <a:pt x="691" y="50"/>
                </a:lnTo>
                <a:lnTo>
                  <a:pt x="670" y="40"/>
                </a:lnTo>
                <a:lnTo>
                  <a:pt x="651" y="32"/>
                </a:lnTo>
                <a:lnTo>
                  <a:pt x="629" y="25"/>
                </a:lnTo>
                <a:lnTo>
                  <a:pt x="608" y="19"/>
                </a:lnTo>
                <a:lnTo>
                  <a:pt x="585" y="13"/>
                </a:lnTo>
                <a:lnTo>
                  <a:pt x="563" y="9"/>
                </a:lnTo>
                <a:lnTo>
                  <a:pt x="539" y="5"/>
                </a:lnTo>
                <a:lnTo>
                  <a:pt x="516" y="2"/>
                </a:lnTo>
                <a:lnTo>
                  <a:pt x="492" y="0"/>
                </a:lnTo>
                <a:lnTo>
                  <a:pt x="46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3840" y="1544760"/>
            <a:ext cx="1724040" cy="1041120"/>
          </a:xfrm>
          <a:custGeom>
            <a:avLst/>
            <a:gdLst/>
            <a:ahLst/>
            <a:rect l="l" t="t" r="r" b="b"/>
            <a:pathLst>
              <a:path w="965" h="654">
                <a:moveTo>
                  <a:pt x="464" y="7"/>
                </a:moveTo>
                <a:cubicBezTo>
                  <a:pt x="539" y="9"/>
                  <a:pt x="643" y="38"/>
                  <a:pt x="689" y="62"/>
                </a:cubicBezTo>
                <a:cubicBezTo>
                  <a:pt x="735" y="86"/>
                  <a:pt x="744" y="131"/>
                  <a:pt x="741" y="154"/>
                </a:cubicBezTo>
                <a:cubicBezTo>
                  <a:pt x="738" y="177"/>
                  <a:pt x="676" y="183"/>
                  <a:pt x="669" y="202"/>
                </a:cubicBezTo>
                <a:cubicBezTo>
                  <a:pt x="662" y="221"/>
                  <a:pt x="658" y="245"/>
                  <a:pt x="697" y="270"/>
                </a:cubicBezTo>
                <a:cubicBezTo>
                  <a:pt x="736" y="295"/>
                  <a:pt x="866" y="316"/>
                  <a:pt x="905" y="354"/>
                </a:cubicBezTo>
                <a:cubicBezTo>
                  <a:pt x="944" y="392"/>
                  <a:pt x="965" y="453"/>
                  <a:pt x="933" y="498"/>
                </a:cubicBezTo>
                <a:cubicBezTo>
                  <a:pt x="901" y="543"/>
                  <a:pt x="806" y="602"/>
                  <a:pt x="713" y="626"/>
                </a:cubicBezTo>
                <a:cubicBezTo>
                  <a:pt x="620" y="650"/>
                  <a:pt x="483" y="654"/>
                  <a:pt x="373" y="642"/>
                </a:cubicBezTo>
                <a:cubicBezTo>
                  <a:pt x="263" y="630"/>
                  <a:pt x="110" y="596"/>
                  <a:pt x="55" y="551"/>
                </a:cubicBezTo>
                <a:cubicBezTo>
                  <a:pt x="0" y="506"/>
                  <a:pt x="13" y="415"/>
                  <a:pt x="41" y="370"/>
                </a:cubicBezTo>
                <a:cubicBezTo>
                  <a:pt x="69" y="325"/>
                  <a:pt x="191" y="304"/>
                  <a:pt x="225" y="278"/>
                </a:cubicBezTo>
                <a:cubicBezTo>
                  <a:pt x="259" y="252"/>
                  <a:pt x="256" y="237"/>
                  <a:pt x="245" y="214"/>
                </a:cubicBezTo>
                <a:cubicBezTo>
                  <a:pt x="234" y="191"/>
                  <a:pt x="158" y="165"/>
                  <a:pt x="157" y="138"/>
                </a:cubicBezTo>
                <a:cubicBezTo>
                  <a:pt x="156" y="111"/>
                  <a:pt x="186" y="74"/>
                  <a:pt x="237" y="52"/>
                </a:cubicBezTo>
                <a:cubicBezTo>
                  <a:pt x="288" y="30"/>
                  <a:pt x="381" y="0"/>
                  <a:pt x="464" y="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99520" y="1844640"/>
            <a:ext cx="934920" cy="144360"/>
          </a:xfrm>
          <a:custGeom>
            <a:avLst/>
            <a:gdLst/>
            <a:ahLst/>
            <a:rect l="l" t="t" r="r" b="b"/>
            <a:pathLst>
              <a:path w="522" h="93">
                <a:moveTo>
                  <a:pt x="36" y="1"/>
                </a:moveTo>
                <a:cubicBezTo>
                  <a:pt x="0" y="1"/>
                  <a:pt x="48" y="28"/>
                  <a:pt x="48" y="43"/>
                </a:cubicBezTo>
                <a:cubicBezTo>
                  <a:pt x="48" y="58"/>
                  <a:pt x="0" y="92"/>
                  <a:pt x="36" y="92"/>
                </a:cubicBezTo>
                <a:cubicBezTo>
                  <a:pt x="72" y="92"/>
                  <a:pt x="188" y="46"/>
                  <a:pt x="263" y="46"/>
                </a:cubicBezTo>
                <a:cubicBezTo>
                  <a:pt x="338" y="46"/>
                  <a:pt x="456" y="91"/>
                  <a:pt x="489" y="92"/>
                </a:cubicBezTo>
                <a:cubicBezTo>
                  <a:pt x="522" y="93"/>
                  <a:pt x="464" y="66"/>
                  <a:pt x="464" y="51"/>
                </a:cubicBezTo>
                <a:cubicBezTo>
                  <a:pt x="464" y="36"/>
                  <a:pt x="522" y="2"/>
                  <a:pt x="489" y="1"/>
                </a:cubicBezTo>
                <a:cubicBezTo>
                  <a:pt x="456" y="0"/>
                  <a:pt x="338" y="46"/>
                  <a:pt x="263" y="46"/>
                </a:cubicBezTo>
                <a:cubicBezTo>
                  <a:pt x="188" y="46"/>
                  <a:pt x="78" y="2"/>
                  <a:pt x="36" y="1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44160" y="1600200"/>
            <a:ext cx="144360" cy="317520"/>
          </a:xfrm>
          <a:custGeom>
            <a:avLst/>
            <a:gdLst/>
            <a:ahLst/>
            <a:rect l="l" t="t" r="r" b="b"/>
            <a:pathLst>
              <a:path w="81" h="199">
                <a:moveTo>
                  <a:pt x="0" y="0"/>
                </a:moveTo>
                <a:cubicBezTo>
                  <a:pt x="13" y="13"/>
                  <a:pt x="79" y="47"/>
                  <a:pt x="80" y="80"/>
                </a:cubicBezTo>
                <a:cubicBezTo>
                  <a:pt x="81" y="113"/>
                  <a:pt x="22" y="174"/>
                  <a:pt x="7" y="1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437760" y="1955880"/>
            <a:ext cx="420480" cy="433440"/>
          </a:xfrm>
          <a:custGeom>
            <a:avLst/>
            <a:gdLst/>
            <a:ahLst/>
            <a:rect l="l" t="t" r="r" b="b"/>
            <a:pathLst>
              <a:path w="236" h="273">
                <a:moveTo>
                  <a:pt x="195" y="273"/>
                </a:moveTo>
                <a:cubicBezTo>
                  <a:pt x="196" y="244"/>
                  <a:pt x="236" y="146"/>
                  <a:pt x="204" y="100"/>
                </a:cubicBezTo>
                <a:cubicBezTo>
                  <a:pt x="172" y="54"/>
                  <a:pt x="42" y="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00" y="3676680"/>
            <a:ext cx="8832960" cy="28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нос вещества в участк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олее плотной упаковко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число контактов или больше радиус кривиз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ледовательность заполнения (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ллярной конденс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Зависит от среднего координационного числ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зарастании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&g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, при соприкосновении "менисков зарастания"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(???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скорением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алог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пиллярная конденсац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7782-1C02-4AF8-89AB-1CCD7D381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Спекание и рекристаллизация исходных веществ и продукт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41360"/>
            <a:ext cx="10287000" cy="42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ек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плотное соединение, склеивание частиц твердого вещества при нагреван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процесс получения твёрдых и пористых материалов (изделий) из мелких порошкообразных или пылевидных материалов при повышенных температур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вердофазное спек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спекание порошкового тела без образования жидкой фаз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E23B-C2E3-4A97-A3BB-67E417B070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810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амопроизвольное спекани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2600" y="1341360"/>
            <a:ext cx="964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ЕСТНИК РОССИЙСКОЙ АКАДЕМИИ НАУК, 2008, том 78, № 9, с. 777-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. А. Котов, В. В. Иван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РОШКОВЫЕ НАНОТЕХНОЛОГИЙ ДЛЯ СОЗДАНИЯ ФУНКЦИОНАЛЬНЫХ МАТЕРИАЛОВ И УСТРОЙСТВ ЭЛЕКТРОХИМИЧЕСКОЙ ЭНЕРГЕ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040" y="2997360"/>
            <a:ext cx="956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ение нанопорошков металлов, сплавов и их химических соединений методом электрического взрыва проволо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1600" y="4775040"/>
            <a:ext cx="5913360" cy="1717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97760" y="5084640"/>
            <a:ext cx="37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пытка измерить теплоемкость порошка кончилась саморазогревом и спеканием порошка с ампул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CD7F-8270-435B-A604-0FA4D6E9B8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55040" cy="1268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егузин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Яков Евсеевич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) выделил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ри основных стадии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41360"/>
            <a:ext cx="74912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1 Начальный период (припекание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ицы сохраняют индивидуальност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имо понятие «контакт между частицами»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мер контактного пятна изменяется от 0 до ~1/3 радиуса части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08960" y="0"/>
            <a:ext cx="26780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331040" y="2276640"/>
            <a:ext cx="295596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ниги научно-популярны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узы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(библиотечка «Квант»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апл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черки о диффузии в кристаллах»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Живой кристалл», «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чему и как исчезает пусто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229360"/>
            <a:ext cx="1028700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ногра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изика спек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, «Макроскопические дефекты в металлах», «Движение макроскопических включений в твёрдых телах» (совм. с М. А. Кривоглазом), «Диффузионные процессы на поверхности кристалла» (совм. с Ю. С. Кагановским), «Диффузионная зон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8 Спекание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7DBE-918C-46D1-B56F-D770DD6EA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09:26:49Z</dcterms:modified>
  <cp:revision>66</cp:revision>
  <dc:subject/>
  <dc:title>Кинетика твердофазных реакций </dc:title>
</cp:coreProperties>
</file>