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20.wmf" ContentType="image/x-wmf"/>
  <Override PartName="/ppt/media/image18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6.wmf" ContentType="image/x-wmf"/>
  <Override PartName="/ppt/media/image16.wmf" ContentType="image/x-wmf"/>
  <Override PartName="/ppt/media/image41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39.png" ContentType="image/png"/>
  <Override PartName="/ppt/media/image9.png" ContentType="image/png"/>
  <Override PartName="/ppt/media/image17.wmf" ContentType="image/x-wmf"/>
  <Override PartName="/ppt/media/image13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6.wmf" ContentType="image/x-wmf"/>
  <Override PartName="/ppt/media/image32.wmf" ContentType="image/x-wmf"/>
  <Override PartName="/ppt/media/image12.png" ContentType="image/png"/>
  <Override PartName="/ppt/media/image36.png" ContentType="image/png"/>
  <Override PartName="/ppt/media/image42.png" ContentType="image/png"/>
  <Override PartName="/ppt/media/image11.wmf" ContentType="image/x-wmf"/>
  <Override PartName="/ppt/media/image37.png" ContentType="image/png"/>
  <Override PartName="/ppt/media/image7.png" ContentType="image/png"/>
  <Override PartName="/ppt/media/image15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3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49E06-A245-4035-B6D6-F9DFD2FEF2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89443-6118-4F68-9B37-98A9DEBB0E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E58C1-1EF2-4509-A507-5CC47704DB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5D63E-EF95-4A99-A62E-0241C78FFF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B055C-4A46-4556-A5B3-37C3D88124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FD369-99D4-4EF4-86A5-B15E9EA992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BB7D1-D917-404C-B7B6-2AFC57519A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6C011-5E3B-4977-9D18-8AFA9F94AA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02870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B0F72-0978-4BC7-A685-59A241BAC9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5F92E-2FE8-435F-8CAE-D3D99059E6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DB955-9F50-4F30-B28B-FF7F8C8B9C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4E908-B8A5-4C47-BD53-DE8FA1C053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545160"/>
            <a:ext cx="91137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9113400" y="6381360"/>
            <a:ext cx="1173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31F3-2466-44C6-8855-09B4B162AE5B}" type="slidenum">
              <a:rPr b="0" i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fedoseev@phys.unn.ru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6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3.wmf"/><Relationship Id="rId1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9680" y="188640"/>
            <a:ext cx="8745480" cy="187308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Химические реакции в твердой фазе. Диффузия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-360" y="2349000"/>
            <a:ext cx="102870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кция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имический факультет НН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курс, 9 семес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досеев Виктор Борис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фессор кафедры физического материаловедения физического факультета НН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edoseev@phys.unn.r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4428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ногообразие кинетических кривых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85840" y="836640"/>
            <a:ext cx="9151200" cy="3745800"/>
            <a:chOff x="285840" y="836640"/>
            <a:chExt cx="9151200" cy="3745800"/>
          </a:xfrm>
        </p:grpSpPr>
        <p:sp>
          <p:nvSpPr>
            <p:cNvPr id="81" name=""/>
            <p:cNvSpPr/>
            <p:nvPr/>
          </p:nvSpPr>
          <p:spPr>
            <a:xfrm>
              <a:off x="8625240" y="20700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04800" y="4089600"/>
              <a:ext cx="2160" cy="20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647240" y="4089600"/>
              <a:ext cx="4680" cy="20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46800" y="4089600"/>
              <a:ext cx="5400" cy="20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303920" y="4193280"/>
              <a:ext cx="4042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03920" y="1087560"/>
              <a:ext cx="404280" cy="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504800" y="4193280"/>
              <a:ext cx="7750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04800" y="1087560"/>
              <a:ext cx="2160" cy="310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624920" y="4270320"/>
              <a:ext cx="10508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время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t/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-729720" y="2853360"/>
              <a:ext cx="23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тепень превращения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515600" y="1162800"/>
              <a:ext cx="7519680" cy="3012840"/>
            </a:xfrm>
            <a:custGeom>
              <a:avLst/>
              <a:gdLst/>
              <a:ahLst/>
              <a:rect l="l" t="t" r="r" b="b"/>
              <a:pathLst>
                <a:path w="2733" h="1365">
                  <a:moveTo>
                    <a:pt x="0" y="1364"/>
                  </a:moveTo>
                  <a:cubicBezTo>
                    <a:pt x="131" y="1364"/>
                    <a:pt x="264" y="1365"/>
                    <a:pt x="380" y="1247"/>
                  </a:cubicBezTo>
                  <a:cubicBezTo>
                    <a:pt x="496" y="1129"/>
                    <a:pt x="530" y="835"/>
                    <a:pt x="697" y="658"/>
                  </a:cubicBezTo>
                  <a:cubicBezTo>
                    <a:pt x="864" y="481"/>
                    <a:pt x="1042" y="293"/>
                    <a:pt x="1381" y="183"/>
                  </a:cubicBezTo>
                  <a:cubicBezTo>
                    <a:pt x="1720" y="73"/>
                    <a:pt x="2451" y="38"/>
                    <a:pt x="273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lgDashDot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31400" y="407412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94320" y="961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93000" y="1233360"/>
              <a:ext cx="7305120" cy="2935080"/>
            </a:xfrm>
            <a:custGeom>
              <a:avLst/>
              <a:gdLst/>
              <a:ahLst/>
              <a:rect l="l" t="t" r="r" b="b"/>
              <a:pathLst>
                <a:path w="2655" h="1330">
                  <a:moveTo>
                    <a:pt x="0" y="1328"/>
                  </a:moveTo>
                  <a:cubicBezTo>
                    <a:pt x="53" y="1302"/>
                    <a:pt x="218" y="1330"/>
                    <a:pt x="313" y="1170"/>
                  </a:cubicBezTo>
                  <a:cubicBezTo>
                    <a:pt x="408" y="1010"/>
                    <a:pt x="409" y="553"/>
                    <a:pt x="568" y="368"/>
                  </a:cubicBezTo>
                  <a:cubicBezTo>
                    <a:pt x="727" y="183"/>
                    <a:pt x="921" y="120"/>
                    <a:pt x="1269" y="60"/>
                  </a:cubicBezTo>
                  <a:cubicBezTo>
                    <a:pt x="1617" y="0"/>
                    <a:pt x="2366" y="20"/>
                    <a:pt x="2655" y="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24240" y="1235880"/>
              <a:ext cx="7420680" cy="2988360"/>
            </a:xfrm>
            <a:custGeom>
              <a:avLst/>
              <a:gdLst/>
              <a:ahLst/>
              <a:rect l="l" t="t" r="r" b="b"/>
              <a:pathLst>
                <a:path w="2697" h="1354">
                  <a:moveTo>
                    <a:pt x="0" y="1336"/>
                  </a:moveTo>
                  <a:cubicBezTo>
                    <a:pt x="98" y="1309"/>
                    <a:pt x="433" y="1354"/>
                    <a:pt x="585" y="1177"/>
                  </a:cubicBezTo>
                  <a:cubicBezTo>
                    <a:pt x="737" y="1000"/>
                    <a:pt x="765" y="460"/>
                    <a:pt x="910" y="276"/>
                  </a:cubicBezTo>
                  <a:cubicBezTo>
                    <a:pt x="1055" y="92"/>
                    <a:pt x="1155" y="121"/>
                    <a:pt x="1453" y="75"/>
                  </a:cubicBezTo>
                  <a:cubicBezTo>
                    <a:pt x="1751" y="29"/>
                    <a:pt x="2438" y="16"/>
                    <a:pt x="269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32160" y="1229400"/>
              <a:ext cx="7412400" cy="2844720"/>
            </a:xfrm>
            <a:custGeom>
              <a:avLst/>
              <a:gdLst/>
              <a:ahLst/>
              <a:rect l="l" t="t" r="r" b="b"/>
              <a:pathLst>
                <a:path w="2694" h="1289">
                  <a:moveTo>
                    <a:pt x="0" y="1289"/>
                  </a:moveTo>
                  <a:cubicBezTo>
                    <a:pt x="34" y="1028"/>
                    <a:pt x="73" y="749"/>
                    <a:pt x="136" y="563"/>
                  </a:cubicBezTo>
                  <a:cubicBezTo>
                    <a:pt x="199" y="377"/>
                    <a:pt x="201" y="259"/>
                    <a:pt x="381" y="170"/>
                  </a:cubicBezTo>
                  <a:cubicBezTo>
                    <a:pt x="561" y="81"/>
                    <a:pt x="831" y="56"/>
                    <a:pt x="1216" y="28"/>
                  </a:cubicBezTo>
                  <a:cubicBezTo>
                    <a:pt x="1601" y="0"/>
                    <a:pt x="2386" y="8"/>
                    <a:pt x="2694" y="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70320" y="1143360"/>
              <a:ext cx="7464960" cy="2948400"/>
            </a:xfrm>
            <a:custGeom>
              <a:avLst/>
              <a:gdLst/>
              <a:ahLst/>
              <a:rect l="l" t="t" r="r" b="b"/>
              <a:pathLst>
                <a:path w="2713" h="1336">
                  <a:moveTo>
                    <a:pt x="0" y="1336"/>
                  </a:moveTo>
                  <a:cubicBezTo>
                    <a:pt x="22" y="1286"/>
                    <a:pt x="17" y="1192"/>
                    <a:pt x="134" y="1035"/>
                  </a:cubicBezTo>
                  <a:cubicBezTo>
                    <a:pt x="251" y="878"/>
                    <a:pt x="271" y="565"/>
                    <a:pt x="701" y="393"/>
                  </a:cubicBezTo>
                  <a:cubicBezTo>
                    <a:pt x="1131" y="221"/>
                    <a:pt x="2294" y="82"/>
                    <a:pt x="2713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532160" y="836640"/>
              <a:ext cx="7904880" cy="3336480"/>
            </a:xfrm>
            <a:custGeom>
              <a:avLst/>
              <a:gdLst/>
              <a:ahLst/>
              <a:rect l="l" t="t" r="r" b="b"/>
              <a:pathLst>
                <a:path w="2873" h="1512">
                  <a:moveTo>
                    <a:pt x="0" y="1512"/>
                  </a:moveTo>
                  <a:cubicBezTo>
                    <a:pt x="261" y="1243"/>
                    <a:pt x="522" y="975"/>
                    <a:pt x="953" y="741"/>
                  </a:cubicBezTo>
                  <a:cubicBezTo>
                    <a:pt x="1384" y="507"/>
                    <a:pt x="2299" y="212"/>
                    <a:pt x="2586" y="106"/>
                  </a:cubicBezTo>
                  <a:cubicBezTo>
                    <a:pt x="2873" y="0"/>
                    <a:pt x="2661" y="106"/>
                    <a:pt x="2676" y="10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1255680" y="5229360"/>
            <a:ext cx="785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ледствием многообразия кинетических кривых является многообразие кинетических уравнений и мод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819680" y="2565360"/>
            <a:ext cx="2525760" cy="1558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7169040" y="2637000"/>
            <a:ext cx="2105280" cy="1431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762600" y="2133720"/>
            <a:ext cx="267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Разные мод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Диффузия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7B390-2387-4356-96CC-969CBC5801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166400" cy="4428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Основные стадии реакций в твёрдой фазе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240" y="1268280"/>
            <a:ext cx="10247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поверхностная диффу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Химическая реакци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Диффузия в приповерхностн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ои (в местах контакта компонентов)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Возникновение дефектов, разрыхление кристаллических решет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Образование и распад твердых раствор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) Спекание и</a:t>
            </a:r>
            <a:r>
              <a:rPr b="1" i="1" lang="en-US" sz="36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кристаллизация исходных веществ и продукта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) Отжиг дефектов в кристаллической решетке продук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) Возгон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) Диссоци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) Возникновение и рост зародышей фазы продук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) Собственно химическое взаимодейств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Диффузия 2010 ХФ ННГУ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F46AD-CB47-47C0-B1C2-8E7BEFB379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6880" y="1268280"/>
            <a:ext cx="8912520" cy="460872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99"/>
                </a:solidFill>
                <a:latin typeface="Times New Roman"/>
              </a:rPr>
              <a:t>"Эффект</a:t>
            </a:r>
            <a:br>
              <a:rPr sz="4000"/>
            </a:br>
            <a:r>
              <a:rPr b="1" i="1" lang="ru-RU" sz="4000" spc="-1" strike="noStrike">
                <a:solidFill>
                  <a:srgbClr val="333399"/>
                </a:solidFill>
                <a:latin typeface="Times New Roman"/>
              </a:rPr>
              <a:t>Киркендалла</a:t>
            </a:r>
            <a:r>
              <a:rPr b="0" i="1" lang="ru-RU" sz="4000" spc="-1" strike="noStrike">
                <a:solidFill>
                  <a:srgbClr val="333399"/>
                </a:solidFill>
                <a:latin typeface="Times New Roman"/>
              </a:rPr>
              <a:t>-Смигельскаса" </a:t>
            </a:r>
            <a:br>
              <a:rPr sz="4000"/>
            </a:br>
            <a:r>
              <a:rPr b="0" i="1" lang="ru-RU" sz="4000" spc="-1" strike="noStrike">
                <a:solidFill>
                  <a:srgbClr val="333399"/>
                </a:solidFill>
                <a:latin typeface="Times New Roman"/>
              </a:rPr>
              <a:t>1947г </a:t>
            </a:r>
            <a:br>
              <a:rPr sz="4000"/>
            </a:br>
            <a:r>
              <a:rPr b="0" i="1" lang="ru-RU" sz="4000" spc="-1" strike="noStrike">
                <a:solidFill>
                  <a:srgbClr val="333399"/>
                </a:solidFill>
                <a:latin typeface="Times New Roman"/>
              </a:rPr>
              <a:t>“эффект Френкеля” </a:t>
            </a:r>
            <a:br>
              <a:rPr sz="4000"/>
            </a:br>
            <a:r>
              <a:rPr b="0" i="1" lang="ru-RU" sz="4000" spc="-1" strike="noStrike">
                <a:solidFill>
                  <a:srgbClr val="333399"/>
                </a:solidFill>
                <a:latin typeface="Times New Roman"/>
              </a:rPr>
              <a:t>1946г.</a:t>
            </a:r>
            <a:br>
              <a:rPr sz="4000"/>
            </a:b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692280"/>
            <a:ext cx="1028700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[Frenkel effec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разование пористости вблизи границ контакта двух твёрдых веществ в результате возникновения в одном из них избыточных вакансий, вызван неравенством коэффициентов взаимной диффуз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думан при объяснении явлений спекания металлических порошк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79680" y="4869000"/>
            <a:ext cx="2995560" cy="129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17960" y="486900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41320" y="5300640"/>
            <a:ext cx="80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03600" y="5229360"/>
            <a:ext cx="89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48320" y="4869000"/>
            <a:ext cx="3890880" cy="129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88040" y="486900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30760" y="5300640"/>
            <a:ext cx="80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494480" y="5229360"/>
            <a:ext cx="8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02400" y="5013360"/>
            <a:ext cx="24300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59400" y="5373720"/>
            <a:ext cx="40644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65840" y="5589720"/>
            <a:ext cx="24300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59400" y="5805360"/>
            <a:ext cx="324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738680" y="5445000"/>
            <a:ext cx="647640" cy="289080"/>
          </a:xfrm>
          <a:prstGeom prst="rightArrow">
            <a:avLst>
              <a:gd name="adj1" fmla="val 50000"/>
              <a:gd name="adj2" fmla="val 560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351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Эффект Френкеля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Диффузия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2D217-C038-4D1C-8540-ACF9ED078D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929040" y="4621320"/>
            <a:ext cx="6357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дь—латунь—мед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М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метки перемещаются друг к другу с возрастанием скорости диффузии, причем смещение пропорционально квадратному корню из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67320" y="1989000"/>
            <a:ext cx="1538280" cy="1582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29320" y="2492280"/>
            <a:ext cx="1133280" cy="50508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545680" y="1989000"/>
            <a:ext cx="1539720" cy="1582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709120" y="2421000"/>
            <a:ext cx="1293840" cy="792000"/>
          </a:xfrm>
          <a:prstGeom prst="rect">
            <a:avLst/>
          </a:prstGeom>
          <a:solidFill>
            <a:srgbClr val="bbe0e3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412040" y="2637000"/>
            <a:ext cx="808200" cy="287280"/>
          </a:xfrm>
          <a:prstGeom prst="rightArrow">
            <a:avLst>
              <a:gd name="adj1" fmla="val 50000"/>
              <a:gd name="adj2" fmla="val 703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869320" y="2637000"/>
            <a:ext cx="973080" cy="36036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01600" y="3573360"/>
            <a:ext cx="3565440" cy="2860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0"/>
            <a:ext cx="10287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Эффект Киркендалл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тречное перераспределение дислоцированных атомов и вакансий при сохранении объема системы в це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91240" y="2058840"/>
            <a:ext cx="73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844640"/>
            <a:ext cx="5143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атунь (30%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70%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русок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боковым граня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ого крепилис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оволочки. После чего боковые поверхности покрывались чистой мед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605640" y="3645000"/>
          <a:ext cx="2666880" cy="77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05640" y="3645000"/>
                    <a:ext cx="2666880" cy="77760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Диффузия 2010 ХФ ННГУ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88752-FC9A-44E0-9609-FC3433CFC7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rcRect l="1878" t="3716" r="1878" b="5182"/>
          <a:stretch/>
        </p:blipFill>
        <p:spPr>
          <a:xfrm>
            <a:off x="0" y="541440"/>
            <a:ext cx="10085400" cy="32144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44600" y="3789360"/>
            <a:ext cx="94377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оложение инертной мет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противодиффузия ионов А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В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днонаправленная диффузия ионов А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О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днонаправленная диффузия ионов В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О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351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Другие варианты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871120" y="4941720"/>
            <a:ext cx="1133280" cy="1312920"/>
          </a:xfrm>
          <a:prstGeom prst="rect">
            <a:avLst/>
          </a:prstGeom>
          <a:solidFill>
            <a:srgbClr val="66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7737120" y="2924280"/>
            <a:ext cx="1214280" cy="0"/>
          </a:xfrm>
          <a:prstGeom prst="line">
            <a:avLst/>
          </a:prstGeom>
          <a:ln w="101520">
            <a:solidFill>
              <a:srgbClr val="ff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Диффузия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75D4D-C8B9-4846-8EF1-E7DC88A0AE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27040" y="1197000"/>
            <a:ext cx="3575160" cy="53434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00040" y="189000"/>
            <a:ext cx="928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же эффект наблюдался при взаимной диффузии в других системах: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—Zn, С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—Sn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b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u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43680" y="1413000"/>
            <a:ext cx="4616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исован более сложный вариант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=const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иркендал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 Образование п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14680" y="3284640"/>
            <a:ext cx="5346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ффузия дефек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акансий, пор, включений, дислокаций, границ зер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95680" y="5300640"/>
            <a:ext cx="53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Ещё вариан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72040" y="5805360"/>
            <a:ext cx="611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перпозиция эффектов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ренкеля и Киркендал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Диффузия 2010 ХФ ННГУ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B6020-C444-45E2-981C-BB9CE28527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Диффузия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765000"/>
            <a:ext cx="10287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лат.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diffusio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— распространение, растекание) взаимное проникновение соприкасающихся веществ друг в друга вследствие теплового движения частиц ве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исходит в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правлении падения концентрации (?!) веществ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 ведёт к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вномерному (?!) распределению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щества по всему занимаемому им объё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к выравниванию </a:t>
            </a: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Times New Roman"/>
              </a:rPr>
              <a:t>химического потенциала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веществ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5040" y="4797360"/>
            <a:ext cx="9477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Диффузионный пото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количест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ещества, которое за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единиц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реме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ересекает плоскую поверхность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единично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лощад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расположенную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ерпендикуляр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этому направлению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99556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82600" y="5805360"/>
          <a:ext cx="1274760" cy="86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2600" y="5805360"/>
                    <a:ext cx="127476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2065320" y="6021360"/>
            <a:ext cx="74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Где вектор спра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Диффузия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88B0E-062C-4EB6-BADA-577838FBC3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Диффузия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5300640"/>
            <a:ext cx="10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м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с] – коэффициент диффуз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0" y="765000"/>
          <a:ext cx="10287000" cy="4526280"/>
        </p:xfrm>
        <a:graphic>
          <a:graphicData uri="http://schemas.openxmlformats.org/drawingml/2006/table">
            <a:tbl>
              <a:tblPr/>
              <a:tblGrid>
                <a:gridCol w="4254480"/>
                <a:gridCol w="2359080"/>
                <a:gridCol w="1160280"/>
                <a:gridCol w="2513160"/>
              </a:tblGrid>
              <a:tr h="759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ффундирующее вещ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ой компон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, 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r>
                        <a:rPr b="0" i="1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с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ru-RU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г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ru-RU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г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0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·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ru-RU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у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3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·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у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0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·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ь (NaCI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·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ха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·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тв.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тв.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·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диффуз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·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122400" y="5734080"/>
            <a:ext cx="1016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зотропн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редах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каля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низотропн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кристаллы, полимеры, мембраны и т.п.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тензо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Диффузия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F10E0-B200-4B72-9DD3-76CF53B20B9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48888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ервый и второй законы Фика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09520" y="1197000"/>
                <a:ext cx="3365640" cy="19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D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6019920" y="1125360"/>
                <a:ext cx="3682800" cy="20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D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663480" y="3429000"/>
                <a:ext cx="2167200" cy="19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∇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∇</m:t>
                            </m:r>
                          </m:e>
                        </m:acc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765680" y="3500280"/>
                <a:ext cx="4381560" cy="19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(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0" y="5589720"/>
            <a:ext cx="10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концентрация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поток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коэффициент диффуз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6480" y="475560"/>
            <a:ext cx="8980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Адольф немецкий 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физиоло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855 – законы диффуз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Диффузия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D65AD-9B77-408D-8863-934D6C40296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27040" y="28080"/>
            <a:ext cx="9258480" cy="64476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Химические реакции в твердой фазе</a:t>
            </a:r>
            <a:br>
              <a:rPr sz="32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классификация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325520"/>
            <a:ext cx="1028700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 типу химических превраще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ложе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ме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становле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исле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соедине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омеризац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меризац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имериз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ещё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55680" y="5589720"/>
            <a:ext cx="81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ff66"/>
                </a:solidFill>
                <a:latin typeface="Arial"/>
              </a:rPr>
              <a:t>с этого надо было и начин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Диффузия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D4835-4C7D-4C21-A2BF-9115856542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105264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Уравнения диффузии с учетом гидродинамических потоков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186000" y="1700280"/>
          <a:ext cx="3699000" cy="181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86000" y="1700280"/>
                    <a:ext cx="3699000" cy="18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0" y="3860640"/>
            <a:ext cx="10287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 твёрдом теле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гидродинамический поток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ластическое т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корость пластического те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278000" y="4724280"/>
          <a:ext cx="368280" cy="503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78000" y="4724280"/>
                    <a:ext cx="3682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Диффузия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824AA-ABEF-47E2-81ED-9C16D1E00B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62064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Диффузия в твердых телах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907920"/>
            <a:ext cx="1028700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стояние движущейся несжимаемой среды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олность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характеризуется заданием в каждой точке пространства в каждый момент времени трех компонент скорост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 давлени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78800" y="5516640"/>
            <a:ext cx="538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вердые тела тоже текут!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65040" y="2205000"/>
          <a:ext cx="3076560" cy="97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040" y="2205000"/>
                    <a:ext cx="307656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4332240" y="2276640"/>
          <a:ext cx="3471840" cy="847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32240" y="2276640"/>
                    <a:ext cx="3471840" cy="84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5711760" y="3573360"/>
          <a:ext cx="3932280" cy="847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11760" y="3573360"/>
                    <a:ext cx="393228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-1440" y="3652920"/>
            <a:ext cx="44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ля несжимаемой ср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Диффузия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D2669-39A7-4ADD-BB13-B501E11F22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-5040"/>
            <a:ext cx="10287000" cy="77436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Диффузия 2010 ХФ ННГУ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0EA11-7E39-4D5B-80D0-C9D44B9F1A5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484640" y="966960"/>
            <a:ext cx="731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-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vc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-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vc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471680"/>
            <a:ext cx="10287000" cy="22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TCA6o00"/>
              </a:rPr>
              <a:t>концентрация компонент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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TCA6o00"/>
              </a:rPr>
              <a:t>скорость пластического</a:t>
            </a:r>
            <a:r>
              <a:rPr b="0" lang="en-US" sz="2800" spc="-1" strike="noStrike">
                <a:solidFill>
                  <a:srgbClr val="000000"/>
                </a:solidFill>
                <a:latin typeface="TTCA6o00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TCA6o00"/>
              </a:rPr>
              <a:t>течения вещества в диффузионной зон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TTCA6o00"/>
              </a:rPr>
              <a:t>скорость движения</a:t>
            </a:r>
            <a:r>
              <a:rPr b="0" lang="en-US" sz="2800" spc="-1" strike="noStrike">
                <a:solidFill>
                  <a:srgbClr val="000000"/>
                </a:solidFill>
                <a:latin typeface="TTCA6o00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TCA6o00"/>
              </a:rPr>
              <a:t>М</a:t>
            </a:r>
            <a:r>
              <a:rPr b="0" lang="ru-RU" sz="2800" spc="-1" strike="noStrike">
                <a:solidFill>
                  <a:srgbClr val="000000"/>
                </a:solidFill>
                <a:latin typeface="TTCA6o00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TTCA6o00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TCA6o00"/>
              </a:rPr>
              <a:t>проволоче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774960"/>
            <a:ext cx="10287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адиенты в двухкомпонентной системе противоположны 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∂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−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52760" y="4638600"/>
            <a:ext cx="5214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−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∂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∂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1600" y="5265720"/>
            <a:ext cx="980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этому при равенстве коэффициентов самодиффузии компонен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ффект Киркендалла-Смигельскаса отсутству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69228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Теория Даркена для эффекта Киркендалла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Диффузия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2C9A8-C870-4D07-B8B6-C39FF040FC6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Механизмы диффузии в твердом теле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907920"/>
            <a:ext cx="1028700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(междоузельный + вакансионный + эстафетный + краудионный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 u="sng">
                <a:solidFill>
                  <a:srgbClr val="000000"/>
                </a:solidFill>
                <a:uFillTx/>
                <a:latin typeface="Arial"/>
              </a:rPr>
              <a:t>Вакансионный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— миграции атомов по кристаллической решётке при помощи ваканси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 u="sng">
                <a:solidFill>
                  <a:srgbClr val="000000"/>
                </a:solidFill>
                <a:uFillTx/>
                <a:latin typeface="Arial"/>
              </a:rPr>
              <a:t>Межузельный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— перенос межузельными атомами. Пример: азот в алмаз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 u="sng">
                <a:solidFill>
                  <a:srgbClr val="000000"/>
                </a:solidFill>
                <a:uFillTx/>
                <a:latin typeface="Arial"/>
              </a:rPr>
              <a:t>Прямой обмен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— два соседних атома одним прыжком меняются местами в решетк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 u="sng">
                <a:solidFill>
                  <a:srgbClr val="000000"/>
                </a:solidFill>
                <a:uFillTx/>
                <a:latin typeface="Arial"/>
              </a:rPr>
              <a:t>Эстафетный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— междоузельный атом попадает в занятый другим атомом узел, выбивая его из лунки, занимая его место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 u="sng">
                <a:solidFill>
                  <a:srgbClr val="000000"/>
                </a:solidFill>
                <a:uFillTx/>
                <a:latin typeface="Arial"/>
              </a:rPr>
              <a:t>Краудионный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— межузельный атом внедрен в цепочку решеточных атомов уплотнение цепочки перемещаетс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 u="sng">
                <a:solidFill>
                  <a:srgbClr val="000000"/>
                </a:solidFill>
                <a:uFillTx/>
                <a:latin typeface="Arial"/>
              </a:rPr>
              <a:t>Дислокационные + Зернограничны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доль дефекта + вместе с дефектом (переползание + скольжение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 u="sng">
                <a:solidFill>
                  <a:srgbClr val="000000"/>
                </a:solidFill>
                <a:uFillTx/>
                <a:latin typeface="Arial"/>
              </a:rPr>
              <a:t>Поверхностны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Диффузия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2C685-E231-412A-B2F0-C60FFC5DE6A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амодиффузия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7240" y="1341360"/>
            <a:ext cx="899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стный случай диффузии — в чистом веществе или растворе постоянного состава диффундируют собственные частицы ве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7240" y="436572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Активационный анализ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ование изотопов для исследования процессов диффуз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7240" y="3213000"/>
            <a:ext cx="866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ариант самодиффуз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диффузия изотопов, диффузия возбужденных состоя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Диффузия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C1157-657D-46AC-8CF7-2775A2691EE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112536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Энергетический профиль миграции атомов и ионов 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70040" y="1685880"/>
            <a:ext cx="9036000" cy="2597040"/>
          </a:xfrm>
          <a:custGeom>
            <a:avLst/>
            <a:gdLst/>
            <a:ahLst/>
            <a:rect l="l" t="t" r="r" b="b"/>
            <a:pathLst>
              <a:path w="5060" h="1636">
                <a:moveTo>
                  <a:pt x="0" y="1121"/>
                </a:moveTo>
                <a:lnTo>
                  <a:pt x="499" y="1121"/>
                </a:lnTo>
                <a:cubicBezTo>
                  <a:pt x="643" y="983"/>
                  <a:pt x="679" y="429"/>
                  <a:pt x="865" y="292"/>
                </a:cubicBezTo>
                <a:cubicBezTo>
                  <a:pt x="1051" y="155"/>
                  <a:pt x="1426" y="87"/>
                  <a:pt x="1614" y="301"/>
                </a:cubicBezTo>
                <a:cubicBezTo>
                  <a:pt x="1802" y="515"/>
                  <a:pt x="1794" y="1362"/>
                  <a:pt x="1995" y="1575"/>
                </a:cubicBezTo>
                <a:lnTo>
                  <a:pt x="2823" y="1578"/>
                </a:lnTo>
                <a:cubicBezTo>
                  <a:pt x="2991" y="1462"/>
                  <a:pt x="2934" y="1101"/>
                  <a:pt x="3006" y="877"/>
                </a:cubicBezTo>
                <a:cubicBezTo>
                  <a:pt x="3078" y="653"/>
                  <a:pt x="3113" y="341"/>
                  <a:pt x="3255" y="234"/>
                </a:cubicBezTo>
                <a:cubicBezTo>
                  <a:pt x="3397" y="127"/>
                  <a:pt x="3698" y="0"/>
                  <a:pt x="3860" y="234"/>
                </a:cubicBezTo>
                <a:cubicBezTo>
                  <a:pt x="4022" y="468"/>
                  <a:pt x="4025" y="1404"/>
                  <a:pt x="4225" y="1636"/>
                </a:cubicBezTo>
                <a:lnTo>
                  <a:pt x="5060" y="162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57680" y="3932280"/>
            <a:ext cx="647640" cy="504720"/>
          </a:xfrm>
          <a:prstGeom prst="ellipse">
            <a:avLst/>
          </a:prstGeom>
          <a:solidFill>
            <a:srgbClr val="f7a7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27320" y="5157720"/>
            <a:ext cx="64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нергия актив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Диффузия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4598D-6DE8-4C26-852B-6C39D39A807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105264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Статистический характер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диффузии 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141720"/>
            <a:ext cx="1008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тояние между плоскостями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880" y="1125360"/>
            <a:ext cx="38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дель случайных блужд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18132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7248600" y="1268280"/>
          <a:ext cx="167148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48600" y="1268280"/>
                    <a:ext cx="167148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2623680" y="1539720"/>
            <a:ext cx="39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-е Эйнштейна Смолухов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305280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0" y="3933720"/>
          <a:ext cx="1862280" cy="93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3933720"/>
                    <a:ext cx="186228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2470320" y="4005360"/>
            <a:ext cx="721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перескоков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Гц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оятность перескока = доля скачков с энергией, превышающей пороговую (энергию активаци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3929040" y="2060640"/>
            <a:ext cx="1862280" cy="86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Диффузия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FFCFF-3A59-45E9-9591-ADFD75F566A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105264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Статистический характер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диффузии 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1341360"/>
            <a:ext cx="1008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Направленная диффуз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ероятность скачка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туд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ьше, чем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отту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318132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0" y="3933720"/>
          <a:ext cx="1862280" cy="93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933720"/>
                    <a:ext cx="186228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2470320" y="4005360"/>
            <a:ext cx="721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перескоков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Гц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оятность перескока = доля скачков с энергией, превышающей пороговую (энергию активаци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70040" y="2349360"/>
            <a:ext cx="882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Какие внешние или внутренние силы могут изменить эту вероят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Диффузия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18E04-8CDD-480F-BDE2-D22E1284728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228600" y="1773360"/>
          <a:ext cx="3662280" cy="109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773360"/>
                    <a:ext cx="3662280" cy="109224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1012680" y="765000"/>
            <a:ext cx="8261640" cy="85356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0000"/>
                </a:solidFill>
                <a:latin typeface="Arial"/>
              </a:rPr>
              <a:t>Движущей силой массопереноса является разность химических потенциал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884760" y="3068640"/>
          <a:ext cx="5711760" cy="927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4760" y="3068640"/>
                    <a:ext cx="5711760" cy="927000"/>
                  </a:xfrm>
                  <a:prstGeom prst="rect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62064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Массоперенос.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1-ой закон Фика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4724280"/>
            <a:ext cx="2832120" cy="8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 прошлой лекции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41280" y="5589720"/>
          <a:ext cx="965160" cy="353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1280" y="5589720"/>
                    <a:ext cx="965160" cy="35388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4819680" y="2205000"/>
            <a:ext cx="502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эффициент трения част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3767040" y="4581360"/>
          <a:ext cx="4657680" cy="876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67040" y="4581360"/>
                    <a:ext cx="4657680" cy="8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5791320" y="5734080"/>
            <a:ext cx="35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равнение Эйнштей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"/>
          <p:cNvCxnSpPr/>
          <p:nvPr/>
        </p:nvCxnSpPr>
        <p:spPr>
          <a:xfrm flipH="1" flipV="1">
            <a:off x="7451280" y="5012640"/>
            <a:ext cx="829440" cy="91332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Диффузия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695B6-FD33-4A47-9B66-08D83A64F39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7040" y="28080"/>
            <a:ext cx="9258480" cy="64476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Химические реакции в твердой фазе</a:t>
            </a:r>
            <a:br>
              <a:rPr sz="32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классификация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325520"/>
            <a:ext cx="1028700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агрегатному состоянию реагентов и/или проду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вердое тело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твердое тел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вердое тело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твердое тело + газ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вердое тело + твердое тело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твердое тел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вердое тело + газ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твердое тел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приме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Другие тип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Диффузия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6FB05-36F1-4C91-8920-5B2D1C9FA6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1052640"/>
            <a:ext cx="1028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жно избавиться от концентраций, используя условие неразрыв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0"/>
            <a:ext cx="10287000" cy="69228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Для двухкомпонентной конденсированной систе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90440" y="1844640"/>
          <a:ext cx="7785360" cy="351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90440" y="1844640"/>
                    <a:ext cx="7785360" cy="35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3890880" y="5589720"/>
          <a:ext cx="2025720" cy="591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90880" y="5589720"/>
                    <a:ext cx="2025720" cy="591840"/>
                  </a:xfrm>
                  <a:prstGeom prst="rect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Диффузия 2010 ХФ ННГУ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39EB3-5AFB-4E14-81FD-EF102E9A78C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10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Перенос вещества в реальных раство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620640"/>
            <a:ext cx="1028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 Фика, выраженный через мольные доли и химические потенциалы для </a:t>
            </a:r>
            <a:br>
              <a:rPr sz="2400"/>
            </a:b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неидеальног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тво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353880" y="1700280"/>
          <a:ext cx="5666040" cy="1038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3880" y="1700280"/>
                    <a:ext cx="566604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3591000" y="2708280"/>
          <a:ext cx="2401920" cy="652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91000" y="2708280"/>
                    <a:ext cx="240192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0" y="3284640"/>
            <a:ext cx="1028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правление диффузионного потока определяют и градиент концентрации, и градиент коэффициента активности, если второе слагаемое больше по абсолютной величине и противоположно по знаку, 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7710480" y="4869000"/>
          <a:ext cx="2162160" cy="1036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10480" y="4869000"/>
                    <a:ext cx="2162160" cy="1036440"/>
                  </a:xfrm>
                  <a:prstGeom prst="rect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0" y="5734080"/>
            <a:ext cx="7248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диффузия не всегда подчиняется закону Ф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282600" y="4869000"/>
          <a:ext cx="3300480" cy="793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82600" y="4869000"/>
                    <a:ext cx="3300480" cy="79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4830840" y="4941720"/>
          <a:ext cx="1834920" cy="757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30840" y="4941720"/>
                    <a:ext cx="1834920" cy="757440"/>
                  </a:xfrm>
                  <a:prstGeom prst="rect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Диффузия 2010 ХФ ННГУ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3229B-1A78-4D60-AD95-4A17B0B2414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3524400" y="1916280"/>
          <a:ext cx="2660400" cy="136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24400" y="1916280"/>
                    <a:ext cx="2660400" cy="13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1739160" y="0"/>
            <a:ext cx="680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тверждение Ландау Лифшица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6, гл. 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089240" y="1197000"/>
            <a:ext cx="17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660680" y="4365720"/>
            <a:ext cx="685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cc"/>
                </a:solidFill>
                <a:latin typeface="Arial"/>
              </a:rPr>
              <a:t>Верно ли это для реального раствор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Диффузия 2010 ХФ ННГУ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3FC90-1E16-463C-BE9F-3B828A988DA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10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Перенос вещества в химическом п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620640"/>
            <a:ext cx="1028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 Фика, выраженный через мольные доли и химические потенциалы для идеального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многокомпонентн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ство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5762520"/>
            <a:ext cx="10287000" cy="1068840"/>
          </a:xfrm>
          <a:prstGeom prst="rect">
            <a:avLst/>
          </a:prstGeom>
          <a:solidFill>
            <a:srgbClr val="fdb0a1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эффициент диффузии зависит от состава, концентрации и свойств компон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557280" y="1557360"/>
          <a:ext cx="8969400" cy="212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7280" y="1557360"/>
                    <a:ext cx="8969400" cy="2128680"/>
                  </a:xfrm>
                  <a:prstGeom prst="rect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0" y="4941720"/>
            <a:ext cx="1028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правление потоков может определяться распределениями других компон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143680" y="3789360"/>
            <a:ext cx="457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ммируется п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онента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независимы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Диффузия 2010 ХФ ННГУ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49C60-F416-4960-A3DF-CD246DCE5D8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Задача на дом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1268280"/>
            <a:ext cx="10287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Как направлены потоки диффузии в 2-х, 3-х, 4-х компонентных реальных раствора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описать все возможные вариа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Диффузия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F6825-BF94-4A5D-824F-732D7BFAE1B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65040" y="0"/>
            <a:ext cx="955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аборатория Беркли (Berkeley La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ыты с нанокристаллам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шарики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томов)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сере образуются полые сферы сульфида кобаль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844560" y="1165320"/>
            <a:ext cx="8596440" cy="17589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0" y="3008160"/>
            <a:ext cx="1028700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поместить внутрь сферы ядро из другого материала, например —платины получится микрореактор с катализатором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здан многостадийный процесс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к зёрнам платины добавляли наночастицы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формируют сферу вокруг ядр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отом — кислоро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есь Со реагировал с кислородом, образуя оксидную "скорлупу", внутри которой свободно размещалось платиновое"ядро"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икрореактор, действуя как катализатор, понижает вероятность побочных реакций, повышает выход целевого продукта, по сравнению с открытой платин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Диффузия 2010 ХФ ННГУ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A18F4-6D95-4194-A571-1E2D7BC8BA3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5440" cy="31687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6683400" y="0"/>
            <a:ext cx="3603600" cy="32036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3603600" y="115920"/>
            <a:ext cx="2997360" cy="26636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5"/>
          <a:stretch/>
        </p:blipFill>
        <p:spPr>
          <a:xfrm>
            <a:off x="4089240" y="2997360"/>
            <a:ext cx="2422800" cy="21524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6"/>
          <a:stretch/>
        </p:blipFill>
        <p:spPr>
          <a:xfrm>
            <a:off x="8302680" y="3860640"/>
            <a:ext cx="1974960" cy="17560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7"/>
          <a:stretch/>
        </p:blipFill>
        <p:spPr>
          <a:xfrm>
            <a:off x="0" y="3427560"/>
            <a:ext cx="3889440" cy="34574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4575240" y="5661000"/>
            <a:ext cx="5510160" cy="1068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ст кристаллов в полимерных плен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Диффузия 2010 ХФ ННГУ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A5420-0054-4F01-BBE0-A8338667C78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2000" fill="hold"/>
                                        <p:tgtEl>
                                          <p:spTgt spid="27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1000" fill="hold"/>
                                        <p:tgtEl>
                                          <p:spTgt spid="27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1000" fill="hold"/>
                                        <p:tgtEl>
                                          <p:spTgt spid="27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27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2" dur="1" fill="hold"/>
                                  <p:tgtEl>
                                    <p:spTgt spid="2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27040" y="28080"/>
            <a:ext cx="9258480" cy="64476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Химические реакции в твердой фазе</a:t>
            </a:r>
            <a:br>
              <a:rPr sz="32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классификация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325520"/>
            <a:ext cx="1028700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зделение реакций на гомогенные и гетерогенны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монокристалл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монокристал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монокристалл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поликристалл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монокристалл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аморфный порошок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ещё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Диффузия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ECEB9-44AE-42C2-81A8-0447AB606F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7040" y="28080"/>
            <a:ext cx="9258480" cy="64476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Химические реакции в твердой фазе</a:t>
            </a:r>
            <a:br>
              <a:rPr sz="32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сновные типы реакций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65040" y="1247760"/>
          <a:ext cx="9558360" cy="527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040" y="1247760"/>
                    <a:ext cx="9558360" cy="52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Диффузия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32E81-1D56-4CC7-A791-CAFD142EE1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47304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Способы инициирования реакций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27040" y="907560"/>
            <a:ext cx="92584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гревание, освещение, радиационное воздействие, искра, механическое воздейст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дар, укол, трение, измельчение и т. д., гидростатическое давление, зву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040" y="4724280"/>
            <a:ext cx="955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ханохимия. Трибохимия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нохимия. Фотохимия. Электрохимия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Диффузия 2010 ХФ ННГУ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F85F9-D860-463D-AB37-16C27145FE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1197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Ответ на вопрос: почему нет раздела химия газов и химия жидкостей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224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кроме обычных химических компонентов в химических реакциях в кристаллических материалах участвуют компоненты дефектной структур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которые из них вполне можно ввести и при рассмотрении жидкофазных систем –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какие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Диффузия 2010 ХФ ННГУ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B1414-A814-4FA0-8CC2-7480A6A6FA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27040" y="0"/>
            <a:ext cx="9258480" cy="83664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Химические реакции в твердой фазе</a:t>
            </a:r>
            <a:br>
              <a:rPr sz="32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сновные проблемы описания и особенности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2600" y="1268280"/>
            <a:ext cx="9721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уктурная чувстви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ль механических напря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89320" y="3141720"/>
            <a:ext cx="5267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ужинка в кисло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Диффузия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074B9-6D22-45E1-BDE8-1B38D56916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69228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инетика реакции в твердой фазе. начало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32240" y="692280"/>
            <a:ext cx="595476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амма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ru-RU" sz="2000" spc="-1" strike="noStrike">
                <a:solidFill>
                  <a:srgbClr val="6600cc"/>
                </a:solidFill>
                <a:latin typeface="Times New Roman"/>
              </a:rPr>
              <a:t>1920 г., реакции окисления металл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аболический закон увеличения толщины прослойки продукта 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между реагирующими фаз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930240" y="836640"/>
            <a:ext cx="3079440" cy="647640"/>
            <a:chOff x="930240" y="836640"/>
            <a:chExt cx="3079440" cy="647640"/>
          </a:xfrm>
        </p:grpSpPr>
        <p:sp>
          <p:nvSpPr>
            <p:cNvPr id="63" name=""/>
            <p:cNvSpPr/>
            <p:nvPr/>
          </p:nvSpPr>
          <p:spPr>
            <a:xfrm>
              <a:off x="930240" y="907920"/>
              <a:ext cx="1540080" cy="4334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01880" y="907920"/>
              <a:ext cx="1540080" cy="4334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32680" y="907920"/>
              <a:ext cx="1377000" cy="433440"/>
            </a:xfrm>
            <a:prstGeom prst="rect">
              <a:avLst/>
            </a:prstGeom>
            <a:solidFill>
              <a:srgbClr val="ffa9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01880" y="1484280"/>
              <a:ext cx="105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1415880" y="1413000"/>
              <a:ext cx="129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01880" y="836640"/>
              <a:ext cx="56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389320" y="541440"/>
            <a:ext cx="4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397480" y="2781360"/>
          <a:ext cx="4059360" cy="99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7480" y="2781360"/>
                    <a:ext cx="405936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6145200" y="5516640"/>
          <a:ext cx="3102120" cy="996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45200" y="5516640"/>
                    <a:ext cx="3102120" cy="99684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4253040" y="3716280"/>
            <a:ext cx="58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 образовании пористой прослойки, увеличение толщины слоя продукта между реагирующими компонентами линей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797360"/>
            <a:ext cx="469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инетика реакций компонентов, образующих дисперсную смесь, существенно определяется дисперсностью и плотностью смеси (СВС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рошковая металлург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65040" y="1733400"/>
            <a:ext cx="3889080" cy="3063960"/>
            <a:chOff x="365040" y="1733400"/>
            <a:chExt cx="3889080" cy="3063960"/>
          </a:xfrm>
        </p:grpSpPr>
        <p:pic>
          <p:nvPicPr>
            <p:cNvPr id="77" name="" descr=""/>
            <p:cNvPicPr/>
            <p:nvPr/>
          </p:nvPicPr>
          <p:blipFill>
            <a:blip r:embed="rId6"/>
            <a:srcRect l="0" t="0" r="28966" b="0"/>
            <a:stretch/>
          </p:blipFill>
          <p:spPr>
            <a:xfrm>
              <a:off x="365040" y="1733400"/>
              <a:ext cx="3889080" cy="306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 flipV="1">
              <a:off x="850320" y="2452320"/>
              <a:ext cx="2916000" cy="1871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Диффузия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BAD6B-0742-4F22-9803-C2C7E351B4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07:05:51Z</dcterms:created>
  <dc:creator>Виктор</dc:creator>
  <dc:description/>
  <dc:language>en-US</dc:language>
  <cp:lastModifiedBy>Fedoseev</cp:lastModifiedBy>
  <dcterms:modified xsi:type="dcterms:W3CDTF">2010-12-11T09:19:42Z</dcterms:modified>
  <cp:revision>94</cp:revision>
  <dc:subject/>
  <dc:title>Кинетика твердофазных реакций </dc:title>
</cp:coreProperties>
</file>