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png" ContentType="image/png"/>
  <Override PartName="/ppt/media/image25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35.wmf" ContentType="image/x-wmf"/>
  <Override PartName="/ppt/media/image12.jpeg" ContentType="image/jpeg"/>
  <Override PartName="/ppt/media/image4.png" ContentType="image/png"/>
  <Override PartName="/ppt/media/image33.wmf" ContentType="image/x-wmf"/>
  <Override PartName="/ppt/media/image3.wmf" ContentType="image/x-wmf"/>
  <Override PartName="/ppt/media/image18.wmf" ContentType="image/x-wmf"/>
  <Override PartName="/ppt/media/image20.png" ContentType="image/png"/>
  <Override PartName="/ppt/media/image23.wmf" ContentType="image/x-wmf"/>
  <Override PartName="/ppt/media/image28.jpeg" ContentType="image/jpeg"/>
  <Override PartName="/ppt/media/image21.wmf" ContentType="image/x-wmf"/>
  <Override PartName="/ppt/media/image19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430F-C7B7-41D8-908E-B48B7F267C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070-C7B9-40D9-850C-48271EC9C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1DBD-96D4-439A-93C7-248646508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01BB-4075-4966-835E-1EF9CBAC8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925848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960" y="4009320"/>
            <a:ext cx="925848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0B5D-56AA-479D-B688-650A85C25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540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0960" y="40093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5400" y="40093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531E-3A04-4440-9948-9AF79F047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1520" y="16441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42080" y="16441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960" y="40093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1520" y="40093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42080" y="4009320"/>
            <a:ext cx="298116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972E-3D0F-475F-BB48-F09E566A2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0960" y="1644120"/>
            <a:ext cx="92584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29E8-E4A9-4051-B9C9-A3731C5C0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925848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FBE3-D671-4738-8D85-01E2D1F24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4518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5400" y="1644120"/>
            <a:ext cx="4518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1DA2-21DC-4F66-AE77-54C9CD830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FFC2-DEAA-4D94-B0C3-C4B87A04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539C-BA51-4F49-B961-12B7B90CA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5400" y="1644120"/>
            <a:ext cx="4518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0960" y="40093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678B-ED73-45AD-9534-11ECC40BF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4518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540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5400" y="40093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223C-C4C8-4D73-91DC-3D0CB09F1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096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5400" y="1644120"/>
            <a:ext cx="451800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960" y="4009320"/>
            <a:ext cx="9258480" cy="2159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716B-DC39-4E4C-990B-B5980E57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1644120"/>
            <a:ext cx="925848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3045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4000" indent="-2444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2448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5000" indent="-245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5000" indent="-245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5000" indent="-245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6600"/>
            <a:ext cx="9113760" cy="33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2800"/>
            <a:ext cx="1173240" cy="474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i="1" lang="en-US" sz="3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4504214-69C2-4015-9E34-1579E4397AC5}" type="slidenum"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omepages.cae.wisc.edu/~stone/bubble%20raft%20movies.htm" TargetMode="Externa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8756640" cy="2743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имия твердого тела</a:t>
            </a:r>
            <a:br>
              <a:rPr sz="6300"/>
            </a:br>
            <a:r>
              <a:rPr b="1" i="1" lang="en-US" sz="6300" spc="-1" strike="noStrike">
                <a:solidFill>
                  <a:srgbClr val="000000"/>
                </a:solidFill>
                <a:latin typeface="Times New Roman"/>
              </a:rPr>
              <a:t>Дислокации</a:t>
            </a:r>
            <a:endParaRPr b="1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77880" y="3703320"/>
            <a:ext cx="6994800" cy="246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екция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4 курс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Как найти дислокации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-69840" y="547560"/>
            <a:ext cx="10287000" cy="63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8EC4-8548-43AA-8E39-D96254A54E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Какие дефекты есть здесь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2"/>
          <a:stretch/>
        </p:blipFill>
        <p:spPr>
          <a:xfrm>
            <a:off x="0" y="674640"/>
            <a:ext cx="10287000" cy="618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6619-3BB7-4A8D-AFF7-C1343CF742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ак движутся дислокаци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5213520"/>
            <a:ext cx="10287000" cy="108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Просмотр видео ролика "Деформация плота пузырьков" (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homepages.cae.wisc.edu/~stone/bubble%20raft%20movies.htm</a:t>
            </a:r>
            <a:r>
              <a:rPr b="0" lang="en-US" sz="19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1280" y="708120"/>
            <a:ext cx="960444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Скольжение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— сохраняется стехиометрическое число дислокации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плоскости скольжени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переползание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— не сохраняется стехиометрическое число дислокации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испарение и конденсация ваканс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654B-3962-424A-9883-1E6F228A34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ектор Бюргерс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457880" cy="2867040"/>
          </a:xfrm>
          <a:prstGeom prst="rect">
            <a:avLst/>
          </a:prstGeom>
          <a:ln w="0">
            <a:noFill/>
          </a:ln>
        </p:spPr>
      </p:pic>
      <p:sp>
        <p:nvSpPr>
          <p:cNvPr id="1312" name=""/>
          <p:cNvSpPr/>
          <p:nvPr/>
        </p:nvSpPr>
        <p:spPr>
          <a:xfrm>
            <a:off x="4595760" y="685800"/>
            <a:ext cx="548496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ктор, соединяющий конечную и начальную точки </a:t>
            </a:r>
            <a:r>
              <a:rPr b="1" i="1" lang="ru-RU" sz="3000" spc="-1" strike="noStrike">
                <a:solidFill>
                  <a:srgbClr val="ff3300"/>
                </a:solidFill>
                <a:latin typeface="Times New Roman"/>
              </a:rPr>
              <a:t>контура Бюргерс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—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ера пластических искажений кристаллической решёт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4114800"/>
            <a:ext cx="5143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0" y="3776760"/>
            <a:ext cx="1028700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ектор Бюргерса отличается от нуля при при наличии в кристалле неточечных деф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слокаций, дисклинаций, границ зерен, включений и по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5213520"/>
            <a:ext cx="1028700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800" spc="-1" strike="noStrike">
                <a:solidFill>
                  <a:srgbClr val="ff3300"/>
                </a:solidFill>
                <a:latin typeface="Arial Black"/>
              </a:rPr>
              <a:t>Дислокация – носитель пластической деформаци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3009-715F-4629-86BA-E4F7489D94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3"/>
          <p:cNvSpPr/>
          <p:nvPr/>
        </p:nvSpPr>
        <p:spPr>
          <a:xfrm>
            <a:off x="2103120" y="166680"/>
            <a:ext cx="4637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100" spc="-1" strike="noStrike">
                <a:solidFill>
                  <a:srgbClr val="990033"/>
                </a:solidFill>
                <a:latin typeface="Times New Roman"/>
              </a:rPr>
              <a:t>Поле напряжений вокруг дислокац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7" name="Object 2"/>
          <p:cNvGraphicFramePr/>
          <p:nvPr/>
        </p:nvGraphicFramePr>
        <p:xfrm>
          <a:off x="5400720" y="1143000"/>
          <a:ext cx="2830320" cy="18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0720" y="1143000"/>
                    <a:ext cx="2830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9" name="Picture 4" descr="File0364"/>
          <p:cNvPicPr/>
          <p:nvPr/>
        </p:nvPicPr>
        <p:blipFill>
          <a:blip r:embed="rId4"/>
          <a:stretch/>
        </p:blipFill>
        <p:spPr>
          <a:xfrm>
            <a:off x="173160" y="685800"/>
            <a:ext cx="3881160" cy="23652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5" descr="File0365"/>
          <p:cNvPicPr/>
          <p:nvPr/>
        </p:nvPicPr>
        <p:blipFill>
          <a:blip r:embed="rId5"/>
          <a:stretch/>
        </p:blipFill>
        <p:spPr>
          <a:xfrm>
            <a:off x="206280" y="3292560"/>
            <a:ext cx="4389480" cy="3151080"/>
          </a:xfrm>
          <a:prstGeom prst="rect">
            <a:avLst/>
          </a:prstGeom>
          <a:ln w="0">
            <a:noFill/>
          </a:ln>
        </p:spPr>
      </p:pic>
      <p:sp>
        <p:nvSpPr>
          <p:cNvPr id="1321" name="Text Box 6"/>
          <p:cNvSpPr/>
          <p:nvPr/>
        </p:nvSpPr>
        <p:spPr>
          <a:xfrm>
            <a:off x="5569560" y="611280"/>
            <a:ext cx="2427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интовая дислокац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2" name="Object 7"/>
          <p:cNvGraphicFramePr/>
          <p:nvPr/>
        </p:nvGraphicFramePr>
        <p:xfrm>
          <a:off x="5143680" y="3565440"/>
          <a:ext cx="3776400" cy="306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3680" y="3565440"/>
                    <a:ext cx="37764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Text Box 8"/>
          <p:cNvSpPr/>
          <p:nvPr/>
        </p:nvSpPr>
        <p:spPr>
          <a:xfrm>
            <a:off x="5729040" y="3124080"/>
            <a:ext cx="2277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Краевая дислокац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3721-8392-41E4-84EE-68D9269E2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Ядро дислокаци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80960" y="1507680"/>
            <a:ext cx="9258480" cy="3429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1) Вклад энергии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ядра дислокации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в общую энергию близок к 10 %.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сновной вклад в энергию дислокаций вносит поле упругих напряжени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2) Энергия дислокации в пересчете на один параметр решётки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E ~ 0.5Gb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~3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эВ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2D12-FEC1-4CAC-9733-1D10F22A5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7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10426680" cy="684216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1851120" y="3154320"/>
            <a:ext cx="4960800" cy="2470320"/>
          </a:xfrm>
          <a:custGeom>
            <a:avLst/>
            <a:gdLst/>
            <a:ahLst/>
            <a:rect l="l" t="t" r="r" b="b"/>
            <a:pathLst>
              <a:path w="1641" h="817">
                <a:moveTo>
                  <a:pt x="454" y="0"/>
                </a:moveTo>
                <a:cubicBezTo>
                  <a:pt x="310" y="79"/>
                  <a:pt x="167" y="159"/>
                  <a:pt x="137" y="272"/>
                </a:cubicBezTo>
                <a:cubicBezTo>
                  <a:pt x="107" y="385"/>
                  <a:pt x="54" y="605"/>
                  <a:pt x="273" y="681"/>
                </a:cubicBezTo>
                <a:cubicBezTo>
                  <a:pt x="492" y="757"/>
                  <a:pt x="1263" y="817"/>
                  <a:pt x="1452" y="726"/>
                </a:cubicBezTo>
                <a:cubicBezTo>
                  <a:pt x="1641" y="635"/>
                  <a:pt x="1566" y="249"/>
                  <a:pt x="1407" y="136"/>
                </a:cubicBezTo>
                <a:cubicBezTo>
                  <a:pt x="1248" y="23"/>
                  <a:pt x="734" y="38"/>
                  <a:pt x="499" y="46"/>
                </a:cubicBezTo>
                <a:cubicBezTo>
                  <a:pt x="264" y="54"/>
                  <a:pt x="83" y="159"/>
                  <a:pt x="0" y="182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551800" y="3425760"/>
            <a:ext cx="1805040" cy="1511280"/>
          </a:xfrm>
          <a:custGeom>
            <a:avLst/>
            <a:gdLst/>
            <a:ahLst/>
            <a:rect l="l" t="t" r="r" b="b"/>
            <a:pathLst>
              <a:path w="1641" h="817">
                <a:moveTo>
                  <a:pt x="454" y="0"/>
                </a:moveTo>
                <a:cubicBezTo>
                  <a:pt x="310" y="79"/>
                  <a:pt x="167" y="159"/>
                  <a:pt x="137" y="272"/>
                </a:cubicBezTo>
                <a:cubicBezTo>
                  <a:pt x="107" y="385"/>
                  <a:pt x="54" y="605"/>
                  <a:pt x="273" y="681"/>
                </a:cubicBezTo>
                <a:cubicBezTo>
                  <a:pt x="492" y="757"/>
                  <a:pt x="1263" y="817"/>
                  <a:pt x="1452" y="726"/>
                </a:cubicBezTo>
                <a:cubicBezTo>
                  <a:pt x="1641" y="635"/>
                  <a:pt x="1566" y="249"/>
                  <a:pt x="1407" y="136"/>
                </a:cubicBezTo>
                <a:cubicBezTo>
                  <a:pt x="1248" y="23"/>
                  <a:pt x="734" y="38"/>
                  <a:pt x="499" y="46"/>
                </a:cubicBezTo>
                <a:cubicBezTo>
                  <a:pt x="264" y="54"/>
                  <a:pt x="83" y="159"/>
                  <a:pt x="0" y="182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869000" y="1096920"/>
            <a:ext cx="24699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431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6900" spc="-1" strike="noStrike">
                <a:solidFill>
                  <a:srgbClr val="99cc00"/>
                </a:solidFill>
                <a:latin typeface="Arial Black"/>
              </a:rPr>
              <a:t>?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51120" y="3154320"/>
            <a:ext cx="4960800" cy="2470320"/>
          </a:xfrm>
          <a:custGeom>
            <a:avLst/>
            <a:gdLst/>
            <a:ahLst/>
            <a:rect l="l" t="t" r="r" b="b"/>
            <a:pathLst>
              <a:path w="1641" h="817">
                <a:moveTo>
                  <a:pt x="454" y="0"/>
                </a:moveTo>
                <a:cubicBezTo>
                  <a:pt x="310" y="79"/>
                  <a:pt x="167" y="159"/>
                  <a:pt x="137" y="272"/>
                </a:cubicBezTo>
                <a:cubicBezTo>
                  <a:pt x="107" y="385"/>
                  <a:pt x="54" y="605"/>
                  <a:pt x="273" y="681"/>
                </a:cubicBezTo>
                <a:cubicBezTo>
                  <a:pt x="492" y="757"/>
                  <a:pt x="1263" y="817"/>
                  <a:pt x="1452" y="726"/>
                </a:cubicBezTo>
                <a:cubicBezTo>
                  <a:pt x="1641" y="635"/>
                  <a:pt x="1566" y="249"/>
                  <a:pt x="1407" y="136"/>
                </a:cubicBezTo>
                <a:cubicBezTo>
                  <a:pt x="1248" y="23"/>
                  <a:pt x="734" y="38"/>
                  <a:pt x="499" y="46"/>
                </a:cubicBezTo>
                <a:cubicBezTo>
                  <a:pt x="264" y="54"/>
                  <a:pt x="83" y="159"/>
                  <a:pt x="0" y="182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-387360" y="-260280"/>
            <a:ext cx="4149720" cy="3305160"/>
          </a:xfrm>
          <a:custGeom>
            <a:avLst/>
            <a:gdLst/>
            <a:ahLst/>
            <a:rect l="l" t="t" r="r" b="b"/>
            <a:pathLst>
              <a:path w="1372" h="1093">
                <a:moveTo>
                  <a:pt x="604" y="139"/>
                </a:moveTo>
                <a:cubicBezTo>
                  <a:pt x="531" y="173"/>
                  <a:pt x="243" y="197"/>
                  <a:pt x="163" y="341"/>
                </a:cubicBezTo>
                <a:cubicBezTo>
                  <a:pt x="83" y="485"/>
                  <a:pt x="0" y="909"/>
                  <a:pt x="125" y="1001"/>
                </a:cubicBezTo>
                <a:cubicBezTo>
                  <a:pt x="250" y="1093"/>
                  <a:pt x="717" y="1039"/>
                  <a:pt x="915" y="894"/>
                </a:cubicBezTo>
                <a:cubicBezTo>
                  <a:pt x="1113" y="749"/>
                  <a:pt x="1372" y="258"/>
                  <a:pt x="1313" y="129"/>
                </a:cubicBezTo>
                <a:cubicBezTo>
                  <a:pt x="1254" y="0"/>
                  <a:pt x="755" y="103"/>
                  <a:pt x="563" y="119"/>
                </a:cubicBezTo>
                <a:cubicBezTo>
                  <a:pt x="371" y="135"/>
                  <a:pt x="245" y="204"/>
                  <a:pt x="161" y="226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D272-B082-472D-8121-6775D1FFCB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лассификация дислокац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1096920"/>
            <a:ext cx="102870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 углу межд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I - линия дислокации)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евые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┴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товые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║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мешанные [0 °&lt; (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&lt;90°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77880" y="3495600"/>
            <a:ext cx="67201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 разветвлении дислокационной линии величина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вектора Бюргерс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не меняетс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2"/>
          <p:cNvSpPr/>
          <p:nvPr/>
        </p:nvSpPr>
        <p:spPr>
          <a:xfrm>
            <a:off x="3114360" y="4525920"/>
            <a:ext cx="293724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>
              <a:tabLst>
                <a:tab algn="l" pos="0"/>
                <a:tab algn="l" pos="1741320"/>
                <a:tab algn="l" pos="3483000"/>
                <a:tab algn="l" pos="5224320"/>
                <a:tab algn="l" pos="6966000"/>
                <a:tab algn="l" pos="8707320"/>
                <a:tab algn="l" pos="10449000"/>
              </a:tabLst>
            </a:pPr>
            <a:r>
              <a:rPr b="0" i="1" lang="en-US" sz="4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ru-RU" sz="46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i="1" lang="en-US" sz="4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4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4600" spc="-1" strike="noStrike">
                <a:solidFill>
                  <a:srgbClr val="0000ff"/>
                </a:solidFill>
                <a:latin typeface="Times New Roman"/>
              </a:rPr>
              <a:t> + b</a:t>
            </a:r>
            <a:r>
              <a:rPr b="0" i="1" lang="en-US" sz="4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FACD-0863-48C9-9EBE-4994C5DBD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лассификация дислокац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-360" y="1644120"/>
            <a:ext cx="10287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Пол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единичные) трансляция на величин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тождественное состояние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Частич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неполные=Дислокации Шокл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 трансляция на величин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a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нетождественное состояние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Ломер—Котрелл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Взаимодействие двух движущихся во взаимно пересекающихся плоскостях расщепленных дислокаций дает V-образную дислокацию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B2C8-A4B6-4703-808A-B986BDD51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96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ислокация (петля) как компонент термодинамической системы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870680" y="1233360"/>
            <a:ext cx="2416320" cy="875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1320"/>
                <a:tab algn="l" pos="3483000"/>
                <a:tab algn="l" pos="5224320"/>
                <a:tab algn="l" pos="6966000"/>
                <a:tab algn="l" pos="8707320"/>
                <a:tab algn="l" pos="104490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ктор Бюргерс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41280" y="4937040"/>
            <a:ext cx="6858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41320"/>
                <a:tab algn="l" pos="3483000"/>
                <a:tab algn="l" pos="5224320"/>
                <a:tab algn="l" pos="6966000"/>
                <a:tab algn="l" pos="8707320"/>
                <a:tab algn="l" pos="10449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нтропия образования - ??? (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ценка Котрелла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2948040" y="2881440"/>
          <a:ext cx="548460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8040" y="2881440"/>
                    <a:ext cx="54846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1577880" y="2055960"/>
          <a:ext cx="3565800" cy="95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77880" y="2055960"/>
                    <a:ext cx="35658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536920" y="4111560"/>
          <a:ext cx="603576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36920" y="4111560"/>
                    <a:ext cx="60357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8" name=""/>
          <p:cNvSpPr/>
          <p:nvPr/>
        </p:nvSpPr>
        <p:spPr>
          <a:xfrm>
            <a:off x="3960" y="2332080"/>
            <a:ext cx="10288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бъе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45800" y="3151080"/>
            <a:ext cx="25408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Энергия образован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00200" y="5267160"/>
            <a:ext cx="349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44720" y="4387680"/>
            <a:ext cx="1990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Энергия Гиббс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5484960"/>
            <a:ext cx="10287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взаимодействие с другими дефектам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– коалесценция, конденсация, диспропорционирование, диссоциация</a:t>
            </a:r>
            <a:br>
              <a:rPr sz="1900"/>
            </a:b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движени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– скольжение, переползание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3" name=""/>
          <p:cNvGraphicFramePr/>
          <p:nvPr/>
        </p:nvGraphicFramePr>
        <p:xfrm>
          <a:off x="3529080" y="1019160"/>
          <a:ext cx="3222720" cy="11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29080" y="1019160"/>
                    <a:ext cx="32227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5" name=""/>
          <p:cNvSpPr/>
          <p:nvPr/>
        </p:nvSpPr>
        <p:spPr>
          <a:xfrm>
            <a:off x="10800" y="1373040"/>
            <a:ext cx="30420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техиометрическое числ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0B16-FD63-45A2-9428-50F2103BCD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65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Повторение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44480"/>
            <a:ext cx="1028700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очечные дефекты в твердом тел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- три- тетра- …вакансия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ансионный д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что сохраняется в дефектном кристалле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37040"/>
            <a:ext cx="10287000" cy="15152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вазихимические реакции с участием ваканс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F4C6-EDEF-4FD5-969D-85E0076555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посчитать энергию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моля петель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=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10 н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62360" y="685800"/>
            <a:ext cx="562464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и сдвига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- 4640 кг/мм</a:t>
            </a:r>
            <a:r>
              <a:rPr b="1" i="1" lang="ru-RU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56 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 - 2640 кг/мм</a:t>
            </a:r>
            <a:r>
              <a:rPr b="1" i="1" lang="ru-RU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9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2.86 A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0.3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 - 7850 кг/мм</a:t>
            </a:r>
            <a:r>
              <a:rPr b="1" i="1" lang="ru-RU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49 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.3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8" name=""/>
          <p:cNvGraphicFramePr/>
          <p:nvPr/>
        </p:nvGraphicFramePr>
        <p:xfrm>
          <a:off x="0" y="1096920"/>
          <a:ext cx="4137120" cy="9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96920"/>
                    <a:ext cx="41371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0" name=""/>
          <p:cNvSpPr/>
          <p:nvPr/>
        </p:nvSpPr>
        <p:spPr>
          <a:xfrm>
            <a:off x="0" y="2606760"/>
            <a:ext cx="1028700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6600cc"/>
                </a:solidFill>
                <a:latin typeface="Arial Black"/>
              </a:rPr>
              <a:t>Дислокация является термодинамически неравновесным дефектом и не может возникнуть самопроизвольно в результате термических флуктуаций как вакансия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9100" spc="-1" strike="noStrike">
                <a:solidFill>
                  <a:srgbClr val="6600cc"/>
                </a:solidFill>
                <a:latin typeface="Arial Black"/>
              </a:rPr>
              <a:t>?</a:t>
            </a:r>
            <a:endParaRPr b="0" lang="en-US" sz="9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17400" y="2467080"/>
            <a:ext cx="9418680" cy="3589200"/>
          </a:xfrm>
          <a:custGeom>
            <a:avLst/>
            <a:gdLst/>
            <a:ahLst/>
            <a:rect l="l" t="t" r="r" b="b"/>
            <a:pathLst>
              <a:path w="3115" h="1187">
                <a:moveTo>
                  <a:pt x="272" y="1141"/>
                </a:moveTo>
                <a:cubicBezTo>
                  <a:pt x="590" y="990"/>
                  <a:pt x="908" y="839"/>
                  <a:pt x="1316" y="688"/>
                </a:cubicBezTo>
                <a:cubicBezTo>
                  <a:pt x="1724" y="537"/>
                  <a:pt x="2427" y="317"/>
                  <a:pt x="2722" y="234"/>
                </a:cubicBezTo>
                <a:cubicBezTo>
                  <a:pt x="3017" y="151"/>
                  <a:pt x="3115" y="219"/>
                  <a:pt x="3085" y="189"/>
                </a:cubicBezTo>
                <a:cubicBezTo>
                  <a:pt x="3055" y="159"/>
                  <a:pt x="2737" y="68"/>
                  <a:pt x="2540" y="53"/>
                </a:cubicBezTo>
                <a:cubicBezTo>
                  <a:pt x="2343" y="38"/>
                  <a:pt x="2192" y="0"/>
                  <a:pt x="1905" y="98"/>
                </a:cubicBezTo>
                <a:cubicBezTo>
                  <a:pt x="1618" y="196"/>
                  <a:pt x="1134" y="462"/>
                  <a:pt x="817" y="643"/>
                </a:cubicBezTo>
                <a:cubicBezTo>
                  <a:pt x="500" y="824"/>
                  <a:pt x="136" y="1096"/>
                  <a:pt x="0" y="1187"/>
                </a:cubicBezTo>
                <a:cubicBezTo>
                  <a:pt x="0" y="1187"/>
                  <a:pt x="272" y="1141"/>
                  <a:pt x="272" y="114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028880" y="2857680"/>
            <a:ext cx="9418320" cy="3589200"/>
          </a:xfrm>
          <a:custGeom>
            <a:avLst/>
            <a:gdLst/>
            <a:ahLst/>
            <a:rect l="l" t="t" r="r" b="b"/>
            <a:pathLst>
              <a:path w="3115" h="1187">
                <a:moveTo>
                  <a:pt x="272" y="1141"/>
                </a:moveTo>
                <a:cubicBezTo>
                  <a:pt x="590" y="990"/>
                  <a:pt x="908" y="839"/>
                  <a:pt x="1316" y="688"/>
                </a:cubicBezTo>
                <a:cubicBezTo>
                  <a:pt x="1724" y="537"/>
                  <a:pt x="2427" y="317"/>
                  <a:pt x="2722" y="234"/>
                </a:cubicBezTo>
                <a:cubicBezTo>
                  <a:pt x="3017" y="151"/>
                  <a:pt x="3115" y="219"/>
                  <a:pt x="3085" y="189"/>
                </a:cubicBezTo>
                <a:cubicBezTo>
                  <a:pt x="3055" y="159"/>
                  <a:pt x="2737" y="68"/>
                  <a:pt x="2540" y="53"/>
                </a:cubicBezTo>
                <a:cubicBezTo>
                  <a:pt x="2343" y="38"/>
                  <a:pt x="2192" y="0"/>
                  <a:pt x="1905" y="98"/>
                </a:cubicBezTo>
                <a:cubicBezTo>
                  <a:pt x="1618" y="196"/>
                  <a:pt x="1134" y="462"/>
                  <a:pt x="817" y="643"/>
                </a:cubicBezTo>
                <a:cubicBezTo>
                  <a:pt x="500" y="824"/>
                  <a:pt x="136" y="1096"/>
                  <a:pt x="0" y="1187"/>
                </a:cubicBezTo>
                <a:cubicBezTo>
                  <a:pt x="0" y="1187"/>
                  <a:pt x="272" y="1141"/>
                  <a:pt x="272" y="114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D8E3-80AB-4275-AF61-B7864013C7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дислокац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4" name="" descr=""/>
          <p:cNvPicPr/>
          <p:nvPr/>
        </p:nvPicPr>
        <p:blipFill>
          <a:blip r:embed="rId2"/>
          <a:stretch/>
        </p:blipFill>
        <p:spPr>
          <a:xfrm>
            <a:off x="69840" y="2881440"/>
            <a:ext cx="4867200" cy="368280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0" y="822240"/>
            <a:ext cx="10287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акая размерность лучш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длина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линий на см</a:t>
            </a:r>
            <a:r>
              <a:rPr b="0" lang="ru-RU" sz="3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3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штук на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3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3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143680" y="4414680"/>
            <a:ext cx="507348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при которой материал можно считать аморфны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3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3"/>
          <a:stretch/>
        </p:blipFill>
        <p:spPr>
          <a:xfrm>
            <a:off x="5418000" y="685800"/>
            <a:ext cx="4789800" cy="38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7842-9EAB-402E-A3BC-167B48D167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асчет равновесной плотности дислокаций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69840" y="685800"/>
          <a:ext cx="5635800" cy="321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685800"/>
                    <a:ext cx="56358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"/>
          <p:cNvSpPr/>
          <p:nvPr/>
        </p:nvSpPr>
        <p:spPr>
          <a:xfrm>
            <a:off x="6105600" y="685800"/>
            <a:ext cx="425124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marL="677880" indent="-6778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химический потенциал дефект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78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личество частиц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78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льная доля част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78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ехиометрическое число дефект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3909960" y="3565440"/>
          <a:ext cx="442908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9960" y="3565440"/>
                    <a:ext cx="4429080" cy="1197000"/>
                  </a:xfrm>
                  <a:prstGeom prst="rect">
                    <a:avLst/>
                  </a:prstGeom>
                  <a:ln w="381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4" name=""/>
          <p:cNvSpPr/>
          <p:nvPr/>
        </p:nvSpPr>
        <p:spPr>
          <a:xfrm>
            <a:off x="-69840" y="3976560"/>
            <a:ext cx="37051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решения системы необходимо найти </a:t>
            </a:r>
            <a:r>
              <a:rPr b="1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иметь зависимость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892080" y="5073480"/>
          <a:ext cx="1785960" cy="6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2080" y="5073480"/>
                    <a:ext cx="17859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7" name=""/>
          <p:cNvSpPr/>
          <p:nvPr/>
        </p:nvSpPr>
        <p:spPr>
          <a:xfrm>
            <a:off x="4457880" y="5213520"/>
            <a:ext cx="562284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700" spc="-1" strike="noStrike">
                <a:solidFill>
                  <a:srgbClr val="6600cc"/>
                </a:solidFill>
                <a:latin typeface="Times New Roman"/>
              </a:rPr>
              <a:t>Условный минимум свободной энергии дефектов </a:t>
            </a:r>
            <a:br>
              <a:rPr sz="2700"/>
            </a:br>
            <a:r>
              <a:rPr b="1" i="1" lang="en-US" sz="2700" spc="-1" strike="noStrike">
                <a:solidFill>
                  <a:srgbClr val="6600cc"/>
                </a:solidFill>
                <a:latin typeface="Times New Roman"/>
              </a:rPr>
              <a:t>– метод Лагранж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67D4-E9C4-44FD-A34E-41A8A41192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тандартный химический потенциал петель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69840" y="685800"/>
          <a:ext cx="6581880" cy="31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685800"/>
                    <a:ext cx="65818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1" name=""/>
          <p:cNvSpPr/>
          <p:nvPr/>
        </p:nvSpPr>
        <p:spPr>
          <a:xfrm>
            <a:off x="752400" y="1644480"/>
            <a:ext cx="657360" cy="554040"/>
          </a:xfrm>
          <a:custGeom>
            <a:avLst/>
            <a:gdLst/>
            <a:ahLst/>
            <a:rect l="l" t="t" r="r" b="b"/>
            <a:pathLst>
              <a:path w="266" h="264">
                <a:moveTo>
                  <a:pt x="123" y="0"/>
                </a:moveTo>
                <a:cubicBezTo>
                  <a:pt x="106" y="31"/>
                  <a:pt x="26" y="149"/>
                  <a:pt x="18" y="189"/>
                </a:cubicBezTo>
                <a:cubicBezTo>
                  <a:pt x="10" y="229"/>
                  <a:pt x="50" y="233"/>
                  <a:pt x="77" y="239"/>
                </a:cubicBezTo>
                <a:cubicBezTo>
                  <a:pt x="104" y="245"/>
                  <a:pt x="166" y="225"/>
                  <a:pt x="183" y="227"/>
                </a:cubicBezTo>
                <a:cubicBezTo>
                  <a:pt x="200" y="229"/>
                  <a:pt x="167" y="264"/>
                  <a:pt x="179" y="248"/>
                </a:cubicBezTo>
                <a:cubicBezTo>
                  <a:pt x="191" y="232"/>
                  <a:pt x="244" y="155"/>
                  <a:pt x="255" y="129"/>
                </a:cubicBezTo>
                <a:cubicBezTo>
                  <a:pt x="266" y="103"/>
                  <a:pt x="253" y="107"/>
                  <a:pt x="245" y="90"/>
                </a:cubicBezTo>
                <a:cubicBezTo>
                  <a:pt x="237" y="73"/>
                  <a:pt x="245" y="43"/>
                  <a:pt x="204" y="28"/>
                </a:cubicBezTo>
                <a:cubicBezTo>
                  <a:pt x="163" y="13"/>
                  <a:pt x="42" y="6"/>
                  <a:pt x="0" y="0"/>
                </a:cubicBezTo>
              </a:path>
            </a:pathLst>
          </a:custGeom>
          <a:noFill/>
          <a:ln w="38160">
            <a:solidFill>
              <a:srgbClr val="cc6600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51120" y="2881440"/>
            <a:ext cx="685800" cy="547560"/>
          </a:xfrm>
          <a:custGeom>
            <a:avLst/>
            <a:gdLst/>
            <a:ahLst/>
            <a:rect l="l" t="t" r="r" b="b"/>
            <a:pathLst>
              <a:path w="276" h="297">
                <a:moveTo>
                  <a:pt x="132" y="57"/>
                </a:moveTo>
                <a:cubicBezTo>
                  <a:pt x="66" y="106"/>
                  <a:pt x="0" y="155"/>
                  <a:pt x="9" y="193"/>
                </a:cubicBezTo>
                <a:cubicBezTo>
                  <a:pt x="19" y="231"/>
                  <a:pt x="154" y="271"/>
                  <a:pt x="192" y="284"/>
                </a:cubicBezTo>
                <a:cubicBezTo>
                  <a:pt x="230" y="297"/>
                  <a:pt x="226" y="287"/>
                  <a:pt x="238" y="271"/>
                </a:cubicBezTo>
                <a:cubicBezTo>
                  <a:pt x="250" y="255"/>
                  <a:pt x="265" y="228"/>
                  <a:pt x="264" y="186"/>
                </a:cubicBezTo>
                <a:cubicBezTo>
                  <a:pt x="263" y="144"/>
                  <a:pt x="276" y="42"/>
                  <a:pt x="234" y="21"/>
                </a:cubicBezTo>
                <a:cubicBezTo>
                  <a:pt x="192" y="0"/>
                  <a:pt x="56" y="50"/>
                  <a:pt x="9" y="57"/>
                </a:cubicBezTo>
              </a:path>
            </a:pathLst>
          </a:custGeom>
          <a:noFill/>
          <a:ln w="38160">
            <a:solidFill>
              <a:srgbClr val="cc6600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377040" y="1508040"/>
            <a:ext cx="384012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300" spc="-1" strike="noStrike">
                <a:solidFill>
                  <a:srgbClr val="6600cc"/>
                </a:solidFill>
                <a:latin typeface="Times New Roman"/>
              </a:rPr>
              <a:t>ростом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размера частиц энергия образования </a:t>
            </a:r>
            <a:r>
              <a:rPr b="0" lang="ru-RU" sz="2300" spc="-1" strike="noStrike">
                <a:solidFill>
                  <a:srgbClr val="6600cc"/>
                </a:solidFill>
                <a:latin typeface="Times New Roman"/>
              </a:rPr>
              <a:t>убывае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нергия образования зависит от давления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ак как дислокация имеет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собственный объё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143680" y="547560"/>
            <a:ext cx="43876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В пересчете на г-атом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кристалл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6280" y="4662360"/>
            <a:ext cx="973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стандартный химический потенциал образования дефекта является функцией упругих и геометрических характеристик материала, давления, формы дефекта и стехиометрического числа дефект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BBBD-16D1-4DE3-89C5-2BCCDA15A2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аспределение по размерам дефекто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" descr=""/>
          <p:cNvPicPr/>
          <p:nvPr/>
        </p:nvPicPr>
        <p:blipFill>
          <a:blip r:embed="rId2"/>
          <a:stretch/>
        </p:blipFill>
        <p:spPr>
          <a:xfrm>
            <a:off x="3240" y="685800"/>
            <a:ext cx="3219480" cy="322092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3"/>
          <a:srcRect l="3373" t="0" r="2326" b="0"/>
          <a:stretch/>
        </p:blipFill>
        <p:spPr>
          <a:xfrm>
            <a:off x="3498840" y="685800"/>
            <a:ext cx="3219480" cy="322092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4"/>
          <a:stretch/>
        </p:blipFill>
        <p:spPr>
          <a:xfrm>
            <a:off x="6997680" y="685800"/>
            <a:ext cx="3219480" cy="322092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>
            <a:off x="206280" y="4251240"/>
            <a:ext cx="97394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 ростом температуры плотность дислокационных петель растет, а их средний размер уменьшаетс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 ростом давления плотность дислокационных петель уменьшается, средний размер расте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B0C0-CE9D-4CEB-96B8-1DA53D5A1D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258480" cy="3565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итягиваютс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 противоположным вектором сдвига, лежащие в одной плоскости скольжения, при сближении уничтожают друг друга (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аннигиля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жат в разных плоскостях скольжения, для аннигиляции требуется переполза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тталкиваютс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 одинаковым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-360" y="4526640"/>
            <a:ext cx="6035040" cy="1368360"/>
            <a:chOff x="-360" y="4526640"/>
            <a:chExt cx="6035040" cy="1368360"/>
          </a:xfrm>
        </p:grpSpPr>
        <p:grpSp>
          <p:nvGrpSpPr>
            <p:cNvPr id="1394" name=""/>
            <p:cNvGrpSpPr/>
            <p:nvPr/>
          </p:nvGrpSpPr>
          <p:grpSpPr>
            <a:xfrm>
              <a:off x="110520" y="4630680"/>
              <a:ext cx="1788120" cy="1264320"/>
              <a:chOff x="110520" y="4630680"/>
              <a:chExt cx="1788120" cy="1264320"/>
            </a:xfrm>
          </p:grpSpPr>
          <p:sp>
            <p:nvSpPr>
              <p:cNvPr id="1395" name=""/>
              <p:cNvSpPr/>
              <p:nvPr/>
            </p:nvSpPr>
            <p:spPr>
              <a:xfrm>
                <a:off x="110520" y="4630680"/>
                <a:ext cx="178812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10520" y="5155560"/>
                <a:ext cx="178812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7" name=""/>
              <p:cNvGrpSpPr/>
              <p:nvPr/>
            </p:nvGrpSpPr>
            <p:grpSpPr>
              <a:xfrm>
                <a:off x="780120" y="4969440"/>
                <a:ext cx="445320" cy="211320"/>
                <a:chOff x="780120" y="4969440"/>
                <a:chExt cx="445320" cy="2113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1003680" y="496944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80120" y="518076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2123280" y="4630680"/>
              <a:ext cx="1788120" cy="1264320"/>
              <a:chOff x="2123280" y="4630680"/>
              <a:chExt cx="1788120" cy="1264320"/>
            </a:xfrm>
          </p:grpSpPr>
          <p:sp>
            <p:nvSpPr>
              <p:cNvPr id="1401" name=""/>
              <p:cNvSpPr/>
              <p:nvPr/>
            </p:nvSpPr>
            <p:spPr>
              <a:xfrm>
                <a:off x="2123280" y="4630680"/>
                <a:ext cx="178812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123280" y="5155560"/>
                <a:ext cx="178812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2792880" y="4969440"/>
                <a:ext cx="445320" cy="211320"/>
                <a:chOff x="2792880" y="4969440"/>
                <a:chExt cx="445320" cy="2113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3016440" y="496944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792880" y="518076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6" name=""/>
            <p:cNvSpPr/>
            <p:nvPr/>
          </p:nvSpPr>
          <p:spPr>
            <a:xfrm flipH="1">
              <a:off x="-360" y="5239800"/>
              <a:ext cx="559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4246560" y="4526640"/>
              <a:ext cx="1788120" cy="1264320"/>
              <a:chOff x="4246560" y="4526640"/>
              <a:chExt cx="1788120" cy="1264320"/>
            </a:xfrm>
          </p:grpSpPr>
          <p:sp>
            <p:nvSpPr>
              <p:cNvPr id="1408" name=""/>
              <p:cNvSpPr/>
              <p:nvPr/>
            </p:nvSpPr>
            <p:spPr>
              <a:xfrm flipV="1">
                <a:off x="4246560" y="5158800"/>
                <a:ext cx="1788120" cy="632160"/>
              </a:xfrm>
              <a:prstGeom prst="ellipse">
                <a:avLst/>
              </a:prstGeom>
              <a:gradFill rotWithShape="0">
                <a:gsLst>
                  <a:gs pos="0">
                    <a:srgbClr val="ff3300">
                      <a:alpha val="62352"/>
                    </a:srgbClr>
                  </a:gs>
                  <a:gs pos="100000">
                    <a:srgbClr val="fece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4246560" y="4526640"/>
                <a:ext cx="1788120" cy="739440"/>
              </a:xfrm>
              <a:prstGeom prst="ellipse">
                <a:avLst/>
              </a:prstGeom>
              <a:gradFill rotWithShape="0">
                <a:gsLst>
                  <a:gs pos="0">
                    <a:srgbClr val="6600cc">
                      <a:alpha val="59215"/>
                    </a:srgbClr>
                  </a:gs>
                  <a:gs pos="100000">
                    <a:srgbClr val="e9dbf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4916160" y="5240880"/>
                <a:ext cx="445320" cy="211320"/>
                <a:chOff x="4916160" y="5240880"/>
                <a:chExt cx="445320" cy="211320"/>
              </a:xfrm>
            </p:grpSpPr>
            <p:sp>
              <p:nvSpPr>
                <p:cNvPr id="1411" name=""/>
                <p:cNvSpPr/>
                <p:nvPr/>
              </p:nvSpPr>
              <p:spPr>
                <a:xfrm flipV="1">
                  <a:off x="5139720" y="5240880"/>
                  <a:ext cx="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16160" y="5240880"/>
                  <a:ext cx="44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3" name=""/>
            <p:cNvSpPr/>
            <p:nvPr/>
          </p:nvSpPr>
          <p:spPr>
            <a:xfrm flipH="1">
              <a:off x="4246200" y="5262840"/>
              <a:ext cx="559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238920" y="5158440"/>
              <a:ext cx="559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7199280" y="4391280"/>
            <a:ext cx="1509480" cy="1233000"/>
            <a:chOff x="7199280" y="4391280"/>
            <a:chExt cx="1509480" cy="1233000"/>
          </a:xfrm>
        </p:grpSpPr>
        <p:sp>
          <p:nvSpPr>
            <p:cNvPr id="1416" name=""/>
            <p:cNvSpPr/>
            <p:nvPr/>
          </p:nvSpPr>
          <p:spPr>
            <a:xfrm flipV="1">
              <a:off x="7199280" y="5007960"/>
              <a:ext cx="15094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199280" y="4390920"/>
              <a:ext cx="15094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8" name=""/>
            <p:cNvGrpSpPr/>
            <p:nvPr/>
          </p:nvGrpSpPr>
          <p:grpSpPr>
            <a:xfrm>
              <a:off x="7764480" y="5087520"/>
              <a:ext cx="375840" cy="206280"/>
              <a:chOff x="7764480" y="5087520"/>
              <a:chExt cx="375840" cy="206280"/>
            </a:xfrm>
          </p:grpSpPr>
          <p:sp>
            <p:nvSpPr>
              <p:cNvPr id="1419" name=""/>
              <p:cNvSpPr/>
              <p:nvPr/>
            </p:nvSpPr>
            <p:spPr>
              <a:xfrm flipV="1">
                <a:off x="7953120" y="508752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64480" y="5087520"/>
                <a:ext cx="37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1" name=""/>
          <p:cNvGrpSpPr/>
          <p:nvPr/>
        </p:nvGrpSpPr>
        <p:grpSpPr>
          <a:xfrm>
            <a:off x="8778960" y="5213880"/>
            <a:ext cx="1507680" cy="1233000"/>
            <a:chOff x="8778960" y="5213880"/>
            <a:chExt cx="1507680" cy="1233000"/>
          </a:xfrm>
        </p:grpSpPr>
        <p:sp>
          <p:nvSpPr>
            <p:cNvPr id="1422" name=""/>
            <p:cNvSpPr/>
            <p:nvPr/>
          </p:nvSpPr>
          <p:spPr>
            <a:xfrm flipV="1">
              <a:off x="8778960" y="5830560"/>
              <a:ext cx="15076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8778960" y="5213520"/>
              <a:ext cx="15076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9343440" y="5910120"/>
              <a:ext cx="375480" cy="206280"/>
              <a:chOff x="9343440" y="5910120"/>
              <a:chExt cx="375480" cy="206280"/>
            </a:xfrm>
          </p:grpSpPr>
          <p:sp>
            <p:nvSpPr>
              <p:cNvPr id="1425" name=""/>
              <p:cNvSpPr/>
              <p:nvPr/>
            </p:nvSpPr>
            <p:spPr>
              <a:xfrm flipV="1">
                <a:off x="9532080" y="591012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343440" y="5910120"/>
                <a:ext cx="37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7" name=""/>
          <p:cNvSpPr/>
          <p:nvPr/>
        </p:nvSpPr>
        <p:spPr>
          <a:xfrm flipH="1">
            <a:off x="8435880" y="5896080"/>
            <a:ext cx="5479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88160" y="3840120"/>
            <a:ext cx="397980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8435880" y="5896080"/>
            <a:ext cx="5479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983800" y="3976560"/>
            <a:ext cx="8254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53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-206280" y="3976560"/>
            <a:ext cx="6858000" cy="2467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8435880" y="5896080"/>
            <a:ext cx="5479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8297640" y="5073480"/>
            <a:ext cx="5461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36E8-E59E-418F-B7A8-943192D689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" descr=""/>
          <p:cNvPicPr/>
          <p:nvPr/>
        </p:nvPicPr>
        <p:blipFill>
          <a:blip r:embed="rId2"/>
          <a:stretch/>
        </p:blipFill>
        <p:spPr>
          <a:xfrm>
            <a:off x="4732200" y="2055960"/>
            <a:ext cx="3737160" cy="3084480"/>
          </a:xfrm>
          <a:prstGeom prst="rect">
            <a:avLst/>
          </a:prstGeom>
          <a:ln w="0">
            <a:noFill/>
          </a:ln>
        </p:spPr>
      </p:pic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258480" cy="1098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итягиваютс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 одинаковым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лежащие в в разных плоскостях скольж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166760" y="2196000"/>
            <a:ext cx="1509480" cy="1233000"/>
            <a:chOff x="1166760" y="2196000"/>
            <a:chExt cx="1509480" cy="1233000"/>
          </a:xfrm>
        </p:grpSpPr>
        <p:sp>
          <p:nvSpPr>
            <p:cNvPr id="1440" name=""/>
            <p:cNvSpPr/>
            <p:nvPr/>
          </p:nvSpPr>
          <p:spPr>
            <a:xfrm flipV="1">
              <a:off x="1166760" y="2812680"/>
              <a:ext cx="15094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1166760" y="2195640"/>
              <a:ext cx="15094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1731960" y="2892240"/>
              <a:ext cx="375840" cy="206280"/>
              <a:chOff x="1731960" y="2892240"/>
              <a:chExt cx="375840" cy="206280"/>
            </a:xfrm>
          </p:grpSpPr>
          <p:sp>
            <p:nvSpPr>
              <p:cNvPr id="1443" name=""/>
              <p:cNvSpPr/>
              <p:nvPr/>
            </p:nvSpPr>
            <p:spPr>
              <a:xfrm flipV="1">
                <a:off x="1920600" y="289224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731960" y="2892240"/>
                <a:ext cx="37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5" name=""/>
          <p:cNvGrpSpPr/>
          <p:nvPr/>
        </p:nvGrpSpPr>
        <p:grpSpPr>
          <a:xfrm>
            <a:off x="1440000" y="3292920"/>
            <a:ext cx="1507680" cy="1233000"/>
            <a:chOff x="1440000" y="3292920"/>
            <a:chExt cx="1507680" cy="1233000"/>
          </a:xfrm>
        </p:grpSpPr>
        <p:sp>
          <p:nvSpPr>
            <p:cNvPr id="1446" name=""/>
            <p:cNvSpPr/>
            <p:nvPr/>
          </p:nvSpPr>
          <p:spPr>
            <a:xfrm flipV="1">
              <a:off x="1440000" y="3909600"/>
              <a:ext cx="15076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1440000" y="3292560"/>
              <a:ext cx="15076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2004480" y="3989160"/>
              <a:ext cx="375480" cy="206280"/>
              <a:chOff x="2004480" y="3989160"/>
              <a:chExt cx="375480" cy="206280"/>
            </a:xfrm>
          </p:grpSpPr>
          <p:sp>
            <p:nvSpPr>
              <p:cNvPr id="1449" name=""/>
              <p:cNvSpPr/>
              <p:nvPr/>
            </p:nvSpPr>
            <p:spPr>
              <a:xfrm flipV="1">
                <a:off x="2193120" y="398916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004480" y="3989160"/>
                <a:ext cx="37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1" name=""/>
          <p:cNvGrpSpPr/>
          <p:nvPr/>
        </p:nvGrpSpPr>
        <p:grpSpPr>
          <a:xfrm>
            <a:off x="1577880" y="4251600"/>
            <a:ext cx="1509480" cy="1233000"/>
            <a:chOff x="1577880" y="4251600"/>
            <a:chExt cx="1509480" cy="1233000"/>
          </a:xfrm>
        </p:grpSpPr>
        <p:sp>
          <p:nvSpPr>
            <p:cNvPr id="1452" name=""/>
            <p:cNvSpPr/>
            <p:nvPr/>
          </p:nvSpPr>
          <p:spPr>
            <a:xfrm flipV="1">
              <a:off x="1577880" y="4868280"/>
              <a:ext cx="1509480" cy="616320"/>
            </a:xfrm>
            <a:prstGeom prst="ellipse">
              <a:avLst/>
            </a:prstGeom>
            <a:gradFill rotWithShape="0">
              <a:gsLst>
                <a:gs pos="0">
                  <a:srgbClr val="ff3300">
                    <a:alpha val="62352"/>
                  </a:srgbClr>
                </a:gs>
                <a:gs pos="100000">
                  <a:srgbClr val="fec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1577880" y="4251240"/>
              <a:ext cx="1509480" cy="721080"/>
            </a:xfrm>
            <a:prstGeom prst="ellipse">
              <a:avLst/>
            </a:prstGeom>
            <a:gradFill rotWithShape="0">
              <a:gsLst>
                <a:gs pos="0">
                  <a:srgbClr val="6600cc">
                    <a:alpha val="59215"/>
                  </a:srgbClr>
                </a:gs>
                <a:gs pos="100000">
                  <a:srgbClr val="e9dbf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2143080" y="4947840"/>
              <a:ext cx="375840" cy="206280"/>
              <a:chOff x="2143080" y="4947840"/>
              <a:chExt cx="375840" cy="206280"/>
            </a:xfrm>
          </p:grpSpPr>
          <p:sp>
            <p:nvSpPr>
              <p:cNvPr id="1455" name=""/>
              <p:cNvSpPr/>
              <p:nvPr/>
            </p:nvSpPr>
            <p:spPr>
              <a:xfrm flipV="1">
                <a:off x="2331720" y="4947840"/>
                <a:ext cx="0" cy="20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43080" y="4947840"/>
                <a:ext cx="37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7" name=""/>
          <p:cNvSpPr/>
          <p:nvPr/>
        </p:nvSpPr>
        <p:spPr>
          <a:xfrm>
            <a:off x="5143680" y="6141960"/>
            <a:ext cx="30175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700" spc="-1" strike="noStrike">
                <a:solidFill>
                  <a:srgbClr val="ff3300"/>
                </a:solidFill>
                <a:latin typeface="Times New Roman"/>
              </a:rPr>
              <a:t>Что это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06280" y="5624640"/>
            <a:ext cx="32925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тенка дислокац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4427640" y="3153960"/>
            <a:ext cx="4250520" cy="1096560"/>
            <a:chOff x="4427640" y="3153960"/>
            <a:chExt cx="4250520" cy="1096560"/>
          </a:xfrm>
        </p:grpSpPr>
        <p:sp>
          <p:nvSpPr>
            <p:cNvPr id="1460" name=""/>
            <p:cNvSpPr/>
            <p:nvPr/>
          </p:nvSpPr>
          <p:spPr>
            <a:xfrm flipV="1">
              <a:off x="4427640" y="3565080"/>
              <a:ext cx="1919520" cy="685440"/>
            </a:xfrm>
            <a:prstGeom prst="line">
              <a:avLst/>
            </a:prstGeom>
            <a:ln w="381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622200" y="3153960"/>
              <a:ext cx="2055960" cy="271800"/>
            </a:xfrm>
            <a:prstGeom prst="line">
              <a:avLst/>
            </a:prstGeom>
            <a:ln w="381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3909960" y="5349960"/>
            <a:ext cx="5624640" cy="8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ультат = азориентировка блоков и зерен –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граница зерн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1D25-EBAC-45F0-A664-4B1DC164FB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-360" y="-72000"/>
            <a:ext cx="10287000" cy="8294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67440" cy="658332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2948040" y="5761080"/>
            <a:ext cx="5760720" cy="718200"/>
            <a:chOff x="2948040" y="5761080"/>
            <a:chExt cx="5760720" cy="718200"/>
          </a:xfrm>
        </p:grpSpPr>
        <p:pic>
          <p:nvPicPr>
            <p:cNvPr id="1466" name="" descr=""/>
            <p:cNvPicPr/>
            <p:nvPr/>
          </p:nvPicPr>
          <p:blipFill>
            <a:blip r:embed="rId3"/>
            <a:stretch/>
          </p:blipFill>
          <p:spPr>
            <a:xfrm>
              <a:off x="2948040" y="6099480"/>
              <a:ext cx="5760720" cy="3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4"/>
            <a:stretch/>
          </p:blipFill>
          <p:spPr>
            <a:xfrm>
              <a:off x="2948040" y="5761080"/>
              <a:ext cx="5688720" cy="3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8" name=""/>
          <p:cNvSpPr/>
          <p:nvPr/>
        </p:nvSpPr>
        <p:spPr>
          <a:xfrm>
            <a:off x="5280120" y="0"/>
            <a:ext cx="4800600" cy="1409040"/>
          </a:xfrm>
          <a:prstGeom prst="rect">
            <a:avLst/>
          </a:prstGeom>
          <a:solidFill>
            <a:srgbClr val="f7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700" spc="-1" strike="noStrike">
                <a:solidFill>
                  <a:srgbClr val="ff3300"/>
                </a:solidFill>
                <a:latin typeface="Arial Black"/>
              </a:rPr>
              <a:t>Дислокация – носитель пластической деформа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43680" y="1920960"/>
            <a:ext cx="5006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ислокации вступают в квазихимические реакции так же как точечные дефекты, образуя кластеры и дефекты другого типа – дисклинации, границы зерен, поры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437C-8F6F-4B34-9032-527A4618F5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ислокация и точечные дефекты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5073480" cy="488952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4732200" y="685800"/>
            <a:ext cx="55548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Энергетически выгодное расположение точечных дефектов вблизи дислокации: более мелкий атом - примесь замещения (1), более крупный атом - примесь замещения (2), атом внедрения (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6280" y="822240"/>
            <a:ext cx="5073840" cy="2470320"/>
          </a:xfrm>
          <a:prstGeom prst="ellipse">
            <a:avLst/>
          </a:prstGeom>
          <a:gradFill rotWithShape="0">
            <a:gsLst>
              <a:gs pos="0">
                <a:srgbClr val="ff3300">
                  <a:alpha val="71372"/>
                </a:srgbClr>
              </a:gs>
              <a:gs pos="100000">
                <a:srgbClr val="febcac">
                  <a:alpha val="1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06280" y="3565440"/>
            <a:ext cx="5073840" cy="2470320"/>
          </a:xfrm>
          <a:prstGeom prst="ellipse">
            <a:avLst/>
          </a:prstGeom>
          <a:gradFill rotWithShape="0">
            <a:gsLst>
              <a:gs pos="0">
                <a:srgbClr val="cc99ff">
                  <a:alpha val="71372"/>
                </a:srgbClr>
              </a:gs>
              <a:gs pos="100000">
                <a:srgbClr val="f7f0fe">
                  <a:alpha val="1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143680" y="3429000"/>
            <a:ext cx="51433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Cottrell atmosphere. • атмосфера Коттрелла • облако Коттрелл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= примесные атомы собранные вблизи ядра дислокаци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нергия взаимодействия обратно пропорциональна расстоянию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5349960"/>
            <a:ext cx="56912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можно предположить пространственно-неоднородное по составу распределение примесей в облаке Коттрелл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AA46-4E62-41C4-B6DC-3526CD2F44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овое качество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05920" y="822240"/>
            <a:ext cx="9874440" cy="562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0" algn="ctr">
              <a:spcBef>
                <a:spcPts val="2126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У крупных дефектов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дислокаций, дисклинаций, границ зерен, пор есть свойства необычные для химических компонен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0" algn="ctr">
              <a:spcBef>
                <a:spcPts val="2126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Они могут перемещаться в твердом теле с огромной скорость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0" algn="ctr">
              <a:spcBef>
                <a:spcPts val="2126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7EAE-DB1D-4977-BEF1-D735E4496A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Материалы по теме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10287000" cy="452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652320" indent="-65232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3996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ГУ, Факультет Наук о Материалах  </a:t>
            </a:r>
            <a:r>
              <a:rPr b="1" i="1" lang="en-US" sz="2700" spc="-1" strike="noStrike">
                <a:solidFill>
                  <a:srgbClr val="6600cc"/>
                </a:solidFill>
                <a:latin typeface="Times New Roman"/>
              </a:rPr>
              <a:t>fmg.inorg.chem.msu.ru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курс «Реальная структура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твердого тела»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Лекция 4.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Дислокации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и дислокационные реак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52320" indent="-652320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3996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ридель Ж. Дислок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52320" indent="-652320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3996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оте и Хирт Теория дислокац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7D18-3F44-4405-8F58-AA42B4971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685800"/>
            <a:ext cx="10287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ислокации вступают в квазихимические реакции так же как точечные дефекты, образуя кластеры и дефекты другого типа – дисклинации, границы зерен, поры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2044800"/>
            <a:ext cx="10287000" cy="2660400"/>
          </a:xfrm>
          <a:prstGeom prst="rect">
            <a:avLst/>
          </a:prstGeom>
          <a:solidFill>
            <a:srgbClr val="f7c1c9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marL="652320" indent="-652320"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 Black"/>
              </a:rPr>
              <a:t>В алюминии есть пора объемом 20 нм</a:t>
            </a:r>
            <a:r>
              <a:rPr b="0" lang="ru-RU" sz="2700" spc="-1" strike="noStrike" baseline="30000">
                <a:solidFill>
                  <a:srgbClr val="ff0000"/>
                </a:solidFill>
                <a:latin typeface="Arial Black"/>
              </a:rPr>
              <a:t>3</a:t>
            </a:r>
            <a:r>
              <a:rPr b="0" lang="ru-RU" sz="27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52320" indent="-652320">
              <a:lnSpc>
                <a:spcPct val="100000"/>
              </a:lnSpc>
              <a:spcBef>
                <a:spcPts val="1687"/>
              </a:spcBef>
              <a:buClr>
                <a:srgbClr val="ff0000"/>
              </a:buClr>
              <a:buFont typeface="Arial Black"/>
              <a:buAutoNum type="arabicParenR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 Black"/>
              </a:rPr>
              <a:t>Предложить разные варианты реакции залечивания этой поры и написать количественные соотношения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52320" indent="-652320">
              <a:lnSpc>
                <a:spcPct val="100000"/>
              </a:lnSpc>
              <a:spcBef>
                <a:spcPts val="1687"/>
              </a:spcBef>
              <a:buClr>
                <a:srgbClr val="ff0000"/>
              </a:buClr>
              <a:buFont typeface="Arial Black"/>
              <a:buAutoNum type="arabicParenR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 Black"/>
              </a:rPr>
              <a:t>Какие надо создать условия для реализации предложенных процессов залечивания поры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5213520"/>
            <a:ext cx="10287000" cy="122544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Похожая задача "по-серьезному": в материале реактора под действием 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излучения </a:t>
            </a:r>
            <a:r>
              <a:rPr b="1" lang="en-US" sz="23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-частиц образуются поры, наполненные гелием, 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как с этим бороться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5946-C80F-45F0-AE37-3CFF12DD75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" descr=""/>
          <p:cNvPicPr/>
          <p:nvPr/>
        </p:nvPicPr>
        <p:blipFill>
          <a:blip r:embed="rId2"/>
          <a:stretch/>
        </p:blipFill>
        <p:spPr>
          <a:xfrm>
            <a:off x="69840" y="411120"/>
            <a:ext cx="7817040" cy="6175440"/>
          </a:xfrm>
          <a:prstGeom prst="rect">
            <a:avLst/>
          </a:prstGeom>
          <a:ln w="0">
            <a:noFill/>
          </a:ln>
        </p:spPr>
      </p:pic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оценка для пор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5" name=""/>
          <p:cNvGraphicFramePr/>
          <p:nvPr/>
        </p:nvGraphicFramePr>
        <p:xfrm>
          <a:off x="6240600" y="5761080"/>
          <a:ext cx="18129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0600" y="5761080"/>
                    <a:ext cx="18129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7" name=""/>
          <p:cNvSpPr/>
          <p:nvPr/>
        </p:nvSpPr>
        <p:spPr>
          <a:xfrm>
            <a:off x="1714680" y="685800"/>
            <a:ext cx="85024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ияние температуры (300-900 К) на количество и размеры пор (вакансионных), оценка дл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05600" y="2259000"/>
            <a:ext cx="4111560" cy="1789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подробности утеряны,</a:t>
            </a:r>
            <a:br>
              <a:rPr sz="3000"/>
            </a:br>
            <a:r>
              <a:rPr b="1" i="1" lang="en-US" sz="3800" spc="-1" strike="noStrike">
                <a:solidFill>
                  <a:srgbClr val="ff3300"/>
                </a:solidFill>
                <a:latin typeface="Times New Roman"/>
              </a:rPr>
              <a:t>как это повторить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40000" y="1784520"/>
            <a:ext cx="2058840" cy="2877840"/>
          </a:xfrm>
          <a:prstGeom prst="rect">
            <a:avLst/>
          </a:prstGeom>
          <a:solidFill>
            <a:srgbClr val="bbe0e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41F7-5C56-41FC-82B1-02B7E6923F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" descr=""/>
          <p:cNvPicPr/>
          <p:nvPr/>
        </p:nvPicPr>
        <p:blipFill>
          <a:blip r:embed="rId2"/>
          <a:stretch/>
        </p:blipFill>
        <p:spPr>
          <a:xfrm>
            <a:off x="0" y="411120"/>
            <a:ext cx="7816680" cy="6175440"/>
          </a:xfrm>
          <a:prstGeom prst="rect">
            <a:avLst/>
          </a:prstGeom>
          <a:ln w="0">
            <a:noFill/>
          </a:ln>
        </p:spPr>
      </p:pic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оценка для пор и включений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66760" y="1096920"/>
            <a:ext cx="850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пределение по размера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965920" y="2055960"/>
            <a:ext cx="4113000" cy="276300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Times New Roman"/>
              </a:rPr>
              <a:t>Как изменятся закономерности для газовых пор, твёрдых и жидких включений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5029200"/>
            <a:ext cx="10287000" cy="1508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80960" y="685800"/>
            <a:ext cx="20559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4240" rIns="174240" tIns="87120" bIns="8712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1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280D-248B-42C5-911A-142AC8FDFA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нергия, запасенная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red energ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 в поликристалл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2"/>
          <a:srcRect l="0" t="12991" r="7058" b="4018"/>
          <a:stretch/>
        </p:blipFill>
        <p:spPr>
          <a:xfrm>
            <a:off x="0" y="822240"/>
            <a:ext cx="6240600" cy="562464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6240600" y="961920"/>
            <a:ext cx="384012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наноматериалах энергия запасена не только в границах зерен, а в дефектной структуре самих зере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629C-CAE0-4685-A5C9-58CA634BB5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222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Из вопросов на экзамене по ХТТ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6280" y="1373040"/>
            <a:ext cx="987444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indent="169920">
              <a:spcBef>
                <a:spcPts val="143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акова зависимость концентрации тепловых дефектов от температуры твердого тела? (+неточечных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169920">
              <a:spcBef>
                <a:spcPts val="143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ведите формулу зависимости равновесной концентрации собственных дефектов от температуры и парциального давления компонентов бинарного соединения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169920">
              <a:spcBef>
                <a:spcPts val="143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акова природа дефектов нестехиометрии и условия их формирования в твердом теле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169920">
              <a:spcBef>
                <a:spcPts val="143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ак отображаются явления нарушения стехиометрии на Р-Х, Р-Т, Т-Х- диаграммах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169920">
              <a:spcBef>
                <a:spcPts val="143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Чем определяется область гомогенности твердого тела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7F53-36AA-4600-B80E-321FFE44E2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222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Из программы курса ХТТ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92080" y="822240"/>
            <a:ext cx="8201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961920"/>
            <a:ext cx="10287000" cy="55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Взаимодействие дефектов в кристаллах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Ассоциаты, природа их возникновения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Взаимодействие нейтральных дефектов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Физико-химические основы управления процессами ассоциации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собенности процессов образования ассоциатов в нестехиометрических кристаллах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Равновесие между элементарными ионизированными дефектами и нейтральными ассоциатами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Термодинамические условия возникновения ассоциатов в нестехиометрическом кристалле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Влияние кинетических факторов на протекание интеркристаллических реакций. 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Закалка дефект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33F0-2002-4F5D-9F37-3AA1FC2807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514080" y="1096920"/>
            <a:ext cx="9258120" cy="5213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8280" indent="-368280">
              <a:spcBef>
                <a:spcPts val="850"/>
              </a:spcBef>
              <a:buClr>
                <a:srgbClr val="ff33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Times New Roman"/>
              </a:rPr>
              <a:t>Оценить равновесную концентрацию вакансий, бивакансий, тривакансий и тетравакансий в металле (например </a:t>
            </a: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Al</a:t>
            </a:r>
            <a:r>
              <a:rPr b="0" lang="ru-RU" sz="3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56C6-0623-44CE-85D1-B7BD6FFD04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22240"/>
            <a:ext cx="6105600" cy="35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Группа вакансий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3804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находящихся в соседних узлах кристаллической решетки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3804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Расположенных в одной атомной плоскост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38040" algn="ctr"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двумерный дефек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кансионный диск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" y="563868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6660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808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4200" y="5243400"/>
            <a:ext cx="1382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840" y="55720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452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920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240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8880" y="5243400"/>
            <a:ext cx="1378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320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8840" y="5572080"/>
            <a:ext cx="1400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6352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0000" y="557208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8756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8360" y="5243400"/>
            <a:ext cx="1382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160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87720" y="5570640"/>
            <a:ext cx="13824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240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83040" y="5243400"/>
            <a:ext cx="1382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7720" y="524340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32040" y="5570640"/>
            <a:ext cx="13824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672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8140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520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4840" y="5570640"/>
            <a:ext cx="13824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9520" y="557064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5570640"/>
            <a:ext cx="1378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6600" y="4729320"/>
            <a:ext cx="452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6660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08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200" y="4662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240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28880" y="466236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320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6600" y="465948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5128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2596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560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7028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6400" y="46594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6594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6840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3080" y="46594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9200" y="46594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840" y="500688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840" y="49402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52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920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8840" y="4940280"/>
            <a:ext cx="1400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6352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0000" y="494028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160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87720" y="493704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6240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2040" y="493704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0672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8140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520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4840" y="493704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79520" y="493704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3704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7000" y="592596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7000" y="5859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768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5859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000" y="5859360"/>
            <a:ext cx="1400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43160" y="585936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1476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90880" y="5857920"/>
            <a:ext cx="1382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6556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5200" y="5857920"/>
            <a:ext cx="1382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8456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836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857920"/>
            <a:ext cx="14004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82680" y="585792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59160" y="5857920"/>
            <a:ext cx="1378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203040" y="5313240"/>
            <a:ext cx="466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80120" y="564192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524664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8000" y="524664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94480" y="5246640"/>
            <a:ext cx="1378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0120" y="557532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54800" y="55753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29480" y="55753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9120" y="55753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3800" y="55753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49920" y="557532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2152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98000" y="557208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7268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6840" y="524664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91520" y="5246640"/>
            <a:ext cx="1396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68000" y="5246640"/>
            <a:ext cx="13788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42320" y="55720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17000" y="55720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9168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548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55720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8980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4480" y="55720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3680" y="473220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3680" y="4665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8000" y="4665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94480" y="466560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2680" y="4665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8800" y="466560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3480" y="466560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86880" y="466236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6120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588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05880" y="4662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8056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5524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0480" y="466236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868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53360" y="4662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9480" y="4662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80120" y="501012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0120" y="494352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54800" y="49435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49435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9120" y="49435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494352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49920" y="494352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2152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98000" y="494028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7268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42320" y="49402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17000" y="49402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39168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4548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15120" y="494028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8980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64480" y="494028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3280" y="5929200"/>
            <a:ext cx="4525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3280" y="586260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7960" y="5862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32640" y="5862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02280" y="5862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76960" y="586260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86260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01160" y="5859360"/>
            <a:ext cx="1378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7584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45480" y="5859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2016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9484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864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8280" y="5859360"/>
            <a:ext cx="1382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296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5859360"/>
            <a:ext cx="13968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6880" y="5316480"/>
            <a:ext cx="466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097600"/>
            <a:ext cx="0" cy="1396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3716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9768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8964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16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1548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188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48640" y="509256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59600" y="5410080"/>
            <a:ext cx="0" cy="13824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42636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1832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8508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7884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4380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83756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10432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36928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636040" y="5403600"/>
            <a:ext cx="0" cy="13788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2078" t="3677" r="3628" b="51806"/>
          <a:stretch/>
        </p:blipFill>
        <p:spPr>
          <a:xfrm>
            <a:off x="5829480" y="2494080"/>
            <a:ext cx="4457520" cy="18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715D-0FE9-432F-BE41-4EDDBEC16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ислокаци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62320" y="1820880"/>
            <a:ext cx="4796640" cy="1337400"/>
            <a:chOff x="2362320" y="1820880"/>
            <a:chExt cx="4796640" cy="1337400"/>
          </a:xfrm>
        </p:grpSpPr>
        <p:sp>
          <p:nvSpPr>
            <p:cNvPr id="235" name=""/>
            <p:cNvSpPr/>
            <p:nvPr/>
          </p:nvSpPr>
          <p:spPr>
            <a:xfrm>
              <a:off x="2634120" y="2799000"/>
              <a:ext cx="45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9804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7344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48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3412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0916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8420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348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2816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3200" y="2732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552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5128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2596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7084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552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20560" y="2403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95240" y="27295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028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4532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99840" y="27295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876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344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9200" y="27295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8040" y="1890000"/>
              <a:ext cx="4525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9804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344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848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1704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9244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7480" y="18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3980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1484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90240" y="182088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5880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384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0924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376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3304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0772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82760" y="1820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34120" y="2167920"/>
              <a:ext cx="45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412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0916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8420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5348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2816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3200" y="2101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7552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5128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596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95240" y="209808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028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4532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99840" y="209808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76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4344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9200" y="20980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37640" y="3085920"/>
              <a:ext cx="45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3764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268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8736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664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3168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6720" y="3019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904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5444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948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804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344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4848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3360" y="301680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192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46960" y="3016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2360" y="301680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2472840"/>
              <a:ext cx="466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6200" y="225576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9224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8528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5132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400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1004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344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6948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3552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1560" y="22496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513600" y="256680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77964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7304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33908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63248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89852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19120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45796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364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989680" y="256032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25800" y="1644480"/>
            <a:ext cx="5349240" cy="1644480"/>
            <a:chOff x="2125800" y="1644480"/>
            <a:chExt cx="5349240" cy="1644480"/>
          </a:xfrm>
        </p:grpSpPr>
        <p:sp>
          <p:nvSpPr>
            <p:cNvPr id="331" name=""/>
            <p:cNvSpPr/>
            <p:nvPr/>
          </p:nvSpPr>
          <p:spPr>
            <a:xfrm>
              <a:off x="2125800" y="1644480"/>
              <a:ext cx="5349240" cy="16444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ebd8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36640" y="2793240"/>
              <a:ext cx="452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0560" y="2396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75600" y="2396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50640" y="2396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36640" y="272664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11320" y="272664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7080" y="272664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56000" y="27082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1040" y="2680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06440" y="2653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79480" y="2632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4160" y="266004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95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74080" y="2396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49120" y="2396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24880" y="239688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8840" y="27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73880" y="27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48560" y="27234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02720" y="2650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1640" y="26028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47400" y="260280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22080" y="2632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00560" y="1882800"/>
              <a:ext cx="452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056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560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5064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2028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9496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70000" y="1816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43040" y="1867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8440" y="184104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93480" y="1813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62400" y="1813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37800" y="181368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2840" y="1813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6280" y="185004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5920" y="1867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10600" y="1867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85640" y="1867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36640" y="2161080"/>
              <a:ext cx="452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36640" y="209484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11320" y="209484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7080" y="209484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8240" y="21276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31040" y="214884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06440" y="2167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79480" y="21639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54160" y="21459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9200" y="21096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98840" y="209196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73880" y="209196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48560" y="209196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02720" y="21639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1640" y="2191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47400" y="21913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22080" y="21639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39800" y="3080520"/>
              <a:ext cx="452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39800" y="30139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14840" y="30139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90600" y="301392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59160" y="30139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4200" y="30139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09960" y="301392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82640" y="294732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7680" y="2974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2720" y="3010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02000" y="3010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77040" y="3010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52080" y="30106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240" y="29743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4800" y="29473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50560" y="294732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5600" y="294732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64120" y="2466360"/>
              <a:ext cx="4662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125800" y="4525920"/>
            <a:ext cx="4798080" cy="1339200"/>
            <a:chOff x="2125800" y="4525920"/>
            <a:chExt cx="4798080" cy="1339200"/>
          </a:xfrm>
        </p:grpSpPr>
        <p:sp>
          <p:nvSpPr>
            <p:cNvPr id="408" name=""/>
            <p:cNvSpPr/>
            <p:nvPr/>
          </p:nvSpPr>
          <p:spPr>
            <a:xfrm>
              <a:off x="2397960" y="5505480"/>
              <a:ext cx="452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1520" y="51091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36920" y="51091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1960" y="51091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9796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7264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4768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1732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9236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67040" y="543888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4008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5480" y="543600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9052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5944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3484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0988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6332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3296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08000" y="543600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83400" y="543600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61520" y="4595760"/>
              <a:ext cx="452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61520" y="4529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36920" y="452916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1960" y="4529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80880" y="4529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6280" y="452916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31320" y="4529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0400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904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5408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2372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840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74160" y="45259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2760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97240" y="452592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7192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6960" y="45259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7960" y="4873320"/>
              <a:ext cx="452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9796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264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4768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1732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9236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67040" y="480672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4008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5480" y="480420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9052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5944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3484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0988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6332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08000" y="480420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83400" y="480420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01120" y="5792760"/>
              <a:ext cx="452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01120" y="572616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6160" y="5726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51200" y="5726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20480" y="5726160"/>
              <a:ext cx="13824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95520" y="5726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70560" y="5726160"/>
              <a:ext cx="138960" cy="13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4324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19000" y="572328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9368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6260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38360" y="5723280"/>
              <a:ext cx="138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1340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684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612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116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86200" y="5723280"/>
              <a:ext cx="13896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25800" y="5178960"/>
              <a:ext cx="466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90040" y="496116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5608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4876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1480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0820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424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6764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3404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008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66120" y="495504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277440" y="527220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54348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83724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10328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9668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66272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95540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2144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48748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754240" y="5266800"/>
              <a:ext cx="0" cy="13824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35400" y="496116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01440" y="496116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67480" y="496116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023160" y="527220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289200" y="527220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555240" y="5272200"/>
              <a:ext cx="0" cy="1389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125800" y="3703680"/>
            <a:ext cx="5212800" cy="2882160"/>
            <a:chOff x="2125800" y="3703680"/>
            <a:chExt cx="5212800" cy="2882160"/>
          </a:xfrm>
        </p:grpSpPr>
        <p:sp>
          <p:nvSpPr>
            <p:cNvPr id="507" name=""/>
            <p:cNvSpPr/>
            <p:nvPr/>
          </p:nvSpPr>
          <p:spPr>
            <a:xfrm>
              <a:off x="2125800" y="4390200"/>
              <a:ext cx="5212800" cy="164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125800" y="3703680"/>
              <a:ext cx="5036400" cy="2882160"/>
              <a:chOff x="2125800" y="3703680"/>
              <a:chExt cx="5036400" cy="2882160"/>
            </a:xfrm>
          </p:grpSpPr>
          <p:sp>
            <p:nvSpPr>
              <p:cNvPr id="509" name=""/>
              <p:cNvSpPr/>
              <p:nvPr/>
            </p:nvSpPr>
            <p:spPr>
              <a:xfrm>
                <a:off x="2125800" y="3703680"/>
                <a:ext cx="1783080" cy="288216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ee6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98120" y="3842640"/>
                <a:ext cx="1783080" cy="274284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60392"/>
                    </a:srgbClr>
                  </a:gs>
                  <a:gs pos="100000">
                    <a:srgbClr val="f0e2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36280" y="5493960"/>
                <a:ext cx="452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51400" y="50976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26440" y="50976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201480" y="50976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36280" y="54273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11320" y="54273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86360" y="54273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55640" y="533700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51920" y="52884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05720" y="52459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7840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5416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2884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9776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7316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4820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02720" y="524304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7128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46320" y="52430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080" y="524304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99840" y="4583880"/>
                <a:ext cx="452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499840" y="45176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75600" y="45176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50640" y="45176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19200" y="45176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94960" y="4577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70000" y="4577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24268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1736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93120" y="4686840"/>
                <a:ext cx="13824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6204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3672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612480" y="4686840"/>
                <a:ext cx="13824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6628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35560" y="4686840"/>
                <a:ext cx="13824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1060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985640" y="468684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36280" y="4861800"/>
                <a:ext cx="452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36280" y="47952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11320" y="47952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86360" y="47952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55640" y="47952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30680" y="485568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08960" y="49194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7840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5416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92884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776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47316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74820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02720" y="496476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57128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46320" y="496476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22080" y="496476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39800" y="5781240"/>
                <a:ext cx="452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539800" y="57146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14840" y="57146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9520" y="571464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59160" y="565452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34200" y="5624280"/>
                <a:ext cx="13896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08880" y="557820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8156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57320" y="553032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3236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0092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76680" y="553032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5172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0516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7480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49480" y="5530320"/>
                <a:ext cx="13896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25240" y="5530320"/>
                <a:ext cx="138240" cy="138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364120" y="5167440"/>
                <a:ext cx="466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480960" y="685800"/>
            <a:ext cx="94647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ождение дислокационной петли при схлопывании вакансионного дис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292560"/>
            <a:ext cx="10287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раевая дислокац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CFB9-1E3E-4E1A-8DF2-35FF0BEDE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ислокации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908440" y="1908000"/>
            <a:ext cx="4309560" cy="1116000"/>
            <a:chOff x="2908440" y="1908000"/>
            <a:chExt cx="4309560" cy="1116000"/>
          </a:xfrm>
        </p:grpSpPr>
        <p:sp>
          <p:nvSpPr>
            <p:cNvPr id="587" name=""/>
            <p:cNvSpPr/>
            <p:nvPr/>
          </p:nvSpPr>
          <p:spPr>
            <a:xfrm>
              <a:off x="3152880" y="2723760"/>
              <a:ext cx="406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3012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7780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2476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5288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9984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4680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8872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3568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82640" y="26683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1564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6296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0992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988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6684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13800" y="2394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2200" y="266616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9916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4612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49400" y="266616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9060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3756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85240" y="2666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30120" y="1965600"/>
              <a:ext cx="406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3012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7780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2476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6596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364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0600" y="19101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9360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4056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88240" y="190800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2944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7640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2408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2664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6856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1552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62480" y="1908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52880" y="2197440"/>
              <a:ext cx="406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288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9984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4680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8872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3568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82640" y="214200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1564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296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0992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2200" y="213912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9916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4612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49400" y="213912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9060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3756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85240" y="213912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65760" y="2963520"/>
              <a:ext cx="406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6576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1272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968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0196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4892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95880" y="290808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2852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7620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2316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6472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204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5900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62280" y="290556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84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50800" y="2905560"/>
              <a:ext cx="12492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480" y="2905560"/>
              <a:ext cx="12420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08440" y="2451960"/>
              <a:ext cx="418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53880" y="22708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9292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5644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9548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828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9732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6084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9988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3892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7600" y="22654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942720" y="253008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18176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44528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68432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94784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18688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44968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568944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92848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67160" y="2525040"/>
              <a:ext cx="0" cy="11592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676600" y="1784520"/>
            <a:ext cx="4800240" cy="1369440"/>
            <a:chOff x="2676600" y="1784520"/>
            <a:chExt cx="4800240" cy="1369440"/>
          </a:xfrm>
        </p:grpSpPr>
        <p:sp>
          <p:nvSpPr>
            <p:cNvPr id="683" name=""/>
            <p:cNvSpPr/>
            <p:nvPr/>
          </p:nvSpPr>
          <p:spPr>
            <a:xfrm>
              <a:off x="2676600" y="1784520"/>
              <a:ext cx="4800240" cy="1369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ebd8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34880" y="2741040"/>
              <a:ext cx="406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12840" y="2411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59800" y="2411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06400" y="2411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34880" y="268596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1480" y="268596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29160" y="268596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360" y="26704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16960" y="26474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64280" y="2625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96200" y="26074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43160" y="263052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89760" y="26600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99360" y="2411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45960" y="2411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93280" y="241128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31680" y="26830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78280" y="26830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25240" y="26830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30320" y="26226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1520" y="2582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18840" y="258228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65440" y="26074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12840" y="1982880"/>
              <a:ext cx="406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1284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5980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0640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4832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9528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41880" y="19278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73800" y="1970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1120" y="194832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68080" y="1925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09280" y="1925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56600" y="192528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03200" y="1925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07560" y="19555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49480" y="1970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96440" y="1970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43040" y="1970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134880" y="2214720"/>
              <a:ext cx="406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34880" y="2159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81480" y="2159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29160" y="21592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81160" y="218700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16960" y="22046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64280" y="221976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96200" y="22172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43160" y="2202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89760" y="21718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31680" y="215712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8280" y="215712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25240" y="215712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30320" y="22172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71520" y="22399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18840" y="223992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65440" y="221724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8120" y="2980440"/>
              <a:ext cx="406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48120" y="292500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94720" y="292500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42040" y="292500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83600" y="292500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0200" y="292500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77520" y="292500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09440" y="286956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56400" y="28918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03000" y="2922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44920" y="2922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91520" y="2922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38480" y="292212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43560" y="2891880"/>
              <a:ext cx="12456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84760" y="286956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080" y="286956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78680" y="2869560"/>
              <a:ext cx="12456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90440" y="2468880"/>
              <a:ext cx="4184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06280" y="3755880"/>
            <a:ext cx="4228560" cy="1148760"/>
            <a:chOff x="206280" y="3755880"/>
            <a:chExt cx="4228560" cy="1148760"/>
          </a:xfrm>
        </p:grpSpPr>
        <p:sp>
          <p:nvSpPr>
            <p:cNvPr id="760" name=""/>
            <p:cNvSpPr/>
            <p:nvPr/>
          </p:nvSpPr>
          <p:spPr>
            <a:xfrm>
              <a:off x="446040" y="4596120"/>
              <a:ext cx="398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5800" y="42562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8800" y="425628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11080" y="42562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4604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32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3060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6820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048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52760" y="453924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6272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05720" y="4536720"/>
              <a:ext cx="12204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4800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488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788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7016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376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136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93640" y="45367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36640" y="4536720"/>
              <a:ext cx="12204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800" y="3815640"/>
              <a:ext cx="3989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800" y="37587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8800" y="375876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1080" y="37587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47960" y="37587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90960" y="375876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33240" y="37587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320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8548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2776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6536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0764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50640" y="375588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424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31840" y="375588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7412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16400" y="37558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6040" y="4053960"/>
              <a:ext cx="398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604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832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3060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6820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1048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52760" y="399672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6272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05720" y="399456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4800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8488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2788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7016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1376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5136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93640" y="399456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36640" y="399456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60720" y="4842720"/>
              <a:ext cx="398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0720" y="478548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000" y="47854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5640" y="47854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82880" y="4785480"/>
              <a:ext cx="12204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25160" y="47854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67800" y="4785480"/>
              <a:ext cx="122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7740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20400" y="4783320"/>
              <a:ext cx="12204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268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9956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742560" y="4783320"/>
              <a:ext cx="12204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98484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2880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6604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0868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0960" y="4783320"/>
              <a:ext cx="122400" cy="11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280" y="4316040"/>
              <a:ext cx="4109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32280" y="41292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6664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2476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95912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1796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5232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1116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4552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7988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14600" y="41238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221480" y="439596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145584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71432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194904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20752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244224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70000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93472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316908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404160" y="4391640"/>
              <a:ext cx="0" cy="11880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51840" y="41292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86560" y="41292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20920" y="412920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641040" y="439596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875400" y="439596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110120" y="4395960"/>
              <a:ext cx="0" cy="11916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0" y="3017880"/>
            <a:ext cx="4595400" cy="2469240"/>
            <a:chOff x="0" y="3017880"/>
            <a:chExt cx="4595400" cy="2469240"/>
          </a:xfrm>
        </p:grpSpPr>
        <p:sp>
          <p:nvSpPr>
            <p:cNvPr id="859" name=""/>
            <p:cNvSpPr/>
            <p:nvPr/>
          </p:nvSpPr>
          <p:spPr>
            <a:xfrm>
              <a:off x="0" y="3606120"/>
              <a:ext cx="4595400" cy="1409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0" y="3017880"/>
              <a:ext cx="4439880" cy="2469240"/>
              <a:chOff x="0" y="3017880"/>
              <a:chExt cx="4439880" cy="246924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3017880"/>
                <a:ext cx="1572120" cy="24692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ee6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209960" y="3137040"/>
                <a:ext cx="1572120" cy="235008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60392"/>
                    </a:srgbClr>
                  </a:gs>
                  <a:gs pos="100000">
                    <a:srgbClr val="f0e2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50000" y="455184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3320" y="42120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5960" y="42120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948240" y="42120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50000" y="4494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2640" y="4494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934920" y="4494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172520" y="441720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433520" y="43754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57080" y="43390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86740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11040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35268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58956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83256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7520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18800" y="433656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15604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398320" y="43365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641320" y="433656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9760" y="3772080"/>
                <a:ext cx="39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9760" y="371520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2760" y="371520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5400" y="371520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052280" y="371520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95280" y="37666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537560" y="37666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4752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9016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233160" y="386028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47004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1232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55320" y="386028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9856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036160" y="386028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7880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21080" y="38602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0000" y="401004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0000" y="39531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92640" y="39531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934920" y="39531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72520" y="39531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14800" y="40046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60320" y="40593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86740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11040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35268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8956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3256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07520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18800" y="409824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5604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398320" y="40982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641320" y="409824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65040" y="479808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65040" y="4740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7320" y="4740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49600" y="4740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087200" y="46893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29480" y="466344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572120" y="4623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78208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025080" y="458280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26736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0460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747600" y="458280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8988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83312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07072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313000" y="45828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556000" y="458280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10240" y="4272120"/>
                <a:ext cx="411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480960" y="547560"/>
            <a:ext cx="94647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ождение дислокационной петли при схлопывании вакансионного дис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81440"/>
            <a:ext cx="10287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614988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раевая дислокаци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интовая дислокац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6" descr=""/>
          <p:cNvPicPr/>
          <p:nvPr/>
        </p:nvPicPr>
        <p:blipFill>
          <a:blip r:embed="rId2"/>
          <a:stretch/>
        </p:blipFill>
        <p:spPr>
          <a:xfrm>
            <a:off x="6788160" y="3565440"/>
            <a:ext cx="2743200" cy="16480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0" y="5213520"/>
            <a:ext cx="102870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Во всех случаях можно указать, какое число атомов надо переместить в кристалле для создания нужного дефект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25800" y="6172200"/>
            <a:ext cx="5624280" cy="631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Как быть в случае винтовой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A5EC-6C13-4829-890B-8D8A97350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"/>
          <p:cNvGrpSpPr/>
          <p:nvPr/>
        </p:nvGrpSpPr>
        <p:grpSpPr>
          <a:xfrm>
            <a:off x="5784840" y="2055960"/>
            <a:ext cx="4500720" cy="3753000"/>
            <a:chOff x="5784840" y="2055960"/>
            <a:chExt cx="4500720" cy="3753000"/>
          </a:xfrm>
        </p:grpSpPr>
        <p:sp>
          <p:nvSpPr>
            <p:cNvPr id="941" name=""/>
            <p:cNvSpPr/>
            <p:nvPr/>
          </p:nvSpPr>
          <p:spPr>
            <a:xfrm>
              <a:off x="6743160" y="2055960"/>
              <a:ext cx="27424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4240" rIns="174240" tIns="87120" bIns="8712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 краевые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5784840" y="2467080"/>
              <a:ext cx="4500720" cy="3341880"/>
              <a:chOff x="5784840" y="2467080"/>
              <a:chExt cx="4500720" cy="334188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5784840" y="2741760"/>
                <a:ext cx="4500720" cy="2572200"/>
                <a:chOff x="5784840" y="2741760"/>
                <a:chExt cx="4500720" cy="257220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5920920" y="2741760"/>
                  <a:ext cx="4355640" cy="2542320"/>
                </a:xfrm>
                <a:custGeom>
                  <a:avLst/>
                  <a:gdLst/>
                  <a:ahLst/>
                  <a:rect l="l" t="t" r="r" b="b"/>
                  <a:pathLst>
                    <a:path w="1441" h="841">
                      <a:moveTo>
                        <a:pt x="23" y="178"/>
                      </a:moveTo>
                      <a:cubicBezTo>
                        <a:pt x="31" y="116"/>
                        <a:pt x="28" y="73"/>
                        <a:pt x="91" y="45"/>
                      </a:cubicBezTo>
                      <a:cubicBezTo>
                        <a:pt x="154" y="17"/>
                        <a:pt x="298" y="0"/>
                        <a:pt x="404" y="7"/>
                      </a:cubicBezTo>
                      <a:cubicBezTo>
                        <a:pt x="510" y="14"/>
                        <a:pt x="657" y="46"/>
                        <a:pt x="726" y="90"/>
                      </a:cubicBezTo>
                      <a:cubicBezTo>
                        <a:pt x="795" y="134"/>
                        <a:pt x="779" y="227"/>
                        <a:pt x="817" y="272"/>
                      </a:cubicBezTo>
                      <a:cubicBezTo>
                        <a:pt x="855" y="317"/>
                        <a:pt x="893" y="347"/>
                        <a:pt x="953" y="362"/>
                      </a:cubicBezTo>
                      <a:cubicBezTo>
                        <a:pt x="1013" y="377"/>
                        <a:pt x="1111" y="354"/>
                        <a:pt x="1179" y="362"/>
                      </a:cubicBezTo>
                      <a:cubicBezTo>
                        <a:pt x="1247" y="370"/>
                        <a:pt x="1323" y="348"/>
                        <a:pt x="1361" y="408"/>
                      </a:cubicBezTo>
                      <a:cubicBezTo>
                        <a:pt x="1399" y="468"/>
                        <a:pt x="1441" y="655"/>
                        <a:pt x="1406" y="725"/>
                      </a:cubicBezTo>
                      <a:cubicBezTo>
                        <a:pt x="1371" y="795"/>
                        <a:pt x="1234" y="811"/>
                        <a:pt x="1151" y="826"/>
                      </a:cubicBezTo>
                      <a:cubicBezTo>
                        <a:pt x="1068" y="841"/>
                        <a:pt x="985" y="840"/>
                        <a:pt x="907" y="816"/>
                      </a:cubicBezTo>
                      <a:cubicBezTo>
                        <a:pt x="829" y="792"/>
                        <a:pt x="730" y="723"/>
                        <a:pt x="680" y="680"/>
                      </a:cubicBezTo>
                      <a:cubicBezTo>
                        <a:pt x="630" y="637"/>
                        <a:pt x="638" y="592"/>
                        <a:pt x="605" y="559"/>
                      </a:cubicBezTo>
                      <a:cubicBezTo>
                        <a:pt x="572" y="526"/>
                        <a:pt x="537" y="496"/>
                        <a:pt x="482" y="484"/>
                      </a:cubicBezTo>
                      <a:cubicBezTo>
                        <a:pt x="427" y="472"/>
                        <a:pt x="345" y="495"/>
                        <a:pt x="272" y="484"/>
                      </a:cubicBezTo>
                      <a:cubicBezTo>
                        <a:pt x="199" y="473"/>
                        <a:pt x="82" y="466"/>
                        <a:pt x="41" y="415"/>
                      </a:cubicBezTo>
                      <a:cubicBezTo>
                        <a:pt x="0" y="364"/>
                        <a:pt x="15" y="240"/>
                        <a:pt x="23" y="17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8f2fe"/>
                    </a:gs>
                    <a:gs pos="50000">
                      <a:srgbClr val="cc99ff"/>
                    </a:gs>
                    <a:gs pos="100000">
                      <a:srgbClr val="f8f2f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945040" y="3821040"/>
                  <a:ext cx="406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065640" y="3485160"/>
                  <a:ext cx="1274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314040" y="34851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562080" y="348516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92560" y="4621680"/>
                  <a:ext cx="1274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940960" y="464040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9189000" y="4640400"/>
                  <a:ext cx="1231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9496800" y="44773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9744840" y="44773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0008000" y="4477320"/>
                  <a:ext cx="126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9430200" y="47034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9675720" y="47034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9923040" y="47034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215560" y="462168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462880" y="46216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065640" y="305604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65640" y="300204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314040" y="300204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562080" y="3002040"/>
                  <a:ext cx="1231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803280" y="300204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048080" y="303840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296120" y="307476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562160" y="30711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804080" y="30711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189840" y="3289320"/>
                  <a:ext cx="406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189840" y="3231720"/>
                  <a:ext cx="12384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437880" y="3231720"/>
                  <a:ext cx="12384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682680" y="3231720"/>
                  <a:ext cx="12672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924600" y="3268080"/>
                  <a:ext cx="12312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172280" y="3304440"/>
                  <a:ext cx="12384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20320" y="3304440"/>
                  <a:ext cx="123840" cy="117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686360" y="330444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924680" y="330444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102000" y="4053600"/>
                  <a:ext cx="406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04720" y="486108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853120" y="487872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9101160" y="487872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9342360" y="494280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9590760" y="494280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9835560" y="4942800"/>
                  <a:ext cx="126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127720" y="49240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375400" y="486108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945040" y="3542760"/>
                  <a:ext cx="418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220080" y="280260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220080" y="27478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68120" y="27478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715440" y="27478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957720" y="278424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202160" y="2820240"/>
                  <a:ext cx="1274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50560" y="282024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716600" y="28177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220080" y="431064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726040" y="51181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973720" y="513612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9219240" y="513612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9460440" y="519984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9708480" y="519984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9956880" y="5199840"/>
                  <a:ext cx="1231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001000" y="518112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227080" y="511200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493120" y="511812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707680" y="2777760"/>
                  <a:ext cx="1274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955720" y="277776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9204120" y="274176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445320" y="27417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9693360" y="27417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9938160" y="274176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230680" y="277776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478000" y="277776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829000" y="30348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9076680" y="30348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9321840" y="29988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9563400" y="29988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9811440" y="29988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59480" y="299880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103240" y="30348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330040" y="30286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596080" y="30348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743160" y="46882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991200" y="46882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236000" y="46882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77920" y="4688280"/>
                  <a:ext cx="1231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725240" y="46882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973640" y="46882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017760" y="46882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244560" y="4682880"/>
                  <a:ext cx="1231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510600" y="46882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389280" y="49150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637320" y="49150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85000" y="49150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126920" y="49150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74960" y="49150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19760" y="491508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911560" y="4915080"/>
                  <a:ext cx="1274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59600" y="491508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510600" y="5172120"/>
                  <a:ext cx="1231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757920" y="51721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002720" y="5172120"/>
                  <a:ext cx="1274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44640" y="51721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493040" y="51721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740360" y="5172120"/>
                  <a:ext cx="123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784840" y="519012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011640" y="51660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277680" y="5172120"/>
                  <a:ext cx="126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674920" y="32706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8922960" y="32706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9170280" y="32346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9412560" y="32346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9659880" y="32346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9905400" y="32346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96840" y="32706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445240" y="3270600"/>
                  <a:ext cx="123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864560" y="493020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985880" y="2820240"/>
                  <a:ext cx="126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21360600">
                  <a:off x="10094760" y="348876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195960" y="452232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056640" y="475200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945040" y="499392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5806080" y="5253840"/>
                  <a:ext cx="406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rot="54600">
                  <a:off x="5996520" y="4437000"/>
                  <a:ext cx="135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rot="54600">
                  <a:off x="6259680" y="444312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rot="54600">
                  <a:off x="6525720" y="4446720"/>
                  <a:ext cx="132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rot="54600">
                  <a:off x="6782040" y="444960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54600">
                  <a:off x="7042680" y="4419360"/>
                  <a:ext cx="135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54600">
                  <a:off x="7308720" y="4425480"/>
                  <a:ext cx="132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21589800">
                  <a:off x="6192720" y="372744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21589800">
                  <a:off x="6446520" y="3724560"/>
                  <a:ext cx="12996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21589800">
                  <a:off x="6700320" y="3724560"/>
                  <a:ext cx="12996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21589800">
                  <a:off x="6950880" y="3688200"/>
                  <a:ext cx="12744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21589800">
                  <a:off x="6028920" y="3965760"/>
                  <a:ext cx="12744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21589800">
                  <a:off x="6283440" y="3965760"/>
                  <a:ext cx="12924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21589800">
                  <a:off x="6536880" y="3963240"/>
                  <a:ext cx="12996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21589800">
                  <a:off x="6785280" y="396576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21589800">
                  <a:off x="7038720" y="392688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21300000">
                  <a:off x="7196400" y="367812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21300000">
                  <a:off x="7450200" y="365436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21300000">
                  <a:off x="7722360" y="3627720"/>
                  <a:ext cx="12672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21300000">
                  <a:off x="7994520" y="3576240"/>
                  <a:ext cx="12924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21300000">
                  <a:off x="7308360" y="3908520"/>
                  <a:ext cx="12672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21300000">
                  <a:off x="7580520" y="388404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21300000">
                  <a:off x="7824960" y="3859920"/>
                  <a:ext cx="12924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21300000">
                  <a:off x="8103240" y="381204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21589800">
                  <a:off x="6120360" y="422280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21589800">
                  <a:off x="6373800" y="4222800"/>
                  <a:ext cx="12996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21589800">
                  <a:off x="6628320" y="4222800"/>
                  <a:ext cx="12924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21589800">
                  <a:off x="6879240" y="418644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21589800">
                  <a:off x="7132680" y="4186440"/>
                  <a:ext cx="12672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40200">
                  <a:off x="8672040" y="4277880"/>
                  <a:ext cx="135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40200">
                  <a:off x="8953200" y="4247640"/>
                  <a:ext cx="132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40200">
                  <a:off x="9221760" y="4247640"/>
                  <a:ext cx="132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40200">
                  <a:off x="9481680" y="425304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40200">
                  <a:off x="9742320" y="4256640"/>
                  <a:ext cx="13572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40200">
                  <a:off x="10004760" y="4256640"/>
                  <a:ext cx="1328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40200">
                  <a:off x="8424000" y="427428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21574800">
                  <a:off x="8853120" y="348228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21574800">
                  <a:off x="9106920" y="3478680"/>
                  <a:ext cx="12672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21574800">
                  <a:off x="9360720" y="3478680"/>
                  <a:ext cx="12996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21574800">
                  <a:off x="9608760" y="3478680"/>
                  <a:ext cx="12672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21574800">
                  <a:off x="9862920" y="3476160"/>
                  <a:ext cx="12996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21574800">
                  <a:off x="8308800" y="348840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21574800">
                  <a:off x="8611200" y="3484800"/>
                  <a:ext cx="1328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21574800">
                  <a:off x="8690040" y="372420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21574800">
                  <a:off x="8943480" y="372060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21574800">
                  <a:off x="9198000" y="3718080"/>
                  <a:ext cx="1292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21574800">
                  <a:off x="9445320" y="371808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21574800">
                  <a:off x="9699480" y="3718080"/>
                  <a:ext cx="1292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21574800">
                  <a:off x="9956880" y="371448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21574800">
                  <a:off x="8381520" y="3727080"/>
                  <a:ext cx="1328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21574800">
                  <a:off x="8780040" y="3980520"/>
                  <a:ext cx="12672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21574800">
                  <a:off x="9037440" y="397800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21574800">
                  <a:off x="9291600" y="3975120"/>
                  <a:ext cx="1292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21574800">
                  <a:off x="9539280" y="397800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21574800">
                  <a:off x="9793440" y="3975120"/>
                  <a:ext cx="1292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21574800">
                  <a:off x="10047240" y="3971520"/>
                  <a:ext cx="12672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21190800">
                  <a:off x="8163720" y="432540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21190800">
                  <a:off x="7634520" y="4415760"/>
                  <a:ext cx="13284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21190800">
                  <a:off x="7900560" y="4376880"/>
                  <a:ext cx="13572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21125400">
                  <a:off x="7420320" y="4168440"/>
                  <a:ext cx="12672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21125400">
                  <a:off x="7692480" y="4129200"/>
                  <a:ext cx="126720" cy="150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21125400">
                  <a:off x="7934400" y="4096080"/>
                  <a:ext cx="129240" cy="151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21111000">
                  <a:off x="8190720" y="4023000"/>
                  <a:ext cx="1274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21574800">
                  <a:off x="8481600" y="3984120"/>
                  <a:ext cx="132840" cy="147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9348840" y="4386600"/>
                <a:ext cx="275040" cy="275040"/>
                <a:chOff x="9348840" y="4386600"/>
                <a:chExt cx="275040" cy="2750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9348840" y="4386600"/>
                  <a:ext cx="0" cy="27504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9348840" y="4523400"/>
                  <a:ext cx="275040" cy="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607440" y="3425400"/>
                <a:ext cx="274320" cy="274320"/>
                <a:chOff x="6607440" y="3425400"/>
                <a:chExt cx="274320" cy="2743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881760" y="3425400"/>
                  <a:ext cx="0" cy="27432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6607440" y="3563640"/>
                  <a:ext cx="274320" cy="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7976520" y="3600720"/>
                <a:ext cx="0" cy="821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43160" y="5344920"/>
                <a:ext cx="274212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4240" rIns="174240" tIns="87120" bIns="87120" anchor="t">
                <a:sp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Times New Roman"/>
                  </a:rPr>
                  <a:t>2 винтовые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017840" y="2467080"/>
                <a:ext cx="958320" cy="1097640"/>
              </a:xfrm>
              <a:prstGeom prst="line">
                <a:avLst/>
              </a:prstGeom>
              <a:ln w="936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115480" y="2467080"/>
                <a:ext cx="1097280" cy="2055960"/>
              </a:xfrm>
              <a:prstGeom prst="line">
                <a:avLst/>
              </a:prstGeom>
              <a:ln w="936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8115480" y="4250880"/>
                <a:ext cx="136080" cy="12333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Линия дислокации всегда замкнута!!!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028880" y="685800"/>
            <a:ext cx="80913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раевые, винтовые и смешанные дислокации могут либо продолжать друг друга, либо обрываться на поверхности кристалла или зерн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0" y="3976560"/>
            <a:ext cx="4595400" cy="2469600"/>
            <a:chOff x="0" y="3976560"/>
            <a:chExt cx="4595400" cy="2469600"/>
          </a:xfrm>
        </p:grpSpPr>
        <p:sp>
          <p:nvSpPr>
            <p:cNvPr id="1141" name=""/>
            <p:cNvSpPr/>
            <p:nvPr/>
          </p:nvSpPr>
          <p:spPr>
            <a:xfrm>
              <a:off x="0" y="4564800"/>
              <a:ext cx="4595400" cy="1410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0" y="3976560"/>
              <a:ext cx="4439880" cy="2469600"/>
              <a:chOff x="0" y="3976560"/>
              <a:chExt cx="4439880" cy="2469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3976560"/>
                <a:ext cx="1572120" cy="24696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ee6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09960" y="4095720"/>
                <a:ext cx="1572120" cy="235044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60392"/>
                    </a:srgbClr>
                  </a:gs>
                  <a:gs pos="100000">
                    <a:srgbClr val="f0e2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50000" y="551052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3320" y="51710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5960" y="51710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948240" y="51710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50000" y="54536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2640" y="54536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934920" y="54536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172520" y="537624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433520" y="53344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657080" y="529776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86740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11040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35268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8956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3256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07520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918800" y="529560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15604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398320" y="529560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641320" y="529560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29760" y="4730760"/>
                <a:ext cx="39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29760" y="46738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2760" y="46738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5400" y="46738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052280" y="467388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5280" y="47257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537560" y="47257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74752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99016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33160" y="481896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47004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71232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955320" y="481896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79856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036160" y="4818960"/>
                <a:ext cx="12204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27880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521080" y="481896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0000" y="496872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50000" y="491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2640" y="491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934920" y="491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72520" y="491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14800" y="49636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60320" y="50180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86740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11040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35268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8956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3256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07520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918800" y="505692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5604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398320" y="505692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41320" y="505692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65040" y="5756760"/>
                <a:ext cx="398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65040" y="56998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7320" y="56998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49600" y="56998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087200" y="564804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329480" y="5622120"/>
                <a:ext cx="122400" cy="118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72120" y="558288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78208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025080" y="554184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26736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50460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47600" y="554184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98988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83312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07072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313000" y="5541840"/>
                <a:ext cx="12240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556000" y="5541840"/>
                <a:ext cx="122040" cy="119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10240" y="5230800"/>
                <a:ext cx="411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0" y="2606760"/>
            <a:ext cx="4801680" cy="1369440"/>
            <a:chOff x="0" y="2606760"/>
            <a:chExt cx="4801680" cy="1369440"/>
          </a:xfrm>
        </p:grpSpPr>
        <p:sp>
          <p:nvSpPr>
            <p:cNvPr id="1218" name=""/>
            <p:cNvSpPr/>
            <p:nvPr/>
          </p:nvSpPr>
          <p:spPr>
            <a:xfrm>
              <a:off x="0" y="2606760"/>
              <a:ext cx="4801680" cy="136944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ebd8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8280" y="3563280"/>
              <a:ext cx="4062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36600" y="3233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3200" y="3233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0160" y="3233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8280" y="350820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05240" y="350820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52560" y="350820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94120" y="34927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40720" y="34696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88400" y="3447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20680" y="34297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167280" y="345276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14240" y="34822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23840" y="3233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970800" y="3233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18120" y="323352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656160" y="35053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902760" y="35053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49720" y="35053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54080" y="34448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95280" y="3404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2960" y="340452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89560" y="34297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36600" y="2805120"/>
              <a:ext cx="4062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3660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20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3016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7208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1904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65640" y="27500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97920" y="2792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045600" y="277056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92200" y="2747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533760" y="2747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81080" y="274752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28040" y="2747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831680" y="27777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73600" y="2792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20560" y="2792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567160" y="2792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8280" y="3036960"/>
              <a:ext cx="4062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8280" y="2981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5240" y="2981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52560" y="29815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204920" y="300924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0720" y="30268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688400" y="304200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20680" y="30394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167280" y="3024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14240" y="29941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656160" y="297936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02760" y="297936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49720" y="297936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54080" y="30394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95280" y="30621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42960" y="3062160"/>
              <a:ext cx="1242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89560" y="303948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1520" y="3802680"/>
              <a:ext cx="4062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1520" y="374724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8480" y="374724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65800" y="374724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107000" y="374724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53960" y="374724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601280" y="374724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33920" y="369180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080520" y="37141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27480" y="3744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69400" y="3744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16000" y="3744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62960" y="374436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867320" y="3714120"/>
              <a:ext cx="12492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108520" y="369180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56200" y="3691800"/>
              <a:ext cx="12420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02800" y="3691800"/>
              <a:ext cx="1249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4200" y="3291120"/>
              <a:ext cx="4185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691240" y="5691240"/>
            <a:ext cx="44560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мешанные дислокации соединяют винтовые с краевым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3853-15F5-4B4A-AC2B-6FC7AFC14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техиометрическое число дефекта </a:t>
            </a:r>
            <a:r>
              <a:rPr b="1" i="1" lang="en-US" sz="55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i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-360" y="961560"/>
            <a:ext cx="10287000" cy="24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txBody>
          <a:bodyPr lIns="97920" rIns="97920" tIns="48960" bIns="4896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800" spc="-1" strike="noStrike">
                <a:solidFill>
                  <a:srgbClr val="6600cc"/>
                </a:solidFill>
                <a:latin typeface="Times New Roman"/>
              </a:rPr>
              <a:t>– </a:t>
            </a:r>
            <a:r>
              <a:rPr b="0" lang="en-US" sz="3800" spc="-1" strike="noStrike">
                <a:solidFill>
                  <a:srgbClr val="6600cc"/>
                </a:solidFill>
                <a:latin typeface="Times New Roman"/>
              </a:rPr>
              <a:t>это </a:t>
            </a:r>
            <a:r>
              <a:rPr b="1" i="1" lang="en-US" sz="3800" spc="-1" strike="noStrike">
                <a:solidFill>
                  <a:srgbClr val="6600cc"/>
                </a:solidFill>
                <a:latin typeface="Times New Roman"/>
              </a:rPr>
              <a:t>минимальное</a:t>
            </a:r>
            <a:r>
              <a:rPr b="0" lang="en-US" sz="3800" spc="-1" strike="noStrike">
                <a:solidFill>
                  <a:srgbClr val="6600cc"/>
                </a:solidFill>
                <a:latin typeface="Times New Roman"/>
              </a:rPr>
              <a:t> количество атомов, перемещением которых в идеальной кристаллической решетке можно получить соответствующий дефек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3292560"/>
            <a:ext cx="10287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Условие сохранения веществ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и любых изменениях дефектной структуры кристалла количество атомов (молекул) в кристалле остается неизменны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30574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3909960" y="5484960"/>
          <a:ext cx="260676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9960" y="5484960"/>
                    <a:ext cx="26067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7E49-3398-4767-9DA7-AD6577B00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Как найти дислокации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2"/>
          <a:stretch/>
        </p:blipFill>
        <p:spPr>
          <a:xfrm>
            <a:off x="0" y="641520"/>
            <a:ext cx="10287000" cy="62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4 Дислокации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7029-8BB7-411F-B399-FE5B8F8D3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13:43Z</dcterms:modified>
  <cp:revision>86</cp:revision>
  <dc:subject/>
  <dc:title>Кинетика твердофазных реакций </dc:title>
</cp:coreProperties>
</file>