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C77BE-BACB-4578-91F1-D7071D1F1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-3852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A0224-A053-4C98-AF8B-CC704950B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-3852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48865-03E2-4ABC-A56C-68BACC1F4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-3852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A1270-2CA3-40B0-BB50-37744DDD82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-3852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D6BB-52A2-4D59-B45B-AA5757372A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3852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3D98D-742B-4B1D-AC3D-25466D852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3852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40738-B559-4DD4-BE9F-9DBBBAE94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-3852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B2D75-9B21-4240-AC5D-D547AF4EF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028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17507-065C-4CB3-8FBE-820BBA858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3852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1BE0C-EC27-4BD0-AEC4-3F868EE06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-3852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5FEA6-0432-45A3-8093-30D1E627F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-3852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25D2B-C3F8-4A38-A802-0B03AAF18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46600"/>
            <a:ext cx="911376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113400" y="6382800"/>
            <a:ext cx="117324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D1AC-3C4A-4070-987F-43F8A7B4BBA3}" type="slidenum"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fedoseev@phys.unn.ru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3.wmf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8758080" cy="27432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Химия твердого тела</a:t>
            </a:r>
            <a:br>
              <a:rPr sz="5900"/>
            </a:br>
            <a:r>
              <a:rPr b="1" i="1" lang="en-US" sz="5900" spc="-1" strike="noStrike">
                <a:solidFill>
                  <a:srgbClr val="000000"/>
                </a:solidFill>
                <a:latin typeface="Times New Roman"/>
              </a:rPr>
              <a:t>Неточечные дефекты в кристаллах</a:t>
            </a:r>
            <a:endParaRPr b="1" i="1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28880" y="3703320"/>
            <a:ext cx="8229600" cy="26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Лекция 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Химический факультет ННГУ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4 курс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Федосеев Виктор Борисович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ессор кафедры физического материаловедения физического факультета ННГ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fedoseev@phys.unn.r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Методы расчета химических и фазовых равновесий для многокомпонентных систем</a:t>
            </a:r>
            <a:endParaRPr b="1" i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1233360"/>
            <a:ext cx="8896320" cy="9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Решение систем уравнений на основе закона действующих ма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52600" y="2332080"/>
          <a:ext cx="877716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2600" y="2332080"/>
                    <a:ext cx="87771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04840" y="5654520"/>
            <a:ext cx="9563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менные – число компонентов, число фа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  термодинамические параметры (Т, Р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5DB95-F87E-4F06-A50B-CF205FD6A5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0969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етоды расчета химических и фазовых равновесий для многокомпонентных систе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840" y="1370160"/>
            <a:ext cx="9882360" cy="9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шение систем уравнений на основе закона действующих ма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712960"/>
            <a:ext cx="10287000" cy="15404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Для решения необходимо иметь (сочинить) </a:t>
            </a:r>
            <a:r>
              <a:rPr b="1" lang="en-US" sz="2700" spc="-1" strike="noStrike">
                <a:solidFill>
                  <a:srgbClr val="ff3300"/>
                </a:solidFill>
                <a:latin typeface="Times New Roman"/>
              </a:rPr>
              <a:t>достаточное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число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независимых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уравнений реакци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Критичны к выбору нулевого приближени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802040"/>
            <a:ext cx="1028700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cc"/>
                </a:solidFill>
                <a:latin typeface="Times New Roman"/>
              </a:rPr>
              <a:t>+ Иллюзия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, что процессы, соответствующие уравнениям реакции, на самом деле идут в системе – это пережиток алхимии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оронин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Геннадий Федорович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ф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за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а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Хи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Термодинам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МГУ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657F-D6E1-47B2-A8E4-934BBDD12C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0969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Times New Roman"/>
              </a:rPr>
              <a:t>Равновесные концентрации кластеров вакансий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кинетические уравнения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i="1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34936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-1440" y="1233360"/>
          <a:ext cx="7265880" cy="21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40" y="1233360"/>
                    <a:ext cx="726588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0" y="3565440"/>
            <a:ext cx="10287000" cy="589680"/>
          </a:xfrm>
          <a:prstGeom prst="rect">
            <a:avLst/>
          </a:prstGeom>
          <a:solidFill>
            <a:srgbClr val="ffff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Все ли это реакции, в которых образуется биваканси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1720" y="4305240"/>
          <a:ext cx="5200920" cy="85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1720" y="4305240"/>
                    <a:ext cx="52009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0" y="6035760"/>
            <a:ext cx="678816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40" rIns="162720" tIns="81360" bIns="8136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ак тоже можно!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ельдович Я.Б., Боголюбов Н.Н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08520" y="5349960"/>
          <a:ext cx="2333520" cy="549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08520" y="5349960"/>
                    <a:ext cx="23335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5349960"/>
            <a:ext cx="390996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множество других реакций ти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12200" y="2776680"/>
          <a:ext cx="2465280" cy="515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12200" y="2776680"/>
                    <a:ext cx="24652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7473960" y="1373040"/>
            <a:ext cx="281304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ужны константы скорости или  константы равновес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53160" y="4525920"/>
            <a:ext cx="3087720" cy="711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40" rIns="32040" tIns="81360" bIns="813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Где взять К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5415120"/>
            <a:ext cx="3770280" cy="80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40" rIns="32040" tIns="81360" bIns="8136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3300"/>
                </a:solidFill>
                <a:latin typeface="Times New Roman"/>
              </a:rPr>
              <a:t>Надо ли рассматривать все реакции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48908-3766-4154-892B-B46A1C2310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9619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Методы расчета химических и фазовых равновесий для многокомпонентных систем</a:t>
            </a:r>
            <a:endParaRPr b="1" i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1760" y="961920"/>
            <a:ext cx="100854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иск условного экстремума термодинамического потенциала или энтроп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04840" y="2467080"/>
          <a:ext cx="3014640" cy="69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840" y="2467080"/>
                    <a:ext cx="3014640" cy="691920"/>
                  </a:xfrm>
                  <a:prstGeom prst="rect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204840" y="3292560"/>
            <a:ext cx="93978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химический потенциал компонента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4840" y="3703680"/>
            <a:ext cx="97203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сло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химический (элементный) состав систем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храня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15880" y="4802040"/>
          <a:ext cx="3195720" cy="117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5880" y="4802040"/>
                    <a:ext cx="3195720" cy="1179720"/>
                  </a:xfrm>
                  <a:prstGeom prst="rect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302000" y="4368960"/>
          <a:ext cx="727200" cy="57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02000" y="4368960"/>
                    <a:ext cx="7272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280120" y="4208400"/>
            <a:ext cx="4525920" cy="19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число г-атомов элемент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 системе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стехиометрическое число компонента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число молей компонент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59240" y="5006880"/>
          <a:ext cx="647640" cy="617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59240" y="5006880"/>
                    <a:ext cx="64764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484520" y="5708520"/>
          <a:ext cx="411480" cy="601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84520" y="5708520"/>
                    <a:ext cx="41148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5560" y="6216480"/>
            <a:ext cx="635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жно учесть и иные дополнительные усло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33840" y="1920960"/>
            <a:ext cx="6448320" cy="1305720"/>
          </a:xfrm>
          <a:prstGeom prst="rect">
            <a:avLst/>
          </a:prstGeom>
          <a:solidFill>
            <a:srgbClr val="ffff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Термодинамическое равновесие – минимум термодинамического потенциал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53ACC-21F3-4EC6-A713-4287F70EEC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98840" y="685800"/>
            <a:ext cx="67881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0" lang="en-US" sz="4300" spc="-1" strike="noStrike" baseline="-25000">
                <a:solidFill>
                  <a:srgbClr val="ff3300"/>
                </a:solidFill>
                <a:latin typeface="Times New Roman"/>
              </a:rPr>
              <a:t>H,H2O </a:t>
            </a:r>
            <a:r>
              <a:rPr b="0" lang="en-US" sz="4300" spc="-1" strike="noStrike">
                <a:solidFill>
                  <a:srgbClr val="ff3300"/>
                </a:solidFill>
                <a:latin typeface="Times New Roman"/>
              </a:rPr>
              <a:t>= ?</a:t>
            </a:r>
            <a:r>
              <a:rPr b="0" lang="ru-RU" sz="43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43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43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0" lang="en-US" sz="4300" spc="-1" strike="noStrike" baseline="-25000">
                <a:solidFill>
                  <a:srgbClr val="ff3300"/>
                </a:solidFill>
                <a:latin typeface="Times New Roman"/>
              </a:rPr>
              <a:t>O,H2O </a:t>
            </a:r>
            <a:r>
              <a:rPr b="0" lang="en-US" sz="4300" spc="-1" strike="noStrike">
                <a:solidFill>
                  <a:srgbClr val="ff3300"/>
                </a:solidFill>
                <a:latin typeface="Times New Roman"/>
              </a:rPr>
              <a:t>= 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9280" y="887400"/>
          <a:ext cx="2865600" cy="105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887400"/>
                    <a:ext cx="2865600" cy="1057320"/>
                  </a:xfrm>
                  <a:prstGeom prst="rect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2743200"/>
            <a:ext cx="1062828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дородное плам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1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: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…(&gt; 100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мпонентов!!!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i="1" lang="en-US" sz="4300" spc="-1" strike="noStrike" baseline="-25000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4300" spc="-1" strike="noStrike">
                <a:solidFill>
                  <a:srgbClr val="ff3300"/>
                </a:solidFill>
                <a:latin typeface="Times New Roman"/>
              </a:rPr>
              <a:t> = ?</a:t>
            </a:r>
            <a:r>
              <a:rPr b="0" lang="en-US" sz="43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43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4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en-US" sz="43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i="1" lang="en-US" sz="4300" spc="-1" strike="noStrike" baseline="-25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4300" spc="-1" strike="noStrike">
                <a:solidFill>
                  <a:srgbClr val="ff3300"/>
                </a:solidFill>
                <a:latin typeface="Times New Roman"/>
              </a:rPr>
              <a:t> = 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869000" y="1644480"/>
          <a:ext cx="3979800" cy="89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69000" y="1644480"/>
                    <a:ext cx="397980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475CA-679C-483A-AF97-4BF307802A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9619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Методы расчета химических и фазовых равновесий для многокомпонентных систем</a:t>
            </a:r>
            <a:endParaRPr b="1" i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1600" y="822240"/>
            <a:ext cx="98838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имический потенциа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омпонента – парциальное свойство 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парциальный термодинамический потенциа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1600" y="3141720"/>
            <a:ext cx="955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743200"/>
            <a:ext cx="102870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 термодинамическом равновесии (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в отсутствие внешних пол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) химпотенциал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инвариантен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 меняется при переносе из одной области или фазы системы в любую иную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 переносу компонента внутри систем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440000" y="1784520"/>
          <a:ext cx="7503840" cy="8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000" y="1784520"/>
                    <a:ext cx="75038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204840" y="4662360"/>
            <a:ext cx="9877320" cy="17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Химический потенциал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интенсивны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параметр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е зависит от массы системы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ность химических потенциалов определяет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как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Т или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величину и направление движущих сил в термодинамических процессах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 отсутствие внешних полей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05EAC-4CC7-4ABF-B417-CFF8FEF306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233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Times New Roman"/>
              </a:rPr>
              <a:t>Поиск условного минимума энергии методом Лагранжа</a:t>
            </a:r>
            <a:endParaRPr b="1" i="1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03280" y="1233360"/>
          <a:ext cx="4873680" cy="11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3280" y="1233360"/>
                    <a:ext cx="4873680" cy="11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857920" y="1521000"/>
            <a:ext cx="413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ункция Лагранж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04840" y="2332080"/>
          <a:ext cx="74772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4840" y="2332080"/>
                    <a:ext cx="7477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0" y="2332080"/>
            <a:ext cx="549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ожители Лагранж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98440" y="3154320"/>
          <a:ext cx="4757760" cy="2563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8440" y="3154320"/>
                    <a:ext cx="47577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175520" y="3840120"/>
          <a:ext cx="2932200" cy="811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75520" y="3840120"/>
                    <a:ext cx="2932200" cy="811080"/>
                  </a:xfrm>
                  <a:prstGeom prst="rect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90360" y="5697360"/>
          <a:ext cx="1411560" cy="1160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0360" y="5697360"/>
                    <a:ext cx="141156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961240" y="4662360"/>
          <a:ext cx="4071600" cy="1733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61240" y="4662360"/>
                    <a:ext cx="4071600" cy="1733760"/>
                  </a:xfrm>
                  <a:prstGeom prst="rect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653160" y="2195640"/>
            <a:ext cx="274320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 –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элемент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 –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омпон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H,H2O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= 2,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,H2O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D84B7-182C-40B0-AE0D-3550F73C4C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0969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Методы расчета химических и фазовых равновесий для многокомпонентных систем</a:t>
            </a:r>
            <a:endParaRPr b="1" i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481040"/>
            <a:ext cx="102870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</a:rPr>
              <a:t>Методы расчета химических равновесий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316080"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ключены в банки термодинамических данных (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ИВТАНТЕРМО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316080"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читаются в виде спецкурсов в МГУ, МИЭТ и др.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316080"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могут быть быстро реализованы (по мере необходимости) с использованием математических пакетов типа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thcad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Maple, MathLab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 пр. (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ая проблем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– отсутствие необходимых термодинамических данных для индивидуальных химических веществ, участвующих в рассматриваемом процессе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07842-88AD-4BEC-9E44-70A5783423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83800" cy="6888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554800" y="2467080"/>
            <a:ext cx="4732200" cy="183852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рагмент расчета распределения реагирующего газа в центробежном пол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3300"/>
                </a:solidFill>
                <a:latin typeface="Times New Roman"/>
              </a:rPr>
              <a:t>Можно переделать для вакансионных кластеров в поле упругих напряжений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56720" y="0"/>
            <a:ext cx="2330280" cy="437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EC85D-26DA-42DC-B1E2-1BD67EDA03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ак влияет давление на равновесные концентрации вакансий и вакансионных кластеро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--"-- атомов примес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да должны двигаться дефекты вакансионного типа в неоднородном упругом пол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ластеров из атомов примес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28F3C-2A19-46AB-A60F-ACFE12FAF9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5652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овторение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47560"/>
            <a:ext cx="1028700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чечные дефекты в твердом тел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аканс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жузельный (междоузельный) атом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фект по Френкелю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есный атом замещ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есный атом внедр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том замещения большей валентност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нтры окрас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екты по-Шоттки, по-Френк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 что сохраняется в дефектном кристалл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зихимические реакции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20F6A-9E86-4D24-A148-252CA4CB9A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rcRect l="0" t="0" r="0" b="15877"/>
          <a:stretch/>
        </p:blipFill>
        <p:spPr>
          <a:xfrm>
            <a:off x="0" y="685800"/>
            <a:ext cx="7408800" cy="443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9A0C6-5C47-473C-9508-B623CD8233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417640" y="0"/>
            <a:ext cx="4869000" cy="23320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iAl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и 1300К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в зависимости от состава (отклонения от стехиометрии)</a:t>
            </a:r>
            <a:endParaRPr b="1" i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23040" cy="6446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418000" y="4390920"/>
            <a:ext cx="4869000" cy="1686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ая плотность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дефектов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на у стехиометрического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кристалл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909960" y="2332080"/>
            <a:ext cx="6377040" cy="126360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9AED8-8FFD-4AF3-BAA0-B8E40739AE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222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Из вопросов на экзамене по ХТТ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4840" y="1373040"/>
            <a:ext cx="9877320" cy="40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indent="158760"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акова зависимость концентрации тепловых дефектов от температуры твердого тела? (+неточечных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158760"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ыведите формулу зависимости равновесной концентрации собственных дефектов от температуры и парциального давления компонентов бинарного соединения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158760"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акова природа дефектов нестехиометрии и условия их формирования в твердом теле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158760"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ак отображаются явления нарушения стехиометрии на Р-Х, Р-Т, Т-Х- диаграммах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158760"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Чем определяется область гомогенности твердого тела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0873-602A-4975-AB35-C4C68749C0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222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Из программы курса ХТТ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90640" y="822240"/>
            <a:ext cx="8200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61920"/>
            <a:ext cx="10287000" cy="51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indent="158760">
              <a:spcBef>
                <a:spcPts val="1562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</a:rPr>
              <a:t>Взаимодействие дефектов в кристаллах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Ассоциаты, природа их возникновения.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заимодействие нейтральных дефектов.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Физико-химические основы управления процессами ассоциации.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собенности процессов образования ассоциатов в нестехиометрических кристаллах.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авновесие между элементарными ионизированными дефектами и нейтральными ассоциатами.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Термодинамические условия возникновения ассоциатов в нестехиометрическом кристалле.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лияние кинетических факторов на протекание интеркристаллических реакций.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Закалка дефект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8BA8A-7AF0-4F79-B6F3-F58AADCDE0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1" i="1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080" y="1096920"/>
            <a:ext cx="925812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ценить равновесную концентрацию вакансий, бивакансий, тривакансий и тетравакансий в металл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727C1-0096-4932-9E35-F23CFFF41A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Times New Roman"/>
              </a:rPr>
              <a:t>Вакансионный кластер</a:t>
            </a:r>
            <a:endParaRPr b="1" i="1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67080"/>
            <a:ext cx="10287000" cy="6872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Times New Roman"/>
              </a:rPr>
              <a:t>Вакансионный диск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9000" y="822240"/>
            <a:ext cx="658368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руппа (скопление) вакансий, находящихся в соседних узлах кристаллической реше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292560"/>
            <a:ext cx="1028700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руппа ваканси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316080"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ходящихся в соседних узлах кристаллической решетк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316080"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сположенных в одной атомной плоск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316080" algn="ctr"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двумерный дефек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CA5DB-2EAA-422C-A7F2-90FC8CD819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Times New Roman"/>
              </a:rPr>
              <a:t>Включения</a:t>
            </a:r>
            <a:endParaRPr b="1" i="1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067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Олигомеры — полимер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22240"/>
            <a:ext cx="10287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руппа атомов примеси или другой фаз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ходящихся в соседних узлах кристаллической реше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292560"/>
            <a:ext cx="10287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6699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,  N = 2, 3, 4, …, ?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,  N &gt; 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960" y="4525920"/>
            <a:ext cx="905184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возможный критер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en-US" sz="5000" spc="-1" strike="noStrike" baseline="-25000">
                <a:solidFill>
                  <a:srgbClr val="ff3300"/>
                </a:solidFill>
                <a:latin typeface="Times New Roman"/>
              </a:rPr>
              <a:t>Np+1</a:t>
            </a:r>
            <a:r>
              <a:rPr b="1" lang="ru-RU" sz="5000" spc="-1" strike="noStrike" baseline="-25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5000" spc="-1" strike="noStrike">
                <a:solidFill>
                  <a:srgbClr val="ff3300"/>
                </a:solidFill>
                <a:latin typeface="Times New Roman"/>
              </a:rPr>
              <a:t>–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en-US" sz="5000" spc="-1" strike="noStrike" baseline="-25000">
                <a:solidFill>
                  <a:srgbClr val="ff3300"/>
                </a:solidFill>
                <a:latin typeface="Times New Roman"/>
              </a:rPr>
              <a:t>Np</a:t>
            </a:r>
            <a:r>
              <a:rPr b="1" lang="en-US" sz="5000" spc="-1" strike="noStrike">
                <a:solidFill>
                  <a:srgbClr val="ff3300"/>
                </a:solidFill>
                <a:latin typeface="Times New Roman"/>
              </a:rPr>
              <a:t> &lt;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k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7DA64-2249-479E-BE7A-3418D98DC7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заимодействие дефектов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52640"/>
            <a:ext cx="10287000" cy="29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тягиваются или отталкиваются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ансия + Вакансия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вакансия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V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V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+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оузельный + Междоузельный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,2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ансия + Междоузельный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000" y="5608800"/>
            <a:ext cx="10218600" cy="118404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епловые эффекты реакций взаимодействи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ую термодинамическую функцию надо использовать для вакансий и межузельных атомов - </a:t>
            </a:r>
            <a:r>
              <a:rPr b="1" i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, H, G, F </a:t>
            </a:r>
            <a:r>
              <a:rPr b="1" i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377040" y="3632040"/>
            <a:ext cx="2881080" cy="1782360"/>
            <a:chOff x="6377040" y="3632040"/>
            <a:chExt cx="2881080" cy="1782360"/>
          </a:xfrm>
        </p:grpSpPr>
        <p:sp>
          <p:nvSpPr>
            <p:cNvPr id="57" name=""/>
            <p:cNvSpPr/>
            <p:nvPr/>
          </p:nvSpPr>
          <p:spPr>
            <a:xfrm>
              <a:off x="6651720" y="4317840"/>
              <a:ext cx="68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571960" y="4592880"/>
              <a:ext cx="68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7640" y="4293360"/>
              <a:ext cx="1281600" cy="271800"/>
            </a:xfrm>
            <a:custGeom>
              <a:avLst/>
              <a:gdLst/>
              <a:ahLst/>
              <a:rect l="l" t="t" r="r" b="b"/>
              <a:pathLst>
                <a:path w="424" h="90">
                  <a:moveTo>
                    <a:pt x="10" y="0"/>
                  </a:moveTo>
                  <a:cubicBezTo>
                    <a:pt x="14" y="2"/>
                    <a:pt x="0" y="0"/>
                    <a:pt x="32" y="12"/>
                  </a:cubicBezTo>
                  <a:cubicBezTo>
                    <a:pt x="64" y="24"/>
                    <a:pt x="135" y="60"/>
                    <a:pt x="200" y="73"/>
                  </a:cubicBezTo>
                  <a:cubicBezTo>
                    <a:pt x="265" y="86"/>
                    <a:pt x="377" y="87"/>
                    <a:pt x="424" y="9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77040" y="3767400"/>
              <a:ext cx="0" cy="164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77040" y="3632040"/>
              <a:ext cx="68616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2720" rIns="162720" tIns="81360" bIns="8136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516720" y="4865760"/>
            <a:ext cx="377028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сли вакансии притягиваю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88200" y="685800"/>
            <a:ext cx="612180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2720" rIns="162720" tIns="81360" bIns="8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Упругое поле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дальнодействующие сил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04840" y="3565440"/>
            <a:ext cx="5074560" cy="1874880"/>
            <a:chOff x="204840" y="3565440"/>
            <a:chExt cx="5074560" cy="1874880"/>
          </a:xfrm>
        </p:grpSpPr>
        <p:sp>
          <p:nvSpPr>
            <p:cNvPr id="65" name=""/>
            <p:cNvSpPr/>
            <p:nvPr/>
          </p:nvSpPr>
          <p:spPr>
            <a:xfrm>
              <a:off x="479880" y="4251240"/>
              <a:ext cx="68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00120" y="4525920"/>
              <a:ext cx="68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66400" y="3840120"/>
              <a:ext cx="1252440" cy="658800"/>
            </a:xfrm>
            <a:custGeom>
              <a:avLst/>
              <a:gdLst/>
              <a:ahLst/>
              <a:rect l="l" t="t" r="r" b="b"/>
              <a:pathLst>
                <a:path w="414" h="218">
                  <a:moveTo>
                    <a:pt x="0" y="128"/>
                  </a:moveTo>
                  <a:cubicBezTo>
                    <a:pt x="32" y="110"/>
                    <a:pt x="123" y="0"/>
                    <a:pt x="192" y="15"/>
                  </a:cubicBezTo>
                  <a:cubicBezTo>
                    <a:pt x="261" y="30"/>
                    <a:pt x="368" y="176"/>
                    <a:pt x="414" y="21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840" y="3701520"/>
              <a:ext cx="0" cy="164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4840" y="3565440"/>
              <a:ext cx="68652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2720" rIns="162720" tIns="81360" bIns="8136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6320" y="4728600"/>
              <a:ext cx="4391640" cy="71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2720" rIns="162720" tIns="81360" bIns="8136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Если вакансии отталкиваются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то необходима энергия активаци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98480" y="3906360"/>
              <a:ext cx="1780920" cy="10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2720" rIns="162720" tIns="81360" bIns="8136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Энергия активации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k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13600" y="3906360"/>
              <a:ext cx="13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13600" y="4317480"/>
              <a:ext cx="13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23440" y="3906360"/>
              <a:ext cx="0" cy="41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4A157-5098-431D-8F45-1077E753FC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0969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Энергия образования, объем, энтропия и энергия связи (Т=0) </a:t>
            </a:r>
            <a:endParaRPr b="1" i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3441" t="22587" r="4139" b="0"/>
          <a:stretch/>
        </p:blipFill>
        <p:spPr>
          <a:xfrm>
            <a:off x="614520" y="1096920"/>
            <a:ext cx="9191520" cy="552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0C77C-7A01-4202-BAB1-2833F885D6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-38520"/>
            <a:ext cx="10287000" cy="7621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-3412" t="-659" r="0" b="0"/>
          <a:stretch/>
        </p:blipFill>
        <p:spPr>
          <a:xfrm>
            <a:off x="-344520" y="0"/>
            <a:ext cx="10631520" cy="6583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9840" y="4114800"/>
            <a:ext cx="10082160" cy="244944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A7C87-9936-4418-B890-F6DB50AB00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Times New Roman"/>
              </a:rPr>
              <a:t>оценка концентрации тепловых дефектов</a:t>
            </a:r>
            <a:endParaRPr b="1" i="1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096920"/>
            <a:ext cx="10287000" cy="20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tabLst>
                <a:tab algn="l" pos="0"/>
                <a:tab algn="l" pos="5097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Times New Roman"/>
              </a:rPr>
              <a:t>Теоретическая </a:t>
            </a: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Times New Roman"/>
              </a:rPr>
              <a:t>экспериментальна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Квантовая химия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илатометри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Молекулярная динамика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анигилляция позитроно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Метод псевдопотенциало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</a:rPr>
              <a:t>Методы ограничены по размеру "кристалла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03200" y="4937040"/>
            <a:ext cx="7405920" cy="818280"/>
          </a:xfrm>
          <a:prstGeom prst="rect">
            <a:avLst/>
          </a:prstGeom>
          <a:solidFill>
            <a:srgbClr val="ffff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3300"/>
                </a:solidFill>
                <a:latin typeface="Times New Roman"/>
              </a:rPr>
              <a:t>Термодинамическая оценка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292560"/>
            <a:ext cx="9806040" cy="71172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. В. Кирсанов, А. Н. Орлов Моделирование на ЭВМ атомных конфигураций дефектов в металлах УФН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142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 вып. 2. С. 219—261 (198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65E95-3B6B-48F0-82B0-B382A73576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233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Термодинамическое обоснование необходимости существования точечных дефектов в кристалле</a:t>
            </a:r>
            <a:endParaRPr b="1" i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233360"/>
            <a:ext cx="1028700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40" rIns="32040" tIns="81360" bIns="81360" anchor="t">
            <a:spAutoFit/>
          </a:bodyPr>
          <a:p>
            <a:pPr algn="ctr">
              <a:tabLst>
                <a:tab algn="l" pos="0"/>
                <a:tab algn="l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уществование дефек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вышает внутреннюю энергию систем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не выгод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вышает энтропи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выгод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меняет объем кристалл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5960" y="3135240"/>
            <a:ext cx="878040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вновесию соответствует минимум термодинамического потенциа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5960" y="4937040"/>
            <a:ext cx="9112320" cy="1442880"/>
          </a:xfrm>
          <a:prstGeom prst="rect">
            <a:avLst/>
          </a:prstGeom>
          <a:solidFill>
            <a:srgbClr val="cccc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Свободная энергия идеального кристалла больше, чем у дефектног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Кристалл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должен быть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дефектным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3 не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C2381-1142-4584-844E-3BDA8B0C30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7:05:51Z</dcterms:created>
  <dc:creator>Виктор</dc:creator>
  <dc:description/>
  <dc:language>en-US</dc:language>
  <cp:lastModifiedBy>Fedoseev</cp:lastModifiedBy>
  <dcterms:modified xsi:type="dcterms:W3CDTF">2010-12-11T15:03:34Z</dcterms:modified>
  <cp:revision>60</cp:revision>
  <dc:subject/>
  <dc:title>Кинетика твердофазных реакций </dc:title>
</cp:coreProperties>
</file>