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9582-E6F3-4F14-9D9F-F95D2ABE2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40EA-6A93-4459-A511-FE4151F3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944A-7625-4AB3-8D2C-0629B118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DC95-62AC-4FE6-8006-C8CA0E3A7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2A39-8E36-4606-867E-AEAB97533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5F8F-52AD-4C2E-B743-31D245DD9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4D1C-1ED3-4E8A-9055-EA7D12F9F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7E65-2DE9-4952-9202-50C37EBC8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BD08-B725-4171-9CE3-612A4DF72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15B3-81F2-41A0-AC27-7E2FA7B42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2FB1-3AFA-4180-AA07-9139B0D51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76E1-A12B-441F-9C18-A72022E47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6464-1FFA-4E8B-9683-F20FEA635DEE}" type="slidenum">
              <a:rPr b="0" i="1" lang="ru-RU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mdtp://$216066/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73;&#1088;&#1086;&#1091;&#1085;&#1086;&#1074;&#1089;&#1082;&#1086;&#1077;%20&#1076;&#1074;&#1080;&#1078;&#1077;&#1085;&#1080;&#1077;.xmcd" TargetMode="External"/><Relationship Id="rId3" Type="http://schemas.openxmlformats.org/officeDocument/2006/relationships/hyperlink" Target="file:///&#1073;&#1088;&#1086;&#1091;&#1085;&#1086;&#1074;&#1089;&#1082;&#1086;&#1077;%20&#1076;&#1074;&#1080;&#1078;&#1077;&#1085;&#1080;&#1077;.xmcd" TargetMode="External"/><Relationship Id="rId4" Type="http://schemas.openxmlformats.org/officeDocument/2006/relationships/hyperlink" Target="file:///&#1073;&#1088;&#1086;&#1091;&#1085;&#1086;&#1074;&#1089;&#1082;&#1086;&#1077;%20&#1076;&#1074;&#1080;&#1078;&#1077;&#1085;&#1080;&#1077;.xmcd" TargetMode="External"/><Relationship Id="rId5" Type="http://schemas.openxmlformats.org/officeDocument/2006/relationships/hyperlink" Target="file:///&#1073;&#1088;&#1086;&#1091;&#1085;&#1086;&#1074;&#1089;&#1082;&#1086;&#1077;%20&#1076;&#1074;&#1080;&#1078;&#1077;&#1085;&#1080;&#1077;.xmcd" TargetMode="External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6680" y="188640"/>
            <a:ext cx="9396360" cy="18730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инетика твердофазных реакци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многостадийность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234900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ий факультет Н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курс, 9 семе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осеев Виктор Борис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ор кафедры физического материаловедения физического факультета Н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doseev@phys.unn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080" y="0"/>
            <a:ext cx="9258120" cy="441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Повторение вывод параболического закона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0" y="765000"/>
            <a:ext cx="66834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Скорость реакции зависит от скорости диффузии реагентов навстречу друг друг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600" y="541440"/>
            <a:ext cx="3077640" cy="942840"/>
            <a:chOff x="39600" y="541440"/>
            <a:chExt cx="3077640" cy="942840"/>
          </a:xfrm>
        </p:grpSpPr>
        <p:grpSp>
          <p:nvGrpSpPr>
            <p:cNvPr id="138" name=""/>
            <p:cNvGrpSpPr/>
            <p:nvPr/>
          </p:nvGrpSpPr>
          <p:grpSpPr>
            <a:xfrm>
              <a:off x="39600" y="838080"/>
              <a:ext cx="3077640" cy="646200"/>
              <a:chOff x="39600" y="838080"/>
              <a:chExt cx="3077640" cy="646200"/>
            </a:xfrm>
          </p:grpSpPr>
          <p:sp>
            <p:nvSpPr>
              <p:cNvPr id="139" name=""/>
              <p:cNvSpPr/>
              <p:nvPr/>
            </p:nvSpPr>
            <p:spPr>
              <a:xfrm>
                <a:off x="39600" y="909000"/>
                <a:ext cx="1539000" cy="4323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10520" y="909000"/>
                <a:ext cx="1539000" cy="432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40960" y="909000"/>
                <a:ext cx="1376280" cy="432360"/>
              </a:xfrm>
              <a:prstGeom prst="rect">
                <a:avLst/>
              </a:prstGeom>
              <a:solidFill>
                <a:srgbClr val="ffa9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10520" y="1484280"/>
                <a:ext cx="10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24880" y="14130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10520" y="838080"/>
                <a:ext cx="56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092960" y="541440"/>
              <a:ext cx="403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18160" y="3643200"/>
            <a:ext cx="3487320" cy="2232000"/>
            <a:chOff x="6518160" y="3643200"/>
            <a:chExt cx="3487320" cy="223200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rcRect l="0" t="0" r="28966" b="0"/>
            <a:stretch/>
          </p:blipFill>
          <p:spPr>
            <a:xfrm>
              <a:off x="6518160" y="3643200"/>
              <a:ext cx="348732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953400" y="4166640"/>
              <a:ext cx="2614680" cy="136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0" y="1630440"/>
            <a:ext cx="3096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Линейный случа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1160" y="2422440"/>
          <a:ext cx="4700520" cy="16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2422440"/>
                    <a:ext cx="4700520" cy="167184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38240" y="4869000"/>
          <a:ext cx="223344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240" y="4869000"/>
                    <a:ext cx="22334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2408400"/>
            <a:ext cx="6276960" cy="173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1 Написать уравнение диффузии для одного из компон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05280"/>
            <a:ext cx="5789520" cy="6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2 проинтегрир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1760" y="3502080"/>
            <a:ext cx="4415040" cy="261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70800" bIns="370800" anchor="t">
            <a:spAutoFit/>
          </a:bodyPr>
          <a:p>
            <a:pPr algn="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3300"/>
                </a:solidFill>
                <a:latin typeface="Arial"/>
                <a:ea typeface="Arial"/>
              </a:rPr>
              <a:t>3 Нарисовать кинетическую криву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0C40-CACD-45F5-AC5E-A36D02E8D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1028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эффект С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появление диффузионного потока при наличии градиента температуры (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эффект Дюф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Противоположен эффекту Сор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возникновение градиента температуры при наличии концентрационного градиента (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68640"/>
            <a:ext cx="10287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рмофор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тер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гр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phores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несение, перенесение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направленное движение коллоидных частиц или макроионов под действием перепада темпер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каком на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Эйнштейн, Эпштейн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ыль отталкивается теплым телом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лой без пыли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тофор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направленное движение коллоидных частиц или макроионов под действием света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ожи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 направлению лучей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риц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про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971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ффузиофоре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е движение коллоидных частиц или макроионов у поверхности испаряющейся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Эффекты в транспортной зоне: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488280"/>
            <a:ext cx="31989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 Киркенд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F9F1-E5E3-4007-AF61-D604F78D8A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268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Гетерогенные реакции</a:t>
            </a:r>
            <a:br>
              <a:rPr sz="4000"/>
            </a:b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63560"/>
            <a:ext cx="10287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окальные концентрации твердых веществ не меняются в ходе реакции,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улев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ряд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ь твердофазных реакций зависит от време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нулев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ряд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 Многостадийность = процесс имеет ряд последовательно протекающих элементарных стадий, отличающихся по своей природе и скор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дию, имеющую наименьшую скорость, принято наз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лимитирующ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6840"/>
            <a:ext cx="102870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Химическое взаимодействие протека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53964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 границах раздела фа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53964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 окрестности границ раздела фа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A0EC-AF37-471C-BD3E-AEA445642E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07920"/>
            <a:ext cx="10287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оверхностная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иффуз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"смачивание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Образование поверхностных молекулярных пленок промежуточного или конечного продукта в местах конта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озникновение дефектов, разрыхление кристаллических реш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иффуз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Спекание и рекристаллизация исходных веществ и проду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Отжиг дефектов в кристаллической решетке проду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Возго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Диссоци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Собственно хим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D5C4-CE67-493D-8062-196091281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бязательные стадии химического твердофазного процесс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484280"/>
            <a:ext cx="1028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иффуз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 зародыше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бственно химическое взаимодейств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азрыхление кристаллических решеток реагент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581360"/>
            <a:ext cx="10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льные стадии могут отсутствовать, либо протекать как параллельные процес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2C0F-6BD5-4E2C-A7E3-D74549916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дии реакций в твёрдой фазе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07920"/>
            <a:ext cx="10287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верхностная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диффузия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("смачивание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разование поверхностн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лекулярных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плен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жуточного или конечного продукт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в местах контакта (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спекание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озникновение дефектов, разрыхление кристаллических реше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Образование и распад твердых раство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иффуз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Спек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рекристаллизация исходных веществ и проду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Отжиг дефектов в кристаллической решетке проду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Возго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 Диссоци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Возникновение и рост зародышей фазы проду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) Собственно химическ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3A31-8006-4AB1-A27A-AC78A3907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3018" t="10042" r="4864" b="7937"/>
          <a:stretch/>
        </p:blipFill>
        <p:spPr>
          <a:xfrm>
            <a:off x="0" y="4076640"/>
            <a:ext cx="635796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мачиван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573960" y="1197000"/>
          <a:ext cx="21636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3960" y="1197000"/>
                    <a:ext cx="2163600" cy="495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98480" y="3357720"/>
                <a:ext cx="43862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765000"/>
            <a:ext cx="3402000" cy="259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0240" y="1341360"/>
            <a:ext cx="2187720" cy="1511280"/>
          </a:xfrm>
          <a:prstGeom prst="ellipse">
            <a:avLst/>
          </a:prstGeom>
          <a:solidFill>
            <a:srgbClr val="f7a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3240" y="76500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я смачивания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3600" y="1700280"/>
            <a:ext cx="63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м поверхностной диффузии, либо испарения-конденс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57960" y="3716280"/>
            <a:ext cx="39290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– исходное состоя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– обволаки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– припек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 – зонально - оболоченная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6C5D-55C7-45C2-AEC3-69DF7977CF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rcRect l="3018" t="10042" r="4864" b="7937"/>
          <a:stretch/>
        </p:blipFill>
        <p:spPr>
          <a:xfrm>
            <a:off x="0" y="4986360"/>
            <a:ext cx="3846600" cy="1395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не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46600" y="5986440"/>
                <a:ext cx="3644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65040" y="836640"/>
            <a:ext cx="99219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полного покрытия поверхности фазы А слоем вещества В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/сек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поверхностной диффузии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диус частиц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иффузионны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280120" y="2060640"/>
          <a:ext cx="219240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0120" y="2060640"/>
                    <a:ext cx="2192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0" y="386064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.00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117960" y="3357720"/>
            <a:ext cx="3402000" cy="1373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0800000">
            <a:off x="6845400" y="3573000"/>
            <a:ext cx="3441600" cy="2519640"/>
          </a:xfrm>
          <a:prstGeom prst="wedgeRoundRectCallout">
            <a:avLst>
              <a:gd name="adj1" fmla="val 44754"/>
              <a:gd name="adj2" fmla="val 77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чему не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2D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в уравнении Эйнштейна-Смолух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472520" y="5084640"/>
          <a:ext cx="2274840" cy="74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72520" y="5084640"/>
                    <a:ext cx="227484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FAD3-40A6-4E5D-A727-D08B342F5B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емонстрац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7240" y="1484280"/>
            <a:ext cx="866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уновское движение – "проверка"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авнения Эйнштейна-Смолуховского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hCAD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роуновско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вижение.xmc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9E0B-47BF-4A2B-ACDC-2565ECBD2B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060640"/>
            <a:ext cx="10004400" cy="5814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онечное состояние будет ка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ля взаимно не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07920"/>
            <a:ext cx="100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полное смач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279600" cy="347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2681280" y="1413000"/>
          <a:ext cx="469440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1280" y="1413000"/>
                    <a:ext cx="4694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281400" y="4869000"/>
            <a:ext cx="700560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абота когезии и работа адгезии – дать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6600" y="2781360"/>
            <a:ext cx="6440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ить уравнение Юнга в случае сферических поверхнос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ли краево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ПФ РАН Задача - пузырёк в пульсирующем капилляре (кровеносном сосуд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D5E0-E74A-4077-B1DF-B84BE84AFD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600" y="907920"/>
            <a:ext cx="9644040" cy="2240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 топохимическим реакциям относя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Химические превращения, в которых основным реагентом является твердая фаза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 превращения </a:t>
            </a: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локализованы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внутри твердой фазы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ли на ее границ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3429000"/>
            <a:ext cx="947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химические и псевдоморфные превращения минералов (выветривание, дегидратаци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электрохимические реа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локализованные реакции в животных и растительных организ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5CD2-A811-412F-B10E-F965B6F15F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07920"/>
            <a:ext cx="1008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обно спеканию твердых тел А +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Образование новой фазы – твердого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1960" b="11927"/>
          <a:stretch/>
        </p:blipFill>
        <p:spPr>
          <a:xfrm>
            <a:off x="0" y="2924280"/>
            <a:ext cx="10287000" cy="309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0080" y="5950080"/>
            <a:ext cx="100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грамма с непрерывным твердым раств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71120" y="3429000"/>
            <a:ext cx="8064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BC83-658A-4071-AB7B-EE34122B31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пекание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6320" y="3429000"/>
            <a:ext cx="591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то будет, если поверхностная диффузия вел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155736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12960" y="155736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19240" y="1636560"/>
            <a:ext cx="1271520" cy="1363680"/>
          </a:xfrm>
          <a:custGeom>
            <a:avLst/>
            <a:gdLst/>
            <a:ahLst/>
            <a:rect l="l" t="t" r="r" b="b"/>
            <a:pathLst>
              <a:path w="712" h="859">
                <a:moveTo>
                  <a:pt x="116" y="811"/>
                </a:moveTo>
                <a:cubicBezTo>
                  <a:pt x="59" y="764"/>
                  <a:pt x="4" y="576"/>
                  <a:pt x="2" y="442"/>
                </a:cubicBezTo>
                <a:cubicBezTo>
                  <a:pt x="0" y="308"/>
                  <a:pt x="48" y="59"/>
                  <a:pt x="101" y="4"/>
                </a:cubicBezTo>
                <a:cubicBezTo>
                  <a:pt x="167" y="25"/>
                  <a:pt x="234" y="106"/>
                  <a:pt x="320" y="112"/>
                </a:cubicBezTo>
                <a:cubicBezTo>
                  <a:pt x="403" y="119"/>
                  <a:pt x="537" y="0"/>
                  <a:pt x="602" y="46"/>
                </a:cubicBezTo>
                <a:cubicBezTo>
                  <a:pt x="654" y="91"/>
                  <a:pt x="712" y="266"/>
                  <a:pt x="710" y="385"/>
                </a:cubicBezTo>
                <a:cubicBezTo>
                  <a:pt x="708" y="504"/>
                  <a:pt x="648" y="707"/>
                  <a:pt x="587" y="763"/>
                </a:cubicBezTo>
                <a:cubicBezTo>
                  <a:pt x="469" y="715"/>
                  <a:pt x="419" y="713"/>
                  <a:pt x="341" y="721"/>
                </a:cubicBezTo>
                <a:cubicBezTo>
                  <a:pt x="263" y="729"/>
                  <a:pt x="159" y="859"/>
                  <a:pt x="116" y="81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0320" y="148428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72240" y="1484280"/>
            <a:ext cx="186552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7840" y="1366920"/>
            <a:ext cx="1665360" cy="1555560"/>
          </a:xfrm>
          <a:custGeom>
            <a:avLst/>
            <a:gdLst/>
            <a:ahLst/>
            <a:rect l="l" t="t" r="r" b="b"/>
            <a:pathLst>
              <a:path w="932" h="980">
                <a:moveTo>
                  <a:pt x="96" y="971"/>
                </a:moveTo>
                <a:cubicBezTo>
                  <a:pt x="46" y="970"/>
                  <a:pt x="178" y="910"/>
                  <a:pt x="162" y="839"/>
                </a:cubicBezTo>
                <a:cubicBezTo>
                  <a:pt x="146" y="768"/>
                  <a:pt x="4" y="650"/>
                  <a:pt x="2" y="546"/>
                </a:cubicBezTo>
                <a:cubicBezTo>
                  <a:pt x="0" y="442"/>
                  <a:pt x="144" y="295"/>
                  <a:pt x="153" y="215"/>
                </a:cubicBezTo>
                <a:cubicBezTo>
                  <a:pt x="162" y="135"/>
                  <a:pt x="41" y="76"/>
                  <a:pt x="58" y="64"/>
                </a:cubicBezTo>
                <a:cubicBezTo>
                  <a:pt x="63" y="0"/>
                  <a:pt x="193" y="111"/>
                  <a:pt x="257" y="140"/>
                </a:cubicBezTo>
                <a:cubicBezTo>
                  <a:pt x="321" y="169"/>
                  <a:pt x="342" y="247"/>
                  <a:pt x="444" y="236"/>
                </a:cubicBezTo>
                <a:cubicBezTo>
                  <a:pt x="546" y="225"/>
                  <a:pt x="822" y="68"/>
                  <a:pt x="871" y="74"/>
                </a:cubicBezTo>
                <a:cubicBezTo>
                  <a:pt x="932" y="78"/>
                  <a:pt x="768" y="193"/>
                  <a:pt x="738" y="272"/>
                </a:cubicBezTo>
                <a:cubicBezTo>
                  <a:pt x="730" y="346"/>
                  <a:pt x="817" y="430"/>
                  <a:pt x="823" y="518"/>
                </a:cubicBezTo>
                <a:cubicBezTo>
                  <a:pt x="829" y="606"/>
                  <a:pt x="767" y="724"/>
                  <a:pt x="776" y="801"/>
                </a:cubicBezTo>
                <a:cubicBezTo>
                  <a:pt x="785" y="878"/>
                  <a:pt x="932" y="973"/>
                  <a:pt x="880" y="980"/>
                </a:cubicBezTo>
                <a:cubicBezTo>
                  <a:pt x="762" y="932"/>
                  <a:pt x="596" y="847"/>
                  <a:pt x="465" y="845"/>
                </a:cubicBezTo>
                <a:cubicBezTo>
                  <a:pt x="334" y="843"/>
                  <a:pt x="155" y="971"/>
                  <a:pt x="96" y="97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3680" y="1197000"/>
            <a:ext cx="469872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555B-6264-41B9-9B06-36D14C1740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0" t="0" r="1960" b="11927"/>
          <a:stretch/>
        </p:blipFill>
        <p:spPr>
          <a:xfrm>
            <a:off x="1415880" y="620640"/>
            <a:ext cx="7940880" cy="3247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46320" y="4076640"/>
            <a:ext cx="59133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ая скорость диффуз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изменится правая карти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B1CF-1E5C-480F-9566-5DE141A37C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пекание взаимно растворимых твердых те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7320" y="4005360"/>
            <a:ext cx="5913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ая скорость диффуз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то будет, если поверхностная диффузия вел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1040" y="155736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2960" y="155736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9240" y="1636560"/>
            <a:ext cx="1271520" cy="1363680"/>
          </a:xfrm>
          <a:custGeom>
            <a:avLst/>
            <a:gdLst/>
            <a:ahLst/>
            <a:rect l="l" t="t" r="r" b="b"/>
            <a:pathLst>
              <a:path w="712" h="859">
                <a:moveTo>
                  <a:pt x="116" y="811"/>
                </a:moveTo>
                <a:cubicBezTo>
                  <a:pt x="59" y="764"/>
                  <a:pt x="4" y="576"/>
                  <a:pt x="2" y="442"/>
                </a:cubicBezTo>
                <a:cubicBezTo>
                  <a:pt x="0" y="308"/>
                  <a:pt x="48" y="59"/>
                  <a:pt x="101" y="4"/>
                </a:cubicBezTo>
                <a:cubicBezTo>
                  <a:pt x="167" y="25"/>
                  <a:pt x="234" y="106"/>
                  <a:pt x="320" y="112"/>
                </a:cubicBezTo>
                <a:cubicBezTo>
                  <a:pt x="403" y="119"/>
                  <a:pt x="537" y="0"/>
                  <a:pt x="602" y="46"/>
                </a:cubicBezTo>
                <a:cubicBezTo>
                  <a:pt x="654" y="91"/>
                  <a:pt x="712" y="266"/>
                  <a:pt x="710" y="385"/>
                </a:cubicBezTo>
                <a:cubicBezTo>
                  <a:pt x="708" y="504"/>
                  <a:pt x="648" y="707"/>
                  <a:pt x="587" y="763"/>
                </a:cubicBezTo>
                <a:cubicBezTo>
                  <a:pt x="469" y="715"/>
                  <a:pt x="419" y="713"/>
                  <a:pt x="341" y="721"/>
                </a:cubicBezTo>
                <a:cubicBezTo>
                  <a:pt x="263" y="729"/>
                  <a:pt x="159" y="859"/>
                  <a:pt x="116" y="81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0320" y="1484280"/>
            <a:ext cx="1863720" cy="1440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72240" y="1484280"/>
            <a:ext cx="186552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7960" y="1346040"/>
            <a:ext cx="1728720" cy="1595520"/>
          </a:xfrm>
          <a:custGeom>
            <a:avLst/>
            <a:gdLst/>
            <a:ahLst/>
            <a:rect l="l" t="t" r="r" b="b"/>
            <a:pathLst>
              <a:path w="968" h="1005">
                <a:moveTo>
                  <a:pt x="71" y="1005"/>
                </a:moveTo>
                <a:cubicBezTo>
                  <a:pt x="54" y="993"/>
                  <a:pt x="208" y="895"/>
                  <a:pt x="203" y="814"/>
                </a:cubicBezTo>
                <a:cubicBezTo>
                  <a:pt x="198" y="733"/>
                  <a:pt x="41" y="614"/>
                  <a:pt x="43" y="521"/>
                </a:cubicBezTo>
                <a:cubicBezTo>
                  <a:pt x="45" y="428"/>
                  <a:pt x="220" y="332"/>
                  <a:pt x="215" y="256"/>
                </a:cubicBezTo>
                <a:cubicBezTo>
                  <a:pt x="210" y="180"/>
                  <a:pt x="0" y="88"/>
                  <a:pt x="14" y="64"/>
                </a:cubicBezTo>
                <a:cubicBezTo>
                  <a:pt x="19" y="0"/>
                  <a:pt x="219" y="90"/>
                  <a:pt x="298" y="115"/>
                </a:cubicBezTo>
                <a:cubicBezTo>
                  <a:pt x="377" y="140"/>
                  <a:pt x="384" y="217"/>
                  <a:pt x="485" y="211"/>
                </a:cubicBezTo>
                <a:cubicBezTo>
                  <a:pt x="586" y="205"/>
                  <a:pt x="877" y="60"/>
                  <a:pt x="907" y="80"/>
                </a:cubicBezTo>
                <a:cubicBezTo>
                  <a:pt x="968" y="84"/>
                  <a:pt x="691" y="250"/>
                  <a:pt x="667" y="330"/>
                </a:cubicBezTo>
                <a:cubicBezTo>
                  <a:pt x="637" y="410"/>
                  <a:pt x="721" y="492"/>
                  <a:pt x="724" y="563"/>
                </a:cubicBezTo>
                <a:cubicBezTo>
                  <a:pt x="727" y="634"/>
                  <a:pt x="656" y="685"/>
                  <a:pt x="686" y="755"/>
                </a:cubicBezTo>
                <a:cubicBezTo>
                  <a:pt x="716" y="825"/>
                  <a:pt x="937" y="975"/>
                  <a:pt x="907" y="986"/>
                </a:cubicBezTo>
                <a:cubicBezTo>
                  <a:pt x="789" y="938"/>
                  <a:pt x="640" y="819"/>
                  <a:pt x="506" y="820"/>
                </a:cubicBezTo>
                <a:cubicBezTo>
                  <a:pt x="407" y="812"/>
                  <a:pt x="383" y="907"/>
                  <a:pt x="311" y="938"/>
                </a:cubicBezTo>
                <a:cubicBezTo>
                  <a:pt x="239" y="969"/>
                  <a:pt x="121" y="991"/>
                  <a:pt x="71" y="1005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24320" y="1125360"/>
            <a:ext cx="4699080" cy="22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AB98-48FC-4AC3-8864-14BF8CE377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rcRect l="0" t="0" r="2745" b="10156"/>
          <a:stretch/>
        </p:blipFill>
        <p:spPr>
          <a:xfrm>
            <a:off x="0" y="1268280"/>
            <a:ext cx="10287000" cy="439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5734080"/>
            <a:ext cx="100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грамма с эвтек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97680" y="4508640"/>
            <a:ext cx="218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951760" y="443700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8255-78C9-4649-88A5-27465216CF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6320" y="4437000"/>
            <a:ext cx="59133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ая скорость диффуз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изменится правая карти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0" r="2745" b="10156"/>
          <a:stretch/>
        </p:blipFill>
        <p:spPr>
          <a:xfrm>
            <a:off x="1579680" y="1197000"/>
            <a:ext cx="7046640" cy="32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6408-4184-4E49-8910-C55BFE1EC8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516640"/>
            <a:ext cx="100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грамма с химическим соединением АВ и двумя эвтект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разование новых фаз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4367" r="0" b="8116"/>
          <a:stretch/>
        </p:blipFill>
        <p:spPr>
          <a:xfrm>
            <a:off x="0" y="981000"/>
            <a:ext cx="1028700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3146-AD22-4806-AAA3-9EB695BB72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6320" y="4437000"/>
            <a:ext cx="59133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ая скорость диффуз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изменится правая карти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rcRect l="0" t="4367" r="0" b="8116"/>
          <a:stretch/>
        </p:blipFill>
        <p:spPr>
          <a:xfrm>
            <a:off x="1417680" y="1047600"/>
            <a:ext cx="753408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56EE-AB35-4E78-878B-A07C12DCE8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6320" y="3429000"/>
            <a:ext cx="591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то будет, когда в газовой фазе находится третий реаг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31960" y="1052640"/>
            <a:ext cx="469908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6383-E4E2-4F2A-9CF4-AE7FAA0205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73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ля взаимно растворимых твердых тел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6320" y="3429000"/>
            <a:ext cx="591336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то будет, когда в порошке есть третий компон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третий компонент – деф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93960" y="1197000"/>
            <a:ext cx="469728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9454-E121-4EB0-824D-B94A64407C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1000"/>
            <a:ext cx="10287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самодиффу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диффузия частиц однородного вещества при отсутствии градиентов движущих си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концентрационная диффу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еремещение частиц под воздействием градиента концентрации, частицы переходят из области с высокой концентрацией вещества в область, где концентрация этого вещества низка; другое название – нисходящая диффузия, в противном случае – восходящая диффуз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реактивная диффу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диффузионный процесс сопровождается химическими реакци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перекрестная диффу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возникает при наличии корреляции между градиентами движущих сил различной термодинамической приро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600" y="0"/>
            <a:ext cx="964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иды диффузионных процессов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334E-14E5-4E06-8DC0-C9AED7254B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Задачи для </a:t>
            </a:r>
            <a:r>
              <a:rPr b="1" i="1" lang="en-US" sz="3100" spc="-1" strike="noStrike">
                <a:solidFill>
                  <a:srgbClr val="ff3300"/>
                </a:solidFill>
                <a:latin typeface="Times New Roman"/>
              </a:rPr>
              <a:t>взаимно нерастворимых</a:t>
            </a: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 твердых тел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765000"/>
            <a:ext cx="1028700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Как химическая реакция меняет картину?</a:t>
            </a:r>
            <a:br>
              <a:rPr sz="28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ассмотреть (нарисовать) варианты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онент А  </a:t>
            </a: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а) полностью, б) неполностью, в) не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ачивае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 взаим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створи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А, 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раствори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 взаимно растворимо в 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 растворимо только в А, А нерастворимо в 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ная нерастворимость АВ в 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нт с обволакиванием компонента В проду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ополнительные условия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укт АВ  </a:t>
            </a:r>
            <a:r>
              <a:rPr b="1" i="1" lang="ru-RU" sz="2000" spc="-1" strike="noStrike">
                <a:solidFill>
                  <a:srgbClr val="6600cc"/>
                </a:solidFill>
                <a:latin typeface="Arial"/>
              </a:rPr>
              <a:t>а) полностью, б) неполностью, в) не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мач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понен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понент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пон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31040" y="5445000"/>
            <a:ext cx="1216080" cy="93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545680" y="5445000"/>
            <a:ext cx="1134720" cy="863640"/>
          </a:xfrm>
          <a:prstGeom prst="ellipse">
            <a:avLst/>
          </a:prstGeom>
          <a:solidFill>
            <a:srgbClr val="f7a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58EB-47D3-42D7-9149-57D662FDA1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0000" y="1773360"/>
          <a:ext cx="443232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0" y="1773360"/>
                    <a:ext cx="4432320" cy="10922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12680" y="765000"/>
            <a:ext cx="8261640" cy="853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Движущей силой массопереноса является разность химических потенциал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52720" y="3059280"/>
          <a:ext cx="571212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2720" y="3059280"/>
                    <a:ext cx="5712120" cy="9270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ссоперенос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-ой закон Фика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24280"/>
            <a:ext cx="24703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рошлой лекции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1280" y="5589720"/>
          <a:ext cx="965160" cy="35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280" y="5589720"/>
                    <a:ext cx="965160" cy="3538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265720" y="2637000"/>
            <a:ext cx="50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эффициент трен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53040" y="4437000"/>
          <a:ext cx="4657680" cy="87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53040" y="4437000"/>
                    <a:ext cx="4657680" cy="8762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791320" y="60213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авнение Эй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3"/>
          </p:cNvCxnSpPr>
          <p:nvPr/>
        </p:nvCxnSpPr>
        <p:spPr>
          <a:xfrm flipH="1" flipV="1">
            <a:off x="8958960" y="4869000"/>
            <a:ext cx="397800" cy="1351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5A0F-C173-48D0-9F42-3E19C4C63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49160" y="1052640"/>
          <a:ext cx="8769600" cy="20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60" y="1052640"/>
                    <a:ext cx="8769600" cy="205560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3767040" y="3213000"/>
            <a:ext cx="5022720" cy="544320"/>
            <a:chOff x="3767040" y="3213000"/>
            <a:chExt cx="5022720" cy="544320"/>
          </a:xfrm>
        </p:grpSpPr>
        <p:graphicFrame>
          <p:nvGraphicFramePr>
            <p:cNvPr id="65" name=""/>
            <p:cNvGraphicFramePr/>
            <p:nvPr/>
          </p:nvGraphicFramePr>
          <p:xfrm>
            <a:off x="3767040" y="3213000"/>
            <a:ext cx="1733760" cy="544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67040" y="3213000"/>
                      <a:ext cx="173376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5793480" y="3286080"/>
              <a:ext cx="2996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ператор Лапла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ссоперенос. 2-ой закон Фик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5960" y="3933720"/>
            <a:ext cx="73310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авнение Стокса - Эйнште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отнош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циона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корости перемещения частицы в вязкой среде к величине движущей силы (либо равной ей силе вязкого т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7200" y="3500280"/>
          <a:ext cx="2497320" cy="98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7200" y="3500280"/>
                    <a:ext cx="2497320" cy="981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69880" y="5805360"/>
          <a:ext cx="20224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9880" y="5805360"/>
                    <a:ext cx="2022480" cy="5349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955960" y="5805360"/>
            <a:ext cx="680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равнение Нернста – Эйнштей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заряженных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8200" y="6453360"/>
          <a:ext cx="154296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8200" y="6453360"/>
                    <a:ext cx="1542960" cy="360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E575-45B4-4814-9A15-31DCD9FC4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нос вещества в реальных раств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064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Фика, выраженный через мольные доли и химические потенциалы для </a:t>
            </a: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еидеаль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3880" y="1700280"/>
          <a:ext cx="566604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880" y="1700280"/>
                    <a:ext cx="56660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24120" y="2708280"/>
          <a:ext cx="2401920" cy="65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24120" y="2708280"/>
                    <a:ext cx="24019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284640"/>
            <a:ext cx="1028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ение диффузионного потока определяют и градиент концентрации, и градиент коэффициента активности, если второе слагаемое больше по абсолютной величине и противоположно по знаку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2136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ффузия не всегда подчиняется закону 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760" y="4886280"/>
          <a:ext cx="2846160" cy="7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9760" y="4886280"/>
                    <a:ext cx="28461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954760" y="5300640"/>
          <a:ext cx="1379520" cy="72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54760" y="5300640"/>
                    <a:ext cx="1379520" cy="7207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44600" y="5516640"/>
            <a:ext cx="42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ухкомпонент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22920" y="544500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6B08-42AD-4638-8144-EC4BFEA242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нос вещества в реальных раств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064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Фика, выраженный через мольные доли и химические потенциалы для идеального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ногокомпонент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62520"/>
            <a:ext cx="10287000" cy="1068840"/>
          </a:xfrm>
          <a:prstGeom prst="rect">
            <a:avLst/>
          </a:prstGeom>
          <a:solidFill>
            <a:srgbClr val="fdb0a1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эффициент диффузии зависит от состава, концентрации и свойств компон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370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65200" y="1590840"/>
          <a:ext cx="906156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200" y="1590840"/>
                    <a:ext cx="90615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54000" y="3271680"/>
          <a:ext cx="7007400" cy="16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4000" y="3271680"/>
                    <a:ext cx="7007400" cy="16434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494172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ение потоков может определяться распределениями любых других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6320" y="2492280"/>
            <a:ext cx="45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ется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независим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4320" y="4149720"/>
            <a:ext cx="5062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 –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коэффициент трения тоже зависит от соста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19FA-3124-4553-BF2C-E3178E4E8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я элементов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Крёгер. Химия несовершенных кристалл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600" y="949320"/>
            <a:ext cx="9155160" cy="38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зла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оузлия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ня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з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ужерод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йтральный,</a:t>
            </a:r>
            <a:br>
              <a:rPr sz="3200"/>
            </a:br>
            <a:r>
              <a:rPr b="0" lang="ru-RU" sz="3200" spc="-1" strike="noStrike" baseline="30000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NewRomanPSMT"/>
                <a:ea typeface="Symbol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ый</a:t>
            </a:r>
            <a:r>
              <a:rPr b="0" lang="ru-RU" sz="3200" spc="-1" strike="noStrike" baseline="30000">
                <a:solidFill>
                  <a:srgbClr val="000000"/>
                </a:solidFill>
                <a:latin typeface="SymbolMT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SymbolMT"/>
                <a:ea typeface="Times New Roman"/>
              </a:rPr>
              <a:t>‘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F46A-AEBA-43D7-844D-3AED06F0A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35000" y="2060640"/>
                <a:ext cx="4289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[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  <m:sup/>
                    </m:sSubSup>
                    <m:r>
                      <m:t xml:space="preserve">]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∇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851040" y="2852640"/>
          <a:ext cx="469728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2852640"/>
                    <a:ext cx="4697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6197760" y="2205000"/>
            <a:ext cx="690480" cy="1152360"/>
            <a:chOff x="6197760" y="2205000"/>
            <a:chExt cx="690480" cy="1152360"/>
          </a:xfrm>
        </p:grpSpPr>
        <p:sp>
          <p:nvSpPr>
            <p:cNvPr id="108" name=""/>
            <p:cNvSpPr/>
            <p:nvPr/>
          </p:nvSpPr>
          <p:spPr>
            <a:xfrm>
              <a:off x="6197760" y="2205000"/>
              <a:ext cx="80280" cy="1152360"/>
            </a:xfrm>
            <a:custGeom>
              <a:avLst/>
              <a:gdLst>
                <a:gd name="textAreaLeft" fmla="*/ 0 w 80280"/>
                <a:gd name="textAreaRight" fmla="*/ 28800 w 8028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0560" y="25556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85560" y="3618360"/>
            <a:ext cx="789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условия стационарнос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охранения заря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ходим градиент электрического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00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еренос ионов и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200" y="4651200"/>
            <a:ext cx="1866600" cy="453960"/>
            <a:chOff x="403200" y="4651200"/>
            <a:chExt cx="1866600" cy="453960"/>
          </a:xfrm>
        </p:grpSpPr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03200" y="4651200"/>
                  <a:ext cx="11754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/>
                      </m:sSubSup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842120" y="47304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90920" y="4724280"/>
            <a:ext cx="2190240" cy="403200"/>
            <a:chOff x="2590920" y="4724280"/>
            <a:chExt cx="2190240" cy="40320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2590920" y="4724280"/>
                  <a:ext cx="15343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∇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4353480" y="47480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5551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65720" y="4579920"/>
            <a:ext cx="4903560" cy="824040"/>
            <a:chOff x="5265720" y="4579920"/>
            <a:chExt cx="4903560" cy="82404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265720" y="4579920"/>
                  <a:ext cx="42890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T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[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/>
                      </m:sSubSup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</m:num>
                        <m:den>
                          <m:r>
                            <m:t xml:space="preserve">[</m:t>
                          </m:r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/>
                          </m:sSubSup>
                          <m:r>
                            <m:t xml:space="preserve">]</m:t>
                          </m:r>
                        </m:den>
                      </m:f>
                      <m:r>
                        <m:t xml:space="preserve">∇</m:t>
                      </m:r>
                      <m:r>
                        <m:t xml:space="preserve">[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/>
                      </m:sSub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9741600" y="474336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014120" y="547992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 учетом (4), (5) и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51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67040" y="5299200"/>
            <a:ext cx="5063760" cy="866520"/>
            <a:chOff x="3767040" y="5299200"/>
            <a:chExt cx="5063760" cy="86652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767040" y="5299200"/>
                  <a:ext cx="441540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[</m:t>
                          </m:r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/>
                          </m:sSubSup>
                          <m:r>
                            <m:t xml:space="preserve">]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∇</m:t>
                      </m:r>
                      <m:r>
                        <m:t xml:space="preserve">[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/>
                      </m:sSub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>
              <a:off x="8403120" y="55148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7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55562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5562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4640"/>
            <a:ext cx="10287000" cy="1625760"/>
          </a:xfrm>
          <a:prstGeom prst="rect">
            <a:avLst/>
          </a:prstGeom>
          <a:solidFill>
            <a:srgbClr val="fdb0a1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авнение Вагнера для потока заряженны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ц в химическом и электрических по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ряженных частиц к разности химических потенциалов добавлена разность электрического потенциал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416720" y="2160720"/>
          <a:ext cx="1366920" cy="48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16720" y="2160720"/>
                    <a:ext cx="13669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412040" y="285264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08320" y="6308640"/>
            <a:ext cx="575136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10574" descr=""/>
          <p:cNvPicPr/>
          <p:nvPr/>
        </p:nvPicPr>
        <p:blipFill>
          <a:blip r:embed=""/>
          <a:stretch/>
        </p:blipFill>
        <p:spPr>
          <a:xfrm>
            <a:off x="6399360" y="476280"/>
            <a:ext cx="3887640" cy="5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кинетика начало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8378-80D9-4FC1-9C9A-40933818F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15:22:26Z</dcterms:modified>
  <cp:revision>101</cp:revision>
  <dc:subject/>
  <dc:title>Кинетика твердофазных реакций </dc:title>
</cp:coreProperties>
</file>