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8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4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6A86-6C63-4A14-A355-A8DD773EC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4A90-8B5D-4C9C-9500-51F463FBB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AACA-C57A-430F-BBF8-A0A38F5AE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5DE8-04CE-46BE-8782-EFB323C08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8434-AB80-48A3-8E56-6321703E1E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9D2C-442C-4A9C-AB9B-CB607EC1D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204A-E6CA-45B4-908A-20EA5649E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4050-F133-41CD-81F5-2D83C4881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0287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D3F8-3622-4564-B886-E9BCF5886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3A7B-2CD1-4A2B-B1EC-D511865E5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A611-E67F-4C8E-ABB4-5EE2A2C90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73E9-57DC-413E-92DE-8D85C523A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597360"/>
            <a:ext cx="102870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113400" y="6381360"/>
            <a:ext cx="117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0416-4DAC-4FE4-B87B-27B8F58C3347}" type="slidenum">
              <a:rPr b="0" i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fedoseev@phys.unn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homepages.cae.wisc.edu/~stone/bubble%20raft%20movies.htm#topofpage" TargetMode="External"/><Relationship Id="rId4" Type="http://schemas.openxmlformats.org/officeDocument/2006/relationships/hyperlink" Target="http://homepages.cae.wisc.edu/~stone/bubble%20raft%20movies.htm#topofpage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en.nsu.ru/fen.phtml?topic=meth" TargetMode="External"/><Relationship Id="rId3" Type="http://schemas.openxmlformats.org/officeDocument/2006/relationships/hyperlink" Target="http://fen.nsu.ru/fen.phtml?topic=meth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70040" y="691920"/>
            <a:ext cx="8743680" cy="146988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имия твердого тел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9680" y="2349360"/>
            <a:ext cx="891036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й факультет НН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едосеев Виктор Борис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ор кафедры физического материаловедения физического факультета НН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doseev@phys.unn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альный кристал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4600" y="2417760"/>
            <a:ext cx="9478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деальный кристалл 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самбль большого числа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динаковы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части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атомов, молекул, ионов, ячеек, капель, пузырей и др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пакованных в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регулярную решет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двух- или трехмерную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олняющую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всё пространств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объем или поверхнос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скопические характеристики произвольной точки внутри кристалла точно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воспроизводя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о всех точках, координаты которых инвариантны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при операциях трансля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2560" y="184464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ff"/>
                </a:solidFill>
                <a:uFillTx/>
                <a:latin typeface="Times New Roman"/>
              </a:rPr>
              <a:t>тождественных частиц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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одинаковых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0240" y="907920"/>
            <a:ext cx="85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узырьки, капли и др. дисперсные частицы нетождественны, но тоже образуют идеальные кристалл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B831-F7CB-4BA4-A7BC-90A0DD2F74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войст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53720"/>
            <a:ext cx="101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низотроп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р. ánisos — неравный + tróроs — направ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зависимость физических свойств вещества (механических, тепловых, электрических, магнитных, оптических) от направления Пример: слюда, мясо, ткан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09200" y="981000"/>
            <a:ext cx="258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746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низотроп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746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гр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3560" y="3645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гра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2600" y="4149720"/>
            <a:ext cx="955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У аморфных твердых тел этих свойств 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941720"/>
            <a:ext cx="1031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зотроп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р.-гр. ί̓σος = равный, одинаковый, подобный + τρόπος = оборот, поворот; характ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независимости свойств от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B437-0A00-4778-89BA-7522CF9CE3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вердое тел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10287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ладающее несжимаемостью (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охраняющее свою форму и размеры (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исталлические + аморф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войствам Т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пругие, пластичные и хруп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язк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в-в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идкостей и газ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казывать сопротивление перемещению одной их части относительно друг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ее т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овокупность процессов происходящих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вердых, жидких и газообраз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лах при их деформации,  приводящих к необратимому рассеянию механической энергии (превращению ее во внутреннюю энерг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пруг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в-во тел восстанавливать размеры, форму, объем после прекращения действия внешних сил или других причин, вызвавших деформацию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верд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пособность материала сопротивляться проникновению в него другого, более твердого тел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руп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войство ТТ мгновенно разрушаться под действием внешних сил без заметной пластичной де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659C-138E-46C2-A57A-943D07CBF4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стал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36640"/>
            <a:ext cx="10287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прос химик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Кристалл = “это одна большая молекула”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2280"/>
            <a:ext cx="10287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айнус Полинг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удем говорить, что между двумя атомами или группами атомов имеется химическая связь в том случае, если силы, действующие между ними, приводят к образованию агрегата, достаточно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абильног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чтобы химик мог рассматривать его как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зависимое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ое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80880" y="1773360"/>
            <a:ext cx="559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А (ласкательное от лат.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les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– ма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2400" y="4508640"/>
            <a:ext cx="1008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абильное независимое молекулярно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й количественный и качествен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еометр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A837-03BE-474E-B163-D055D3E2D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удерживает частицы в виде твёрдого тела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07920"/>
            <a:ext cx="10287000" cy="45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валент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он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оро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ллическ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н-дер-ваальсовые и пр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валентные (многоцентровые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норно-акцепторные (координационная связ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ое натяжение (эмульсии, плоты пузыр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пруг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9777-2B92-4CE5-A088-51E7FF5647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стал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664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характеру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мметр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личают 32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лас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ристалл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ые сгруппированы в 7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го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040" y="1844640"/>
            <a:ext cx="967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мметр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. symmetria — соразмер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общем смысл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вариант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руктуры математического (физического) объекта относительно его преобразований. В узком смысле – геометрических преобраз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" y="3284640"/>
            <a:ext cx="9155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ласс симметр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совокупность операций симметрии (поворотов, отражений и т. д.), совмещающих данный объект с самим собой и оставляющих у него при этом хотя бы одну неподвижную точку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очечная группа сим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600" y="4797360"/>
            <a:ext cx="98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го́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 греч. σύ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огласно, вместе, 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ία, угол — дословно «сходноугольность»)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 из подразделений кристаллов по признаку формы их элементарной ячей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2B4B-8A02-4AD9-842D-356EC420A6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36640"/>
            <a:ext cx="10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Н.В. Белов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нейшие шаровые упаковки могут обладать только восемью различны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ровским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15880" y="1773360"/>
            <a:ext cx="66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Васильевич Белов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ристаллограф, геохимик, академик АН СССР. С 1946г. - профессор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рьковского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 1953г. - Московского университетов. Основоположник отечественной школы структурной кристаллографи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8094600" y="1557360"/>
            <a:ext cx="2192400" cy="2376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3886200"/>
            <a:ext cx="68454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едоровская группа симметр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ранственная группа симметр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полный набор элементов симметрии структуры кристал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го имее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федоров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5451480"/>
            <a:ext cx="866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356680" y="4437000"/>
            <a:ext cx="1930320" cy="2089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005600" y="4095720"/>
            <a:ext cx="32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вграф Степанович Фёд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E608-6992-427B-AE82-AEA489E243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го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36640"/>
            <a:ext cx="10287000" cy="56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нгония кристаллографическа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 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месте + g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- уг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деление кристаллов по признаку симметрии элементарной ячейк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характеризуется соотношениями между осями а, b, с и углами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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чей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7 кристаллографических синго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ическая (а = b = с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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0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гональная (а = b ¹ с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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0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ксагональная (а = b ¹ с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0°, g = 120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ональная (а = b = с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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ическая (а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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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0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клинная (а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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0°, b ¹ 90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клинна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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го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несколько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чечных групп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мметрий 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ёток Брав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21000"/>
            <a:ext cx="10287000" cy="33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Каки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6CB5-EC09-4F68-98F6-AFF6BF1BC1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чечная групп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метрии кристал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81000"/>
            <a:ext cx="102870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совокупность операций симметрии, совмещающих кристалл с самим собой, при которых одна точка кристалла остаётся неподвиж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???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. г. симметрии, </a:t>
            </a:r>
            <a:r>
              <a:rPr b="0" i="1" lang="en-US" sz="2400" spc="-1" strike="noStrike">
                <a:solidFill>
                  <a:srgbClr val="000000"/>
                </a:solidFill>
                <a:latin typeface="BatangChe"/>
                <a:ea typeface="Times New Roman"/>
              </a:rPr>
              <a:t>называемы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классами кристал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10040" y="4329000"/>
            <a:ext cx="1619280" cy="1081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83400" y="4329000"/>
            <a:ext cx="1619280" cy="1081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98680" y="4365720"/>
            <a:ext cx="1619280" cy="1081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79680" y="3645000"/>
            <a:ext cx="66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торение из курса кристалл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A49D-6E03-4193-B3AE-F23C1EF4F6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решётка Брав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1040" y="112536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вид пространственных решёток кристаллов  =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4 трехмерных геометрических решеток, характеризующих все возможные типы трансляционной симметрии крис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500280"/>
            <a:ext cx="102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ются симметрией элементарной ячейки = соотношением между ребрами и уг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также центрирова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20640" y="2852640"/>
            <a:ext cx="46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ля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операция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85B3-129C-407C-94B0-68C6CFC75F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69228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10287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. Ю. Бутягин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Химическая физика твердого тел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ГУ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Чеботин В. Н., Физическая химия твердого тела. М.,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ест А. Химия твердого тела и ее приложения. В 2-х томах. М.: Мир, 19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Браун М., Доллимор Д., Галвей А., Реакции твердых тел. пер. с англ., М.,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 Хенней. Химия твердого тела. Мир: Москва, 197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ретьяков Ю. Д., Твердофазные реакция, М., 197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нотько А.В., Пресняков И.А., Третьяков В.Д. Химия твердого тела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илевич М.П., Покровский И. И., Химия твердого тела. Минск, 19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лихов И. В. Физико-химическая эволюция твердого вещества. М.: Бином, 2006. - 309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дырев В. В., Ляхов Н. Э., Чупахин А. П., Химия твердого тела. М.,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жанов А. Г. Твердопламенное горение. Черноголовка: ИСМАН, 2000. — 11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.Н.Р. Рао, Дж. Гопалакришнан, Новые направления в химии твердого тела, 1990, “Наука”, Сибирское отде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имия твердого тела: Структура, свойства и применение новых неорганических материалов / Ред. Швейкин Г. П., Ивановский А. Л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Екатеринбург: УрО РАН, 1998. — 164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8600" y="6045120"/>
            <a:ext cx="8038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. В. Болдырева. Задачи по химии твердого тела. Изд-во НГУ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B5A9-91CC-4C50-A0CB-677A74C651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53040" y="1197000"/>
            <a:ext cx="6033960" cy="4413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4 типа решёток Брав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36640"/>
            <a:ext cx="4332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митив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узлы расположены только в вершинах параллелепипе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азоцентрирован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имеется ещё по одному узлу в центрах двух противолежащих гран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ъёмноцентрирован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к примитивному типу добавлен узел в центре ячей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ранецентрирован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имеется по одному узлу в центре каждой гр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836640"/>
            <a:ext cx="1028700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Как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CE0B-7AF6-48DF-AC16-A1B0C1FA45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гюст Брав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040" y="981000"/>
            <a:ext cx="7372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Bravais (1811 — 63) чл. Парижской 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 изучал магнетизм, северные сияния, работал в области метеорологии, ботанической географии, астрономии и гидр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929720" y="836640"/>
            <a:ext cx="2357280" cy="2095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3505320" cy="2987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703680" y="2924280"/>
            <a:ext cx="658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ратом Луи написал монограф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Опыты о спиральном расположении листьев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симметрии растений (филотакс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524400" y="4005360"/>
            <a:ext cx="6075360" cy="26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3773-4797-4E8B-BBE5-BC86D18E90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51040" y="3500280"/>
            <a:ext cx="7694640" cy="1050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рушение принципа изотропности связи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"борид бора"  сложное вещество из одного э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узлах решетки кластеры 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и 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оатом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07920"/>
            <a:ext cx="992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максимальной плотност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зотропность связ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ерическая форма атомо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окая симметрия структуры +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ольшие координацион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01600" y="4149720"/>
            <a:ext cx="3322800" cy="2424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603600" y="5013360"/>
            <a:ext cx="6683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ение 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Цветом показано смещение зарядов. Фиолетовые кластеры бора играют роль анионов, оранжевые – катионов (иллюстрация Artem R. Oganov et.al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349360"/>
            <a:ext cx="10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тнейшую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ексагональн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паковку имеет более 30 чист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27320" y="2852640"/>
            <a:ext cx="5753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щё одна плотнейшая =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51C0-2E6D-4B26-A24F-CF6CF86259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паков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767040" y="1052640"/>
            <a:ext cx="2673360" cy="21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2631960" cy="2171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412040" y="1052640"/>
            <a:ext cx="2874960" cy="2216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99440" y="-1803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9880" y="7657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67200" y="76428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040" y="3340440"/>
            <a:ext cx="931536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ксагональна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отнейша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ковка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ГП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С = P6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m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B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g a = в = 3.209 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 = 5.21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бическа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отнейша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ковка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П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ГС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 a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6147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лотность упако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тнейшие упаков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4%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Ч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бическая объёмоцентрирован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8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Ч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итивная куб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2%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Ч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м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4%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Ч = 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44240" y="766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5487-8DCE-4836-A95F-4D4FA33790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Бинарны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81000"/>
            <a:ext cx="1028700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онные крис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 максимальной плотности упак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я между ионами минима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окружающих противоионов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устотах упаковки, образованной ионами одного знака располагаются ионы противоположного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занимаемых пустот определяется размерами и химической природой и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95760" y="5445000"/>
            <a:ext cx="5132160" cy="1008360"/>
          </a:xfrm>
          <a:prstGeom prst="rect">
            <a:avLst/>
          </a:prstGeom>
          <a:solidFill>
            <a:srgbClr val="dbc3c4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Оксиды + Халькоген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+ 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4EF4-A0F2-4C50-A577-92186C0B2E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рнарные и боле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геометр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ристаллической решет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точечной симметр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симметрии внутреннего стро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ранственные групп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значения плоскостей и направлений в кристалл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сталлохимические аспекты строения кристалл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A043-DDA0-442B-A24E-7C9098E1C8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а кристал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>
            <a:biLevel thresh="50000"/>
          </a:blip>
          <a:srcRect l="1120" t="10329" r="1680" b="6921"/>
          <a:stretch/>
        </p:blipFill>
        <p:spPr>
          <a:xfrm>
            <a:off x="527040" y="692280"/>
            <a:ext cx="7128000" cy="5545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331040" y="907920"/>
            <a:ext cx="2998800" cy="19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Ю.И.Сиротин, М.П.Шасколь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кристаллофизик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М.:Наук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15F5-ABE3-491D-B0F3-8FFD9D7646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 вопросов на экзамене по ХТ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341360"/>
            <a:ext cx="10287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труктура твердого те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омная упаковка, полиморфизм, изоморфизм, твердые растворы. Химическая связь в твердом теле. Кристаллические и некристаллические твердые тела. Аморфные твердые тела. Стекла, полим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изическая химия идеального кристал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ометрия кристаллической решетки; элементы точечной симметрии; элементы симметрии внутреннего строения; пространственные группы; обозначения плоскостей и направлений в кристаллах; кристаллохимические аспекты строения кристаллов; физические свойства кристаллов, определяемые их симметрией: скалярные, векторные, тензор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4192-20BC-40E2-9BFC-501FDE8840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7040" y="1628640"/>
            <a:ext cx="925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Найдите угол между направлением [111] и плоскостью (111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 кубическом кристалл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в тетрагональном кристалле с периодами а = 5,67 А, с = 12,70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Рассмотрите, могут ли существовать в кристаллах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две четверные оси и одна трой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двойная, тройная и шестерная о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9FAC-BEEC-4D66-ABB7-718513986D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1028700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о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чему графит проводит электрический ток, а алмаз 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стречаются ли натрий и хлор в свободном виде в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чему алмаз прозрачен, а графит 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Какой ракетный двигатель надежнее и эффективнее (ТРД - ЖРД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смысл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чему нет Химии жидкости и Химии газов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30E9-25FC-40BF-8F61-C6B2E2FEE6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76500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им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наука о превращениях вещест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102870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Абсолютно твердое тел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истема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(или континуум – </a:t>
            </a:r>
            <a:r>
              <a:rPr b="0" i="1" lang="ru-RU" sz="2600" spc="-1" strike="noStrike">
                <a:solidFill>
                  <a:srgbClr val="000000"/>
                </a:solidFill>
                <a:latin typeface="SimSun"/>
              </a:rPr>
              <a:t>лат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 continuum — непрерывное, сплошное) материальных точек, расстояние между которыми не меняются в данной задач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бсолютно твердое тело обладает только поступательными и вращательными степенями своб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твердое тело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 механике = неопределенный количественный и качественный состав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+ неопределенное геометрическое стро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63560" y="4941720"/>
            <a:ext cx="5965920" cy="703440"/>
          </a:xfrm>
          <a:prstGeom prst="rect">
            <a:avLst/>
          </a:prstGeom>
          <a:solidFill>
            <a:srgbClr val="e1878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т состава – нет хими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734080"/>
            <a:ext cx="10287000" cy="581400"/>
          </a:xfrm>
          <a:prstGeom prst="rect">
            <a:avLst/>
          </a:prstGeom>
          <a:solidFill>
            <a:srgbClr val="e1878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ть состав – есть условия сохран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6991-AAAA-451E-AA92-37E2768385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ердая фаз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00" y="836640"/>
            <a:ext cx="9397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ердая фа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атное состояние вещества, характеризуемое жесткой молекулярной структурой. В этом состоянии молекулы вещества совершают малые колебания около фиксированных положений равновеси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граниченная подвижность частиц + Предопределенное расположение частиц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7040" y="3068640"/>
            <a:ext cx="915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морфные твердые т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екла, полимеры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4600" y="5013360"/>
            <a:ext cx="9235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тличи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кристалла и жид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тличи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жидкого кристалла и жид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тличи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морфного тела и жид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тличи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морфного тела и кристал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933720"/>
            <a:ext cx="10287000" cy="825480"/>
          </a:xfrm>
          <a:prstGeom prst="rect">
            <a:avLst/>
          </a:prstGeom>
          <a:noFill/>
          <a:ln w="9360">
            <a:solidFill>
              <a:srgbClr val="e18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884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изика, меха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мия, материаловеден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вёрдое тел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верд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90BC-3EE8-42D1-A96D-AFC8C16CE2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стал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10287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истал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вердое тел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‼!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арактеризующее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льним поряд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ложения атомов или молеку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истал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вердое тел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‼!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стоящее из упорядоченных, периодически повторяющихся в пространстве части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деальный кристалл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однородная анизотропная симметричная </a:t>
            </a:r>
            <a:r>
              <a:rPr b="1" i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конденсированная среда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‼!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обладающая трансляционно упорядоченным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омны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троением и способную самоограняться в процессе роста (Е.В. Чупруно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Теперь жидкие кристаллы тоже кристалл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55960" y="5445000"/>
            <a:ext cx="4292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Это определение исчерпывающ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11B7-0ED6-4B7F-B49E-A92301E5B4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сталл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281400" cy="21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3068640"/>
            <a:ext cx="54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ubles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aft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</a:t>
            </a:r>
            <a:r>
              <a:rPr b="1" i="1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://homepages.cae.wisc.edu/~stone/bubble%20raft%20movies.htm#topofpag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4960" y="836640"/>
            <a:ext cx="3969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мульсионная полимеризация, частицы поли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Х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441600" y="836640"/>
            <a:ext cx="3603600" cy="2087640"/>
            <a:chOff x="3441600" y="836640"/>
            <a:chExt cx="3603600" cy="2087640"/>
          </a:xfrm>
        </p:grpSpPr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3447000" y="836640"/>
              <a:ext cx="3511440" cy="2087640"/>
            </a:xfrm>
            <a:prstGeom prst="rect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sp>
          <p:nvSpPr>
            <p:cNvPr id="65" name=""/>
            <p:cNvSpPr/>
            <p:nvPr/>
          </p:nvSpPr>
          <p:spPr>
            <a:xfrm>
              <a:off x="3441600" y="1340640"/>
              <a:ext cx="3603600" cy="1281960"/>
            </a:xfrm>
            <a:custGeom>
              <a:avLst/>
              <a:gdLst/>
              <a:ahLst/>
              <a:rect l="l" t="t" r="r" b="b"/>
              <a:pathLst>
                <a:path w="5911" h="1755">
                  <a:moveTo>
                    <a:pt x="77" y="262"/>
                  </a:moveTo>
                  <a:lnTo>
                    <a:pt x="5911" y="0"/>
                  </a:lnTo>
                  <a:lnTo>
                    <a:pt x="5734" y="1090"/>
                  </a:lnTo>
                  <a:lnTo>
                    <a:pt x="4573" y="1161"/>
                  </a:lnTo>
                  <a:lnTo>
                    <a:pt x="3687" y="1303"/>
                  </a:lnTo>
                  <a:lnTo>
                    <a:pt x="0" y="175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14000" y="245952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9960" y="214200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1160" y="225432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41280" y="236700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47000" y="146628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37160" y="202932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81720" y="189648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15840" y="1797120"/>
              <a:ext cx="82800" cy="99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71560" y="169776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3800" y="1591920"/>
              <a:ext cx="82800" cy="99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82600" y="212796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4440" y="178380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33200" y="189648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09880" y="199584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05760" y="1665000"/>
              <a:ext cx="82800" cy="99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2760" y="1564560"/>
              <a:ext cx="82800" cy="99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84440" y="1452960"/>
              <a:ext cx="82800" cy="99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15320" y="1333440"/>
              <a:ext cx="82800" cy="99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543480" y="1498680"/>
              <a:ext cx="2682360" cy="13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27000" y="1598040"/>
              <a:ext cx="2681640" cy="132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58560" y="2062080"/>
              <a:ext cx="2599560" cy="33156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54"/>
                  </a:moveTo>
                  <a:lnTo>
                    <a:pt x="3202" y="102"/>
                  </a:lnTo>
                  <a:lnTo>
                    <a:pt x="3574" y="5"/>
                  </a:lnTo>
                  <a:lnTo>
                    <a:pt x="4264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02760" y="1930680"/>
              <a:ext cx="2572200" cy="364320"/>
            </a:xfrm>
            <a:custGeom>
              <a:avLst/>
              <a:gdLst/>
              <a:ahLst/>
              <a:rect l="l" t="t" r="r" b="b"/>
              <a:pathLst>
                <a:path w="4219" h="499">
                  <a:moveTo>
                    <a:pt x="0" y="499"/>
                  </a:moveTo>
                  <a:lnTo>
                    <a:pt x="2974" y="167"/>
                  </a:lnTo>
                  <a:lnTo>
                    <a:pt x="3328" y="43"/>
                  </a:lnTo>
                  <a:lnTo>
                    <a:pt x="4219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75400" y="1817640"/>
              <a:ext cx="2572200" cy="364320"/>
            </a:xfrm>
            <a:custGeom>
              <a:avLst/>
              <a:gdLst/>
              <a:ahLst/>
              <a:rect l="l" t="t" r="r" b="b"/>
              <a:pathLst>
                <a:path w="4219" h="499">
                  <a:moveTo>
                    <a:pt x="0" y="499"/>
                  </a:moveTo>
                  <a:lnTo>
                    <a:pt x="2974" y="167"/>
                  </a:lnTo>
                  <a:lnTo>
                    <a:pt x="3328" y="43"/>
                  </a:lnTo>
                  <a:lnTo>
                    <a:pt x="4219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681720" y="1697400"/>
              <a:ext cx="2682360" cy="132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447000" y="1929600"/>
              <a:ext cx="428400" cy="32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447000" y="1830600"/>
              <a:ext cx="2198160" cy="264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447000" y="2227680"/>
              <a:ext cx="3511440" cy="530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447000" y="1233720"/>
              <a:ext cx="3511440" cy="165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6080040"/>
            <a:ext cx="100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отонными кристаллам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принято называть среды, у которых диэлектрическая проницаемость периодически меняется в пространстве с периодом, допускающим брэгговскую дифракцию с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93000"/>
            <a:ext cx="1028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«плот» из черной или красной ик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737480" y="3141720"/>
            <a:ext cx="2106720" cy="165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797360"/>
            <a:ext cx="10287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зменный кристалл = упорядоченная структура, состоящая из заряженных в плазме пылевых частиц микронного размера. Аналогична структуре кристаллической решетки в твердом т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Times New Roman"/>
              </a:rPr>
              <a:t>Частицы нетождествен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4E43-20E1-4557-A425-ABDB7AB323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6640"/>
          </a:xfrm>
          <a:prstGeom prst="rect">
            <a:avLst/>
          </a:prstGeom>
          <a:gradFill rotWithShape="0">
            <a:gsLst>
              <a:gs pos="0">
                <a:srgbClr val="4e6e70"/>
              </a:gs>
              <a:gs pos="50000">
                <a:srgbClr val="aaf0f4"/>
              </a:gs>
              <a:gs pos="100000">
                <a:srgbClr val="4e6e7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эр Уильям Лоренс Брэг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6640"/>
            <a:ext cx="846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уреат Нобелевской премии по физике за 1915 год (совместно с отцом Уильямом Генри Брэгг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989000"/>
            <a:ext cx="4294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жа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доводство – тайно подрабатывал садовником. При сливе бензина из газонокосилки заметил, что пузырьки на поверхности собраны в плот похожий на плоскости (111) плотноупакованных кристаллов. Предложил метод генерации пузырьк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штук субмиллиметровых пузырь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32240" y="1700280"/>
            <a:ext cx="5954760" cy="4030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089920" y="836640"/>
            <a:ext cx="219708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32240" y="5805360"/>
            <a:ext cx="5954760" cy="825480"/>
          </a:xfrm>
          <a:prstGeom prst="rect">
            <a:avLst/>
          </a:prstGeom>
          <a:solidFill>
            <a:srgbClr val="dbc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Как называются объекты, видимые на фотограф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8F4B-5EBC-45E1-87EC-698585338B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70040" y="3068640"/>
            <a:ext cx="87883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. В. Болдырева НГ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екции по </a:t>
            </a:r>
            <a:r>
              <a:rPr b="1" i="1" lang="ru-RU" sz="3600" spc="-1" strike="noStrike">
                <a:solidFill>
                  <a:srgbClr val="000000"/>
                </a:solidFill>
                <a:latin typeface="Aharoni"/>
              </a:rPr>
              <a:t>химии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твердого те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fen.nsu.ru/fen.phtml?topic=met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213372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ный признак кристалла – наличие трансляционной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химия твердого тела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A7DC-3A3B-4441-9244-017ECF4A39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55:05Z</dcterms:created>
  <dc:creator>Viktor</dc:creator>
  <dc:description/>
  <dc:language>en-US</dc:language>
  <cp:lastModifiedBy>Fedoseev</cp:lastModifiedBy>
  <dcterms:modified xsi:type="dcterms:W3CDTF">2010-12-11T15:02:34Z</dcterms:modified>
  <cp:revision>24</cp:revision>
  <dc:subject/>
  <dc:title>Химия твердого тела</dc:title>
</cp:coreProperties>
</file>