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6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0.wmf" ContentType="image/x-wmf"/>
  <Override PartName="/ppt/media/image17.png" ContentType="image/png"/>
  <Override PartName="/ppt/media/image57.wmf" ContentType="image/x-wmf"/>
  <Override PartName="/ppt/media/image21.wmf" ContentType="image/x-wmf"/>
  <Override PartName="/ppt/media/image18.png" ContentType="image/png"/>
  <Override PartName="/ppt/media/image19.wmf" ContentType="image/x-wmf"/>
  <Override PartName="/ppt/media/image58.png" ContentType="image/png"/>
  <Override PartName="/ppt/media/image16.png" ContentType="image/png"/>
  <Override PartName="/ppt/media/image15.wmf" ContentType="image/x-wmf"/>
  <Override PartName="/ppt/media/image14.wmf" ContentType="image/x-wmf"/>
  <Override PartName="/ppt/media/image1.png" ContentType="image/png"/>
  <Override PartName="/ppt/media/image29.wmf" ContentType="image/x-wmf"/>
  <Override PartName="/ppt/media/image2.png" ContentType="image/png"/>
  <Override PartName="/ppt/media/image32.png" ContentType="image/png"/>
  <Override PartName="/ppt/media/image3.png" ContentType="image/png"/>
  <Override PartName="/ppt/media/image33.png" ContentType="image/png"/>
  <Override PartName="/ppt/media/image27.wmf" ContentType="image/x-wmf"/>
  <Override PartName="/ppt/media/image4.wmf" ContentType="image/x-wmf"/>
  <Override PartName="/ppt/media/image28.wmf" ContentType="image/x-wmf"/>
  <Override PartName="/ppt/media/image10.png" ContentType="image/png"/>
  <Override PartName="/ppt/media/image47.png" ContentType="image/png"/>
  <Override PartName="/ppt/media/image50.wmf" ContentType="image/x-wmf"/>
  <Override PartName="/ppt/media/image5.wmf" ContentType="image/x-wmf"/>
  <Override PartName="/ppt/media/image39.png" ContentType="image/png"/>
  <Override PartName="/ppt/media/image45.png" ContentType="image/png"/>
  <Override PartName="/ppt/media/image30.wmf" ContentType="image/x-wmf"/>
  <Override PartName="/ppt/media/image46.png" ContentType="image/png"/>
  <Override PartName="/ppt/media/image31.wmf" ContentType="image/x-wmf"/>
  <Override PartName="/ppt/media/image52.wmf" ContentType="image/x-wmf"/>
  <Override PartName="/ppt/media/image38.png" ContentType="image/png"/>
  <Override PartName="/ppt/media/image41.wmf" ContentType="image/x-wmf"/>
  <Override PartName="/ppt/media/image56.png" ContentType="image/png"/>
  <Override PartName="/ppt/media/image42.png" ContentType="image/png"/>
  <Override PartName="/ppt/media/image53.wmf" ContentType="image/x-wmf"/>
  <Override PartName="/ppt/media/image43.png" ContentType="image/png"/>
  <Override PartName="/ppt/media/image54.wmf" ContentType="image/x-wmf"/>
  <Override PartName="/ppt/media/image34.png" ContentType="image/png"/>
  <Override PartName="/ppt/media/image44.png" ContentType="image/png"/>
  <Override PartName="/ppt/media/image55.wmf" ContentType="image/x-wmf"/>
  <Override PartName="/ppt/media/image35.png" ContentType="image/png"/>
  <Override PartName="/ppt/media/image40.wmf" ContentType="image/x-wmf"/>
  <Override PartName="/ppt/media/image37.png" ContentType="image/png"/>
  <Override PartName="/ppt/media/image9.wmf" ContentType="image/x-wmf"/>
  <Override PartName="/ppt/media/image13.wmf" ContentType="image/x-wmf"/>
  <Override PartName="/ppt/media/image8.wmf" ContentType="image/x-wmf"/>
  <Override PartName="/ppt/media/image11.png" ContentType="image/png"/>
  <Override PartName="/ppt/media/image48.png" ContentType="image/png"/>
  <Override PartName="/ppt/media/image51.png" ContentType="image/png"/>
  <Override PartName="/ppt/media/image49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3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10288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0D1EB3-BAF3-4E57-B495-191F51B4B2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102870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14440" y="1604520"/>
            <a:ext cx="92595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440" y="3682080"/>
            <a:ext cx="92595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D681F7-6ADD-4E02-9764-5FCD3233B8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102870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14440" y="1604520"/>
            <a:ext cx="45183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59240" y="1604520"/>
            <a:ext cx="45183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14440" y="3682080"/>
            <a:ext cx="45183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259240" y="3682080"/>
            <a:ext cx="45183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88A8CD-6C84-4C34-8E28-EAF4C807E5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102870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14440" y="1604520"/>
            <a:ext cx="2981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645000" y="1604520"/>
            <a:ext cx="2981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775560" y="1604520"/>
            <a:ext cx="2981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4440" y="3682080"/>
            <a:ext cx="2981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645000" y="3682080"/>
            <a:ext cx="2981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775560" y="3682080"/>
            <a:ext cx="2981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ECC754-B80F-4315-82CD-DAA973C1B7A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102870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514440" y="1604520"/>
            <a:ext cx="92595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C51555-8FB5-4DF3-84CC-C3DCFA6A0A2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102870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14440" y="1604520"/>
            <a:ext cx="92595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5FA723-9D97-4F86-A4EB-C7C482D4DC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102870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14440" y="1604520"/>
            <a:ext cx="45183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259240" y="1604520"/>
            <a:ext cx="45183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68FF00-310B-423A-B972-DA6C72DC48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102870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FB84A6-3600-436A-AFB3-83DF7D0535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0287000" cy="354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FD8D97-FD25-4FED-ABEB-863640ACF3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102870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14440" y="1604520"/>
            <a:ext cx="45183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59240" y="1604520"/>
            <a:ext cx="45183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14440" y="3682080"/>
            <a:ext cx="45183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614EA8-08EC-4E67-B9F4-F460E059D3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102870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14440" y="1604520"/>
            <a:ext cx="45183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259240" y="1604520"/>
            <a:ext cx="45183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259240" y="3682080"/>
            <a:ext cx="45183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6A1A1E-98D4-4581-B476-917174560E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102870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14440" y="1604520"/>
            <a:ext cx="45183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59240" y="1604520"/>
            <a:ext cx="45183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14440" y="3682080"/>
            <a:ext cx="92595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E2611A-842D-4365-B1C6-5D71518553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10287000" cy="765000"/>
          </a:xfrm>
          <a:prstGeom prst="rect">
            <a:avLst/>
          </a:prstGeom>
          <a:solidFill>
            <a:srgbClr val="bbe0e3">
              <a:alpha val="78000"/>
            </a:srgbClr>
          </a:solidFill>
          <a:ln w="9360">
            <a:solidFill>
              <a:srgbClr val="66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0" y="6545160"/>
            <a:ext cx="911376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9113400" y="6381360"/>
            <a:ext cx="1173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ru-RU" sz="3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7EEAA-FCA2-4930-8112-E09CAA0E96AE}" type="slidenum"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body"/>
          </p:nvPr>
        </p:nvSpPr>
        <p:spPr>
          <a:xfrm>
            <a:off x="514440" y="1604520"/>
            <a:ext cx="92595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mailto:fedoseev@phys.unn.ru" TargetMode="External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19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20.wmf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1.wmf"/><Relationship Id="rId4" Type="http://schemas.openxmlformats.org/officeDocument/2006/relationships/image" Target="../media/image22.wmf"/><Relationship Id="rId5" Type="http://schemas.openxmlformats.org/officeDocument/2006/relationships/image" Target="../media/image23.wmf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6.wmf"/><Relationship Id="rId6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1.wmf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image" Target="../media/image34.png"/><Relationship Id="rId8" Type="http://schemas.openxmlformats.org/officeDocument/2006/relationships/image" Target="../media/image35.png"/><Relationship Id="rId9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6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0.wmf"/><Relationship Id="rId3" Type="http://schemas.openxmlformats.org/officeDocument/2006/relationships/image" Target="../media/image41.wmf"/><Relationship Id="rId4" Type="http://schemas.openxmlformats.org/officeDocument/2006/relationships/image" Target="../media/image42.png"/><Relationship Id="rId5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3.png"/><Relationship Id="rId3" Type="http://schemas.openxmlformats.org/officeDocument/2006/relationships/image" Target="../media/image44.png"/><Relationship Id="rId4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5.png"/><Relationship Id="rId3" Type="http://schemas.openxmlformats.org/officeDocument/2006/relationships/image" Target="../media/image44.png"/><Relationship Id="rId4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6.png"/><Relationship Id="rId3" Type="http://schemas.openxmlformats.org/officeDocument/2006/relationships/image" Target="../media/image47.png"/><Relationship Id="rId4" Type="http://schemas.openxmlformats.org/officeDocument/2006/relationships/image" Target="../media/image48.png"/><Relationship Id="rId5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50.wmf"/><Relationship Id="rId6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2.wmf"/><Relationship Id="rId5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0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53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54.wmf"/><Relationship Id="rId8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52.wmf"/><Relationship Id="rId6" Type="http://schemas.openxmlformats.org/officeDocument/2006/relationships/image" Target="../media/image56.png"/><Relationship Id="rId7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7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8.png"/><Relationship Id="rId3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wmf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769680" y="549000"/>
            <a:ext cx="8745480" cy="2692440"/>
          </a:xfrm>
          <a:prstGeom prst="rect">
            <a:avLst/>
          </a:prstGeom>
          <a:solidFill>
            <a:srgbClr val="bbe0e3">
              <a:alpha val="78000"/>
            </a:srgbClr>
          </a:solidFill>
          <a:ln w="9360">
            <a:solidFill>
              <a:srgbClr val="66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Распад твёрдого раствора</a:t>
            </a:r>
            <a:br>
              <a:rPr sz="44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decomposition of solid solutions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-360" y="3501720"/>
            <a:ext cx="1028700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Лекция 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Химический факультет ННГ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4 курс, 9 семест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Федосеев Виктор Борисович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офессор кафедры физического материаловедения физического факультета ННГУ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fedoseev@phys.unn.ru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10287000" cy="765000"/>
          </a:xfrm>
          <a:prstGeom prst="rect">
            <a:avLst/>
          </a:prstGeom>
          <a:solidFill>
            <a:srgbClr val="bbe0e3">
              <a:alpha val="78000"/>
            </a:srgbClr>
          </a:solidFill>
          <a:ln w="9360">
            <a:solidFill>
              <a:srgbClr val="66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Бинодаль и спинодаль</a:t>
            </a: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305320" y="907920"/>
            <a:ext cx="4981680" cy="192276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В области абсолютной неустойчивости раствора происходит 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спинодальный распад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– любая флуктуация приводит к расслаиванию раствор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305320" y="3645000"/>
            <a:ext cx="4981680" cy="22885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В области метастабильных состояний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-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происходит 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бинодальный распад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к расслаиванию раствора приводит только флуктуация превышающая критическу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rcRect l="0" t="7685" r="3666" b="2570"/>
          <a:stretch/>
        </p:blipFill>
        <p:spPr>
          <a:xfrm>
            <a:off x="0" y="907920"/>
            <a:ext cx="5143680" cy="561672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 flipH="1">
            <a:off x="3766680" y="2924280"/>
            <a:ext cx="2752920" cy="73080"/>
          </a:xfrm>
          <a:prstGeom prst="line">
            <a:avLst/>
          </a:prstGeom>
          <a:ln w="57240">
            <a:solidFill>
              <a:srgbClr val="ff33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 flipV="1">
            <a:off x="2227320" y="3573360"/>
            <a:ext cx="3402000" cy="1224000"/>
          </a:xfrm>
          <a:prstGeom prst="line">
            <a:avLst/>
          </a:prstGeom>
          <a:ln w="57240">
            <a:solidFill>
              <a:srgbClr val="ff33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H="1" flipV="1">
            <a:off x="4900680" y="3933360"/>
            <a:ext cx="728640" cy="863640"/>
          </a:xfrm>
          <a:prstGeom prst="line">
            <a:avLst/>
          </a:prstGeom>
          <a:ln w="57240">
            <a:solidFill>
              <a:srgbClr val="ff33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065320" y="90792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Зависимость от параметра А уравнения Ван Лаар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498680" y="4653000"/>
            <a:ext cx="28335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Мольная дол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470320" y="5229360"/>
            <a:ext cx="2673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1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асслаивания не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Химия твердого тела Лекция 7 распад твердого раствора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1D17A2-C7AB-423D-9AE8-A638F4AC348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5732640"/>
            <a:ext cx="102870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2951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ния на диаграмме состояний, соответствующая температуре, ниже которой твердый раствор претерпевает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инодальный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спад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42920" y="550800"/>
            <a:ext cx="10001160" cy="37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1312"/>
              </a:spcBef>
              <a:tabLst>
                <a:tab algn="l" pos="0"/>
                <a:tab algn="l" pos="4210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висимости давления Р</a:t>
            </a:r>
            <a:br>
              <a:rPr sz="2500"/>
            </a:b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 объема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 </a:t>
            </a:r>
            <a:br>
              <a:rPr sz="2500"/>
            </a:b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- при критической температуре </a:t>
            </a:r>
            <a:br>
              <a:rPr sz="2100"/>
            </a:b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- ниже критической 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пературы;</a:t>
            </a:r>
            <a:br>
              <a:rPr sz="2100"/>
            </a:b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нктир на кривой 2  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чает лабильным состояниям;</a:t>
            </a:r>
            <a:br>
              <a:rPr sz="2100"/>
            </a:b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– прямая соединяющая  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вновесные  состояния жидкости  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пара; </a:t>
            </a:r>
            <a:br>
              <a:rPr sz="2100"/>
            </a:b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- бинодаль; </a:t>
            </a:r>
            <a:br>
              <a:rPr sz="2100"/>
            </a:b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-спинодаль; </a:t>
            </a:r>
            <a:br>
              <a:rPr sz="2100"/>
            </a:b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к - критич. точка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10287000" cy="620640"/>
          </a:xfrm>
          <a:prstGeom prst="rect">
            <a:avLst/>
          </a:prstGeom>
          <a:solidFill>
            <a:srgbClr val="bbe0e3">
              <a:alpha val="78000"/>
            </a:srgbClr>
          </a:solidFill>
          <a:ln w="9360">
            <a:solidFill>
              <a:srgbClr val="66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Спинодаль</a:t>
            </a: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0" y="619200"/>
            <a:ext cx="4786200" cy="40338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0" y="5086440"/>
            <a:ext cx="9640800" cy="472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286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нодаль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кривая сосуществования двух фаз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5614920"/>
            <a:ext cx="10287000" cy="73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286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ница термодинамической устойчивости фазы по отношению к непрерывным изменениям термодинамических параметров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5564160"/>
            <a:ext cx="3603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спинодаль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spinodal] —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Химия твердого тела Лекция 7 распад твердого раствора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C60EEB-3D74-4AE8-85FB-2AB32242F9C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10287000" cy="396720"/>
          </a:xfrm>
          <a:prstGeom prst="rect">
            <a:avLst/>
          </a:prstGeom>
          <a:solidFill>
            <a:srgbClr val="bbe0e3">
              <a:alpha val="78000"/>
            </a:srgbClr>
          </a:solidFill>
          <a:ln w="9360">
            <a:solidFill>
              <a:srgbClr val="66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Гомогенное зародышеобразование</a:t>
            </a:r>
            <a:endParaRPr b="1" i="1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-360" y="906480"/>
            <a:ext cx="10287000" cy="4821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Равновесной температурой кристаллизации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чистого вещества или конгруэнтноплавящегося соединения является Т плавления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Обычно плавление начинается с поверхности,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Перегрев кристалла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может быть достигнут при сильно неравновесном процессе нагрева, например, при мощном лазерном нагреве малоразмерного образца, когда скорость нагрева тела превосходит скорость фазового превращения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перегреть кристаллическое тело удается при охлаждении поверхности (обдув)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Химия твердого тела Лекция 7 распад твердого раствора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F7A7C4-9414-4767-8F37-8430523FDE4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-360" y="28440"/>
            <a:ext cx="10287000" cy="736560"/>
          </a:xfrm>
          <a:prstGeom prst="rect">
            <a:avLst/>
          </a:prstGeom>
          <a:solidFill>
            <a:srgbClr val="bbe0e3">
              <a:alpha val="78000"/>
            </a:srgbClr>
          </a:solidFill>
          <a:ln w="9360">
            <a:solidFill>
              <a:srgbClr val="66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Явление зародышеобразования</a:t>
            </a: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-360" y="907560"/>
            <a:ext cx="10287000" cy="396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диффузионное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зарождение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новой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фаз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cc"/>
                </a:solidFill>
                <a:latin typeface="Times New Roman"/>
              </a:rPr>
              <a:t>фаза –</a:t>
            </a:r>
            <a:r>
              <a:rPr b="0" lang="ru-RU" sz="20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6600cc"/>
                </a:solidFill>
                <a:latin typeface="Times New Roman"/>
              </a:rPr>
              <a:t>сред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газ – кристалл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жидкость – кристалл, </a:t>
            </a: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кристалл – кристал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аморфная – кристалл??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кристалл – аморфная</a:t>
            </a:r>
            <a:r>
              <a:rPr b="1" i="1" lang="ru-RU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br>
              <a:rPr sz="2800"/>
            </a:b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Образование межфазной поверхност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82600" y="4941720"/>
            <a:ext cx="9669600" cy="15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два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вида:</a:t>
            </a:r>
            <a:br>
              <a:rPr sz="3000"/>
            </a:br>
            <a:r>
              <a:rPr b="1" i="1" lang="en-US" sz="3400" spc="-1" strike="noStrike">
                <a:solidFill>
                  <a:srgbClr val="6600cc"/>
                </a:solidFill>
                <a:latin typeface="Arial"/>
                <a:ea typeface="Times New Roman"/>
              </a:rPr>
              <a:t>гомогенное</a:t>
            </a:r>
            <a:br>
              <a:rPr sz="3400"/>
            </a:br>
            <a:r>
              <a:rPr b="1" i="1" lang="en-US" sz="3400" spc="-1" strike="noStrike">
                <a:solidFill>
                  <a:srgbClr val="6600cc"/>
                </a:solidFill>
                <a:latin typeface="Arial"/>
                <a:ea typeface="Times New Roman"/>
              </a:rPr>
              <a:t>гетерогенное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Химия твердого тела Лекция 7 распад твердого раствора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EC18A9-AA4B-44F0-8FAF-5C7A061FAFA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10287000" cy="549360"/>
          </a:xfrm>
          <a:prstGeom prst="rect">
            <a:avLst/>
          </a:prstGeom>
          <a:solidFill>
            <a:srgbClr val="bbe0e3">
              <a:alpha val="78000"/>
            </a:srgbClr>
          </a:solidFill>
          <a:ln w="9360">
            <a:solidFill>
              <a:srgbClr val="66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Гомогенное зародышеобразование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-360" y="620280"/>
            <a:ext cx="10287000" cy="201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46000"/>
          </a:bodyPr>
          <a:p>
            <a:pPr marL="157680" indent="0" algn="ctr">
              <a:lnSpc>
                <a:spcPct val="12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400" spc="-1" strike="noStrike">
                <a:solidFill>
                  <a:srgbClr val="000000"/>
                </a:solidFill>
                <a:latin typeface="Times New Roman"/>
              </a:rPr>
              <a:t>Новая фаза образуется в объеме исходной фазы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157680" indent="0" algn="ctr">
              <a:lnSpc>
                <a:spcPct val="12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157680" indent="0" algn="ctr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3300"/>
                </a:solidFill>
                <a:latin typeface="Times New Roman"/>
              </a:rPr>
              <a:t>Движущая сила зарождения новой фазы</a:t>
            </a:r>
            <a:r>
              <a:rPr b="0" lang="ru-RU" sz="3000" spc="-1" strike="noStrike">
                <a:solidFill>
                  <a:srgbClr val="ff3300"/>
                </a:solidFill>
                <a:latin typeface="Times New Roman"/>
              </a:rPr>
              <a:t>: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157680" indent="0" algn="ctr">
              <a:lnSpc>
                <a:spcPct val="12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0000"/>
                </a:solidFill>
                <a:latin typeface="Times New Roman"/>
                <a:ea typeface="Tahoma"/>
              </a:rPr>
              <a:t>Δ</a:t>
            </a:r>
            <a:r>
              <a:rPr b="0" i="1" lang="en-US" sz="4200" spc="-1" strike="noStrike">
                <a:solidFill>
                  <a:srgbClr val="000000"/>
                </a:solidFill>
                <a:latin typeface="Times New Roman"/>
                <a:ea typeface="Tahoma"/>
              </a:rPr>
              <a:t>G</a:t>
            </a:r>
            <a:r>
              <a:rPr b="0" lang="en-US" sz="4200" spc="-1" strike="noStrike">
                <a:solidFill>
                  <a:srgbClr val="000000"/>
                </a:solidFill>
                <a:latin typeface="Times New Roman"/>
                <a:ea typeface="Tahoma"/>
              </a:rPr>
              <a:t> &gt;0 </a:t>
            </a:r>
            <a:br>
              <a:rPr sz="4200"/>
            </a:br>
            <a:r>
              <a:rPr b="1" i="1" lang="ru-RU" sz="3400" spc="-1" strike="noStrike">
                <a:solidFill>
                  <a:srgbClr val="000000"/>
                </a:solidFill>
                <a:latin typeface="Times New Roman"/>
              </a:rPr>
              <a:t>избыточная сободная энергия</a:t>
            </a:r>
            <a:r>
              <a:rPr b="0" lang="ru-RU" sz="4200" spc="-1" strike="noStrike">
                <a:solidFill>
                  <a:srgbClr val="000000"/>
                </a:solidFill>
                <a:latin typeface="Times New Roman"/>
                <a:ea typeface="Tahoma"/>
              </a:rPr>
              <a:t> </a:t>
            </a:r>
            <a:r>
              <a:rPr b="1" i="1" lang="ru-RU" sz="3400" spc="-1" strike="noStrike">
                <a:solidFill>
                  <a:srgbClr val="000000"/>
                </a:solidFill>
                <a:latin typeface="Times New Roman"/>
              </a:rPr>
              <a:t>"неравновесность системы"</a:t>
            </a:r>
            <a:r>
              <a:rPr b="1" i="1" lang="en-US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Химия твердого тела Лекция 7 распад твердого раствора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B7EE00-1F4D-46E9-AA21-8E454065790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10287000" cy="549360"/>
          </a:xfrm>
          <a:prstGeom prst="rect">
            <a:avLst/>
          </a:prstGeom>
          <a:solidFill>
            <a:srgbClr val="bbe0e3">
              <a:alpha val="78000"/>
            </a:srgbClr>
          </a:solidFill>
          <a:ln w="9360">
            <a:solidFill>
              <a:srgbClr val="66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Критический зародыш (сферический)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-360" y="609480"/>
            <a:ext cx="10287000" cy="332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зменение свободной энергии Гиббса 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абота гомогенного зародышеобразовани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), связанное с возникновением зародыша новой фазы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вободная энергия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фазового превращении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свободная (???)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энергия образова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верхности границ раздел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3933720"/>
            <a:ext cx="10287000" cy="2565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819680" y="5084640"/>
            <a:ext cx="971640" cy="72072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55680" y="4221000"/>
            <a:ext cx="441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оверхностная энергия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6767640" y="4005360"/>
                <a:ext cx="2665440" cy="141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G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r</m:t>
                            </m:r>
                          </m:sub>
                        </m:sSub>
                        <m:sSup>
                          <m:e>
                            <m:r>
                              <m:t xml:space="preserve">G</m:t>
                            </m:r>
                          </m:e>
                          <m:sup>
                            <m:r>
                              <m:t xml:space="preserve">o</m:t>
                            </m:r>
                          </m:sup>
                        </m:sSup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ol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113" name=""/>
          <p:cNvGraphicFramePr/>
          <p:nvPr/>
        </p:nvGraphicFramePr>
        <p:xfrm>
          <a:off x="4329000" y="1773360"/>
          <a:ext cx="2522520" cy="11206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329000" y="1773360"/>
                    <a:ext cx="2522520" cy="1120680"/>
                  </a:xfrm>
                  <a:prstGeom prst="rect">
                    <a:avLst/>
                  </a:prstGeom>
                  <a:ln w="9360">
                    <a:solidFill>
                      <a:srgbClr val="333399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15" name=""/>
          <p:cNvGraphicFramePr/>
          <p:nvPr/>
        </p:nvGraphicFramePr>
        <p:xfrm>
          <a:off x="6578640" y="3068640"/>
          <a:ext cx="2225520" cy="646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578640" y="3068640"/>
                    <a:ext cx="2225520" cy="646200"/>
                  </a:xfrm>
                  <a:prstGeom prst="rect">
                    <a:avLst/>
                  </a:prstGeom>
                  <a:ln w="9360">
                    <a:solidFill>
                      <a:srgbClr val="333399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17" name=""/>
          <p:cNvSpPr/>
          <p:nvPr/>
        </p:nvSpPr>
        <p:spPr>
          <a:xfrm>
            <a:off x="2065320" y="5084640"/>
            <a:ext cx="566640" cy="433440"/>
          </a:xfrm>
          <a:prstGeom prst="ellipse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955960" y="5805360"/>
            <a:ext cx="568440" cy="433440"/>
          </a:xfrm>
          <a:prstGeom prst="ellipse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845400" y="5950080"/>
            <a:ext cx="485640" cy="360360"/>
          </a:xfrm>
          <a:prstGeom prst="ellipse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Химия твердого тела Лекция 7 распад твердого раствора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FD66E5-5AD0-4170-9929-A6487F43C51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10287000" cy="384120"/>
          </a:xfrm>
          <a:prstGeom prst="rect">
            <a:avLst/>
          </a:prstGeom>
          <a:solidFill>
            <a:srgbClr val="bbe0e3">
              <a:alpha val="78000"/>
            </a:srgbClr>
          </a:solidFill>
          <a:ln w="9360">
            <a:solidFill>
              <a:srgbClr val="66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Критический зародыш (сфера)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84040" y="620640"/>
          <a:ext cx="4422960" cy="1120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84040" y="620640"/>
                    <a:ext cx="4422960" cy="1120680"/>
                  </a:xfrm>
                  <a:prstGeom prst="rect">
                    <a:avLst/>
                  </a:prstGeom>
                  <a:ln w="9360">
                    <a:solidFill>
                      <a:srgbClr val="333399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123" name="" descr=""/>
          <p:cNvPicPr/>
          <p:nvPr/>
        </p:nvPicPr>
        <p:blipFill>
          <a:blip r:embed="rId4">
            <a:alphaModFix amt="58000"/>
          </a:blip>
          <a:stretch/>
        </p:blipFill>
        <p:spPr>
          <a:xfrm>
            <a:off x="4010040" y="2997360"/>
            <a:ext cx="6276960" cy="88236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4981680" y="3573360"/>
            <a:ext cx="4319640" cy="766800"/>
          </a:xfrm>
          <a:custGeom>
            <a:avLst/>
            <a:gdLst/>
            <a:ahLst/>
            <a:rect l="l" t="t" r="r" b="b"/>
            <a:pathLst>
              <a:path w="2419" h="483">
                <a:moveTo>
                  <a:pt x="2223" y="0"/>
                </a:moveTo>
                <a:cubicBezTo>
                  <a:pt x="2321" y="211"/>
                  <a:pt x="2419" y="423"/>
                  <a:pt x="2132" y="453"/>
                </a:cubicBezTo>
                <a:cubicBezTo>
                  <a:pt x="1845" y="483"/>
                  <a:pt x="854" y="211"/>
                  <a:pt x="499" y="181"/>
                </a:cubicBezTo>
                <a:cubicBezTo>
                  <a:pt x="144" y="151"/>
                  <a:pt x="83" y="257"/>
                  <a:pt x="0" y="272"/>
                </a:cubicBezTo>
              </a:path>
            </a:pathLst>
          </a:custGeom>
          <a:noFill/>
          <a:ln w="19080">
            <a:solidFill>
              <a:srgbClr val="000000"/>
            </a:solidFill>
            <a:prstDash val="lg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467320" y="836640"/>
            <a:ext cx="453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мер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*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жно определить дифференцирование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0" y="1773360"/>
            <a:ext cx="8213400" cy="4732200"/>
            <a:chOff x="0" y="1773360"/>
            <a:chExt cx="8213400" cy="4732200"/>
          </a:xfrm>
        </p:grpSpPr>
        <p:pic>
          <p:nvPicPr>
            <p:cNvPr id="127" name="" descr=""/>
            <p:cNvPicPr/>
            <p:nvPr/>
          </p:nvPicPr>
          <p:blipFill>
            <a:blip r:embed="rId5"/>
            <a:stretch/>
          </p:blipFill>
          <p:spPr>
            <a:xfrm>
              <a:off x="0" y="1773360"/>
              <a:ext cx="8213400" cy="4732200"/>
            </a:xfrm>
            <a:prstGeom prst="rect">
              <a:avLst/>
            </a:prstGeom>
            <a:ln w="9360">
              <a:solidFill>
                <a:srgbClr val="333399"/>
              </a:solidFill>
              <a:miter/>
            </a:ln>
          </p:spPr>
        </p:pic>
        <p:sp>
          <p:nvSpPr>
            <p:cNvPr id="128" name=""/>
            <p:cNvSpPr/>
            <p:nvPr/>
          </p:nvSpPr>
          <p:spPr>
            <a:xfrm>
              <a:off x="4737960" y="1989000"/>
              <a:ext cx="162360" cy="144720"/>
            </a:xfrm>
            <a:prstGeom prst="rect">
              <a:avLst/>
            </a:prstGeom>
            <a:solidFill>
              <a:srgbClr val="66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7331040" y="2781360"/>
            <a:ext cx="25131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экстрему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197760" y="1628640"/>
            <a:ext cx="3644640" cy="69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строим функцию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(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,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THC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412040" y="4869000"/>
            <a:ext cx="2874960" cy="785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Крупнее – расту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Мельче -- растворяютс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Химия твердого тела Лекция 7 распад твердого раствора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7511FF-24F0-401F-B602-A06DF9C53BB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0" y="189000"/>
            <a:ext cx="10287000" cy="54007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6357960" y="260280"/>
            <a:ext cx="36273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. 22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Химия твердого тела Лекция 7 распад твердого раствора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BAA8E4-9ADC-4E78-AB2A-FA62582FFCA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-41400" y="0"/>
            <a:ext cx="10328400" cy="1052640"/>
          </a:xfrm>
          <a:prstGeom prst="rect">
            <a:avLst/>
          </a:prstGeom>
          <a:solidFill>
            <a:srgbClr val="bbe0e3">
              <a:alpha val="78000"/>
            </a:srgbClr>
          </a:solidFill>
          <a:ln w="9360">
            <a:solidFill>
              <a:srgbClr val="66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Свободная энергия твердого раствора с кластерами растворенного компонента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22400" y="981000"/>
            <a:ext cx="1012500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Концентрации компонентов и кластеров в растворе зависят от количества кластеров n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295272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1163520" y="1930320"/>
          <a:ext cx="7591680" cy="1569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63520" y="1930320"/>
                    <a:ext cx="7591680" cy="156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9" name=""/>
          <p:cNvSpPr/>
          <p:nvPr/>
        </p:nvSpPr>
        <p:spPr>
          <a:xfrm>
            <a:off x="282600" y="3499560"/>
            <a:ext cx="972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Энергия Гиббса раствора с кластерами равна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1092240" y="4076640"/>
          <a:ext cx="7618320" cy="21938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92240" y="4076640"/>
                    <a:ext cx="7618320" cy="219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2" name=""/>
          <p:cNvSpPr/>
          <p:nvPr/>
        </p:nvSpPr>
        <p:spPr>
          <a:xfrm>
            <a:off x="7574040" y="2066760"/>
            <a:ext cx="251136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Кластеры,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увы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одинаков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Химия твердого тела Лекция 7 распад твердого раствора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C66A5B-CA07-4618-9893-02D3A1DCA40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10287000" cy="765000"/>
          </a:xfrm>
          <a:prstGeom prst="rect">
            <a:avLst/>
          </a:prstGeom>
          <a:solidFill>
            <a:srgbClr val="bbe0e3">
              <a:alpha val="78000"/>
            </a:srgbClr>
          </a:solidFill>
          <a:ln w="9360">
            <a:solidFill>
              <a:srgbClr val="66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Потенциал компонента в кластере</a:t>
            </a: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851040" y="981000"/>
            <a:ext cx="8586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6720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андартные химические потенциалы компонентов раствора (1- растворителя, 2 - растворенного,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 - кластеров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для растворителя совпадает с химпотенциалом чистого компонента в стандартном состоянии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329076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82440" y="907920"/>
          <a:ext cx="638280" cy="1971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2440" y="907920"/>
                    <a:ext cx="638280" cy="197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8" name=""/>
          <p:cNvSpPr/>
          <p:nvPr/>
        </p:nvSpPr>
        <p:spPr>
          <a:xfrm>
            <a:off x="0" y="325764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6477120" y="5295960"/>
          <a:ext cx="3197160" cy="7826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477120" y="5295960"/>
                    <a:ext cx="3197160" cy="782640"/>
                  </a:xfrm>
                  <a:prstGeom prst="rect">
                    <a:avLst/>
                  </a:prstGeom>
                  <a:ln w="9360">
                    <a:solidFill>
                      <a:srgbClr val="ff33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51" name=""/>
          <p:cNvSpPr/>
          <p:nvPr/>
        </p:nvSpPr>
        <p:spPr>
          <a:xfrm>
            <a:off x="122400" y="3141720"/>
            <a:ext cx="9963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Потенциал компонента в кластерах меняется 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от потенциала компонента в твёрдом растворе 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до потенциала компонента в конденсированной фаз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716040" y="4494240"/>
          <a:ext cx="4351320" cy="10954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16040" y="4494240"/>
                    <a:ext cx="4351320" cy="1095480"/>
                  </a:xfrm>
                  <a:prstGeom prst="rect">
                    <a:avLst/>
                  </a:prstGeom>
                  <a:ln w="9360">
                    <a:solidFill>
                      <a:srgbClr val="6600cc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90360" y="5826240"/>
          <a:ext cx="828720" cy="5079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90360" y="5826240"/>
                    <a:ext cx="82872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6" name=""/>
          <p:cNvSpPr/>
          <p:nvPr/>
        </p:nvSpPr>
        <p:spPr>
          <a:xfrm>
            <a:off x="1255680" y="5805360"/>
            <a:ext cx="421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можно определить, используя растворимост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Химия твердого тела Лекция 7 распад твердого раствора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929AD6-E284-418F-9699-A1121CF265A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9600" y="28440"/>
            <a:ext cx="10126800" cy="736560"/>
          </a:xfrm>
          <a:prstGeom prst="rect">
            <a:avLst/>
          </a:prstGeom>
          <a:solidFill>
            <a:srgbClr val="bbe0e3">
              <a:alpha val="78000"/>
            </a:srgbClr>
          </a:solidFill>
          <a:ln w="9360">
            <a:solidFill>
              <a:srgbClr val="66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Основные стадии реакций в твёрдой фазе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22400" y="1125360"/>
            <a:ext cx="10083600" cy="42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поверхностная диффузи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поверхность реагента В «покрывается» более подвижным (летучим или легкоплавким) компонентом 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Химическая реакци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Образование конечного (промежуточного) продукта на поверхности (в местах контакта компонентов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Диффузия в приповерхностные сло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в местах контакта компонентов)??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)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Возникновение дефектов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разрыхление кристаллических решеток, диффузия дефект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66ff"/>
                </a:solidFill>
                <a:latin typeface="Times New Roman"/>
              </a:rPr>
              <a:t>4) </a:t>
            </a:r>
            <a:r>
              <a:rPr b="1" i="1" lang="en-US" sz="3200" spc="-1" strike="noStrike" u="sng">
                <a:solidFill>
                  <a:srgbClr val="0066ff"/>
                </a:solidFill>
                <a:uFillTx/>
                <a:latin typeface="Times New Roman"/>
              </a:rPr>
              <a:t>Образование и распад твердых растворов</a:t>
            </a:r>
            <a:r>
              <a:rPr b="1" i="1" lang="en-US" sz="4000" spc="-1" strike="noStrike">
                <a:solidFill>
                  <a:srgbClr val="0066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Химия твердого тела Лекция 7 распад твердого раствора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290951-9F48-4AAA-97C3-B443267D2A3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360" y="44280"/>
            <a:ext cx="10287000" cy="720720"/>
          </a:xfrm>
          <a:prstGeom prst="rect">
            <a:avLst/>
          </a:prstGeom>
          <a:solidFill>
            <a:srgbClr val="bbe0e3">
              <a:alpha val="78000"/>
            </a:srgbClr>
          </a:solidFill>
          <a:ln w="9360">
            <a:solidFill>
              <a:srgbClr val="66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Поверхность избыточной функции Гиббс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305280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1012680" y="836640"/>
          <a:ext cx="8302680" cy="1506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12680" y="836640"/>
                    <a:ext cx="8302680" cy="150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1" name=""/>
          <p:cNvSpPr/>
          <p:nvPr/>
        </p:nvSpPr>
        <p:spPr>
          <a:xfrm>
            <a:off x="7129440" y="2835360"/>
            <a:ext cx="287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сыщенный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раствор Cu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r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950 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о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4575240" y="2781360"/>
            <a:ext cx="5711400" cy="4076640"/>
            <a:chOff x="4575240" y="2781360"/>
            <a:chExt cx="5711400" cy="4076640"/>
          </a:xfrm>
        </p:grpSpPr>
        <p:sp>
          <p:nvSpPr>
            <p:cNvPr id="163" name=""/>
            <p:cNvSpPr/>
            <p:nvPr/>
          </p:nvSpPr>
          <p:spPr>
            <a:xfrm>
              <a:off x="8960760" y="6251760"/>
              <a:ext cx="1325880" cy="60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lg(</a:t>
              </a: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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503320" y="3663360"/>
              <a:ext cx="3553560" cy="2508840"/>
            </a:xfrm>
            <a:custGeom>
              <a:avLst/>
              <a:gdLst/>
              <a:ahLst/>
              <a:rect l="l" t="t" r="r" b="b"/>
              <a:pathLst>
                <a:path w="3752" h="2548">
                  <a:moveTo>
                    <a:pt x="0" y="0"/>
                  </a:moveTo>
                  <a:lnTo>
                    <a:pt x="28" y="2548"/>
                  </a:lnTo>
                  <a:lnTo>
                    <a:pt x="3752" y="2548"/>
                  </a:lnTo>
                </a:path>
              </a:pathLst>
            </a:cu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529960" y="3277440"/>
              <a:ext cx="4004640" cy="292176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529960" y="3746160"/>
              <a:ext cx="3553560" cy="245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493240" y="3636000"/>
              <a:ext cx="3566880" cy="2571480"/>
            </a:xfrm>
            <a:custGeom>
              <a:avLst/>
              <a:gdLst/>
              <a:ahLst/>
              <a:rect l="l" t="t" r="r" b="b"/>
              <a:pathLst>
                <a:path w="5898" h="4431">
                  <a:moveTo>
                    <a:pt x="996" y="2069"/>
                  </a:moveTo>
                  <a:cubicBezTo>
                    <a:pt x="913" y="2355"/>
                    <a:pt x="1042" y="2768"/>
                    <a:pt x="971" y="2867"/>
                  </a:cubicBezTo>
                  <a:cubicBezTo>
                    <a:pt x="901" y="2965"/>
                    <a:pt x="686" y="3015"/>
                    <a:pt x="576" y="2660"/>
                  </a:cubicBezTo>
                  <a:cubicBezTo>
                    <a:pt x="467" y="2305"/>
                    <a:pt x="410" y="1183"/>
                    <a:pt x="315" y="740"/>
                  </a:cubicBezTo>
                  <a:cubicBezTo>
                    <a:pt x="219" y="297"/>
                    <a:pt x="236" y="385"/>
                    <a:pt x="0" y="0"/>
                  </a:cubicBezTo>
                  <a:cubicBezTo>
                    <a:pt x="27" y="1034"/>
                    <a:pt x="27" y="3281"/>
                    <a:pt x="53" y="4404"/>
                  </a:cubicBezTo>
                  <a:cubicBezTo>
                    <a:pt x="1101" y="4404"/>
                    <a:pt x="1738" y="4401"/>
                    <a:pt x="4528" y="4431"/>
                  </a:cubicBezTo>
                  <a:cubicBezTo>
                    <a:pt x="5458" y="4401"/>
                    <a:pt x="5128" y="4421"/>
                    <a:pt x="5898" y="4421"/>
                  </a:cubicBezTo>
                  <a:cubicBezTo>
                    <a:pt x="4928" y="3641"/>
                    <a:pt x="2286" y="1545"/>
                    <a:pt x="1469" y="1153"/>
                  </a:cubicBezTo>
                  <a:cubicBezTo>
                    <a:pt x="652" y="761"/>
                    <a:pt x="1079" y="1783"/>
                    <a:pt x="996" y="2069"/>
                  </a:cubicBezTo>
                  <a:close/>
                </a:path>
              </a:pathLst>
            </a:cu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056640" y="4324680"/>
              <a:ext cx="2956680" cy="1939320"/>
            </a:xfrm>
            <a:custGeom>
              <a:avLst/>
              <a:gdLst/>
              <a:ahLst/>
              <a:rect l="l" t="t" r="r" b="b"/>
              <a:pathLst>
                <a:path w="3122" h="1970">
                  <a:moveTo>
                    <a:pt x="159" y="0"/>
                  </a:moveTo>
                  <a:cubicBezTo>
                    <a:pt x="194" y="75"/>
                    <a:pt x="0" y="146"/>
                    <a:pt x="368" y="434"/>
                  </a:cubicBezTo>
                  <a:cubicBezTo>
                    <a:pt x="736" y="722"/>
                    <a:pt x="1910" y="1488"/>
                    <a:pt x="2369" y="1729"/>
                  </a:cubicBezTo>
                  <a:cubicBezTo>
                    <a:pt x="2828" y="1970"/>
                    <a:pt x="2704" y="1896"/>
                    <a:pt x="3122" y="1879"/>
                  </a:cubicBezTo>
                  <a:cubicBezTo>
                    <a:pt x="2586" y="1501"/>
                    <a:pt x="2408" y="1391"/>
                    <a:pt x="1967" y="1092"/>
                  </a:cubicBezTo>
                  <a:cubicBezTo>
                    <a:pt x="1526" y="793"/>
                    <a:pt x="788" y="296"/>
                    <a:pt x="477" y="86"/>
                  </a:cubicBezTo>
                </a:path>
              </a:pathLst>
            </a:cu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503320" y="3580920"/>
              <a:ext cx="190440" cy="829800"/>
            </a:xfrm>
            <a:custGeom>
              <a:avLst/>
              <a:gdLst/>
              <a:ahLst/>
              <a:rect l="l" t="t" r="r" b="b"/>
              <a:pathLst>
                <a:path w="201" h="843">
                  <a:moveTo>
                    <a:pt x="23" y="0"/>
                  </a:moveTo>
                  <a:cubicBezTo>
                    <a:pt x="50" y="77"/>
                    <a:pt x="143" y="367"/>
                    <a:pt x="168" y="498"/>
                  </a:cubicBezTo>
                  <a:cubicBezTo>
                    <a:pt x="193" y="629"/>
                    <a:pt x="201" y="731"/>
                    <a:pt x="173" y="787"/>
                  </a:cubicBezTo>
                  <a:cubicBezTo>
                    <a:pt x="145" y="843"/>
                    <a:pt x="36" y="824"/>
                    <a:pt x="0" y="834"/>
                  </a:cubicBezTo>
                </a:path>
              </a:pathLst>
            </a:cu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529960" y="3613680"/>
              <a:ext cx="1893240" cy="1437480"/>
            </a:xfrm>
            <a:custGeom>
              <a:avLst/>
              <a:gdLst/>
              <a:ahLst/>
              <a:rect l="l" t="t" r="r" b="b"/>
              <a:pathLst>
                <a:path w="1999" h="1376">
                  <a:moveTo>
                    <a:pt x="0" y="0"/>
                  </a:moveTo>
                  <a:cubicBezTo>
                    <a:pt x="258" y="152"/>
                    <a:pt x="1721" y="1150"/>
                    <a:pt x="1860" y="1263"/>
                  </a:cubicBezTo>
                  <a:cubicBezTo>
                    <a:pt x="1999" y="1376"/>
                    <a:pt x="1056" y="768"/>
                    <a:pt x="832" y="676"/>
                  </a:cubicBezTo>
                  <a:cubicBezTo>
                    <a:pt x="608" y="584"/>
                    <a:pt x="603" y="724"/>
                    <a:pt x="514" y="709"/>
                  </a:cubicBezTo>
                  <a:cubicBezTo>
                    <a:pt x="425" y="694"/>
                    <a:pt x="344" y="653"/>
                    <a:pt x="298" y="585"/>
                  </a:cubicBezTo>
                  <a:cubicBezTo>
                    <a:pt x="252" y="517"/>
                    <a:pt x="284" y="400"/>
                    <a:pt x="235" y="303"/>
                  </a:cubicBezTo>
                  <a:cubicBezTo>
                    <a:pt x="185" y="206"/>
                    <a:pt x="48" y="63"/>
                    <a:pt x="0" y="0"/>
                  </a:cubicBezTo>
                  <a:close/>
                </a:path>
              </a:pathLst>
            </a:cu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508360" y="2891160"/>
              <a:ext cx="4609440" cy="3307680"/>
            </a:xfrm>
            <a:custGeom>
              <a:avLst/>
              <a:gdLst/>
              <a:ahLst/>
              <a:rect l="l" t="t" r="r" b="b"/>
              <a:pathLst>
                <a:path w="4396" h="3080">
                  <a:moveTo>
                    <a:pt x="0" y="0"/>
                  </a:moveTo>
                  <a:lnTo>
                    <a:pt x="0" y="3080"/>
                  </a:lnTo>
                  <a:lnTo>
                    <a:pt x="4396" y="308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575240" y="2781360"/>
              <a:ext cx="848160" cy="104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-54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lg(N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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935400" y="6172200"/>
              <a:ext cx="821880" cy="52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973040" y="4545360"/>
              <a:ext cx="768960" cy="68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-54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973040" y="3360240"/>
              <a:ext cx="768960" cy="68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-54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526600" y="6183000"/>
              <a:ext cx="822240" cy="52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325200" y="3001680"/>
              <a:ext cx="530280" cy="413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w="21600" h="21600">
                  <a:moveTo>
                    <a:pt x="-30009" y="52457"/>
                  </a:moveTo>
                  <a:lnTo>
                    <a:pt x="-4590" y="9309"/>
                  </a:lnTo>
                </a:path>
              </a:pathLst>
            </a:custGeom>
            <a:noFill/>
            <a:ln w="9360">
              <a:solidFill>
                <a:srgbClr val="000000"/>
              </a:solidFill>
              <a:miter/>
              <a:headEnd len="sm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977880" y="3435840"/>
              <a:ext cx="531000" cy="413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w="21600" h="21600">
                  <a:moveTo>
                    <a:pt x="-40384" y="36977"/>
                  </a:moveTo>
                  <a:lnTo>
                    <a:pt x="-4590" y="9309"/>
                  </a:lnTo>
                </a:path>
              </a:pathLst>
            </a:custGeom>
            <a:noFill/>
            <a:ln w="93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992280" y="3892320"/>
              <a:ext cx="530280" cy="413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w="21600" h="21600">
                  <a:moveTo>
                    <a:pt x="-42930" y="36154"/>
                  </a:moveTo>
                  <a:lnTo>
                    <a:pt x="-4590" y="9309"/>
                  </a:lnTo>
                </a:path>
              </a:pathLst>
            </a:custGeom>
            <a:noFill/>
            <a:ln w="93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8109720" y="4089600"/>
              <a:ext cx="530280" cy="412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w="21600" h="21600">
                  <a:moveTo>
                    <a:pt x="-84317" y="82543"/>
                  </a:moveTo>
                  <a:lnTo>
                    <a:pt x="-4590" y="9309"/>
                  </a:lnTo>
                </a:path>
              </a:pathLst>
            </a:custGeom>
            <a:noFill/>
            <a:ln w="93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8712360" y="4104360"/>
              <a:ext cx="530280" cy="413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w="21600" h="21600">
                  <a:moveTo>
                    <a:pt x="-10144" y="93857"/>
                  </a:moveTo>
                  <a:lnTo>
                    <a:pt x="-4590" y="9309"/>
                  </a:lnTo>
                </a:path>
              </a:pathLst>
            </a:custGeom>
            <a:noFill/>
            <a:ln w="93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2" name=""/>
          <p:cNvSpPr/>
          <p:nvPr/>
        </p:nvSpPr>
        <p:spPr>
          <a:xfrm>
            <a:off x="0" y="3068640"/>
            <a:ext cx="51436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- зона устойчивости мелких кластеров (олигомеров);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- зона устойчивости крупных кластеров;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 - состояния с нулевой или близкой к нулю отрицательной избыточной свободной энергией;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 - состояния с близкой к нулю положительной избыточной свободной энергией;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 - область неустойчивых состояний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Химия твердого тела Лекция 7 распад твердого раствора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991E71-596E-4B23-AEDB-58CCB7C1D1E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3" name=""/>
          <p:cNvGrpSpPr/>
          <p:nvPr/>
        </p:nvGrpSpPr>
        <p:grpSpPr>
          <a:xfrm>
            <a:off x="4494240" y="0"/>
            <a:ext cx="5671800" cy="6524640"/>
            <a:chOff x="4494240" y="0"/>
            <a:chExt cx="5671800" cy="6524640"/>
          </a:xfrm>
        </p:grpSpPr>
        <p:pic>
          <p:nvPicPr>
            <p:cNvPr id="184" name="" descr=""/>
            <p:cNvPicPr/>
            <p:nvPr/>
          </p:nvPicPr>
          <p:blipFill>
            <a:blip r:embed="rId2"/>
            <a:stretch/>
          </p:blipFill>
          <p:spPr>
            <a:xfrm>
              <a:off x="4494240" y="0"/>
              <a:ext cx="5671800" cy="6524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85" name=""/>
            <p:cNvGrpSpPr/>
            <p:nvPr/>
          </p:nvGrpSpPr>
          <p:grpSpPr>
            <a:xfrm>
              <a:off x="4697640" y="174600"/>
              <a:ext cx="2000160" cy="303120"/>
              <a:chOff x="4697640" y="174600"/>
              <a:chExt cx="2000160" cy="303120"/>
            </a:xfrm>
          </p:grpSpPr>
          <p:sp>
            <p:nvSpPr>
              <p:cNvPr id="186" name=""/>
              <p:cNvSpPr/>
              <p:nvPr/>
            </p:nvSpPr>
            <p:spPr>
              <a:xfrm>
                <a:off x="4697640" y="174600"/>
                <a:ext cx="2000160" cy="303120"/>
              </a:xfrm>
              <a:prstGeom prst="wedgeEllipseCallout">
                <a:avLst>
                  <a:gd name="adj1" fmla="val -43759"/>
                  <a:gd name="adj2" fmla="val 58703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5136480" y="193320"/>
                <a:ext cx="1235880" cy="265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Невыгодно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8" name=""/>
            <p:cNvGrpSpPr/>
            <p:nvPr/>
          </p:nvGrpSpPr>
          <p:grpSpPr>
            <a:xfrm>
              <a:off x="5224680" y="1125360"/>
              <a:ext cx="2160360" cy="338400"/>
              <a:chOff x="5224680" y="1125360"/>
              <a:chExt cx="2160360" cy="338400"/>
            </a:xfrm>
          </p:grpSpPr>
          <p:sp>
            <p:nvSpPr>
              <p:cNvPr id="189" name=""/>
              <p:cNvSpPr/>
              <p:nvPr/>
            </p:nvSpPr>
            <p:spPr>
              <a:xfrm>
                <a:off x="5224680" y="1125360"/>
                <a:ext cx="2160360" cy="338400"/>
              </a:xfrm>
              <a:prstGeom prst="wedgeEllipseCallout">
                <a:avLst>
                  <a:gd name="adj1" fmla="val -43759"/>
                  <a:gd name="adj2" fmla="val 58703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5698800" y="1146600"/>
                <a:ext cx="1334880" cy="295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Выгодно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1" name=""/>
          <p:cNvSpPr/>
          <p:nvPr/>
        </p:nvSpPr>
        <p:spPr>
          <a:xfrm>
            <a:off x="122400" y="44280"/>
            <a:ext cx="4373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Изменение поверхности свободной энергии раствора при разбавлении пересыщенного раствора малорастворимого компонент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87240" y="2349360"/>
            <a:ext cx="3808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ерхний левый угол - это мелкие кластеры (олигомеры = димеры, тримеры и т.п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4005360"/>
            <a:ext cx="4414680" cy="2531160"/>
          </a:xfrm>
          <a:prstGeom prst="rect">
            <a:avLst/>
          </a:prstGeom>
          <a:solidFill>
            <a:srgbClr val="66ffff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Мелкие кластеры – олигомеры, существуют даже в ненасыщенном раствор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686040" y="2514600"/>
            <a:ext cx="5229360" cy="3794040"/>
          </a:xfrm>
          <a:custGeom>
            <a:avLst/>
            <a:gdLst/>
            <a:ahLst/>
            <a:rect l="l" t="t" r="r" b="b"/>
            <a:pathLst>
              <a:path w="2928" h="2390">
                <a:moveTo>
                  <a:pt x="0" y="2390"/>
                </a:moveTo>
                <a:cubicBezTo>
                  <a:pt x="646" y="1978"/>
                  <a:pt x="1293" y="1566"/>
                  <a:pt x="1769" y="1256"/>
                </a:cubicBezTo>
                <a:cubicBezTo>
                  <a:pt x="2245" y="946"/>
                  <a:pt x="2786" y="740"/>
                  <a:pt x="2857" y="531"/>
                </a:cubicBezTo>
                <a:cubicBezTo>
                  <a:pt x="2928" y="322"/>
                  <a:pt x="2335" y="111"/>
                  <a:pt x="2198" y="0"/>
                </a:cubicBezTo>
              </a:path>
            </a:pathLst>
          </a:custGeom>
          <a:noFill/>
          <a:ln cap="rnd" w="38160">
            <a:solidFill>
              <a:srgbClr val="ff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686040" y="473040"/>
            <a:ext cx="5869080" cy="5835600"/>
          </a:xfrm>
          <a:custGeom>
            <a:avLst/>
            <a:gdLst/>
            <a:ahLst/>
            <a:rect l="l" t="t" r="r" b="b"/>
            <a:pathLst>
              <a:path w="3286" h="3676">
                <a:moveTo>
                  <a:pt x="0" y="3676"/>
                </a:moveTo>
                <a:cubicBezTo>
                  <a:pt x="646" y="3264"/>
                  <a:pt x="1233" y="2921"/>
                  <a:pt x="1769" y="2542"/>
                </a:cubicBezTo>
                <a:cubicBezTo>
                  <a:pt x="2305" y="2163"/>
                  <a:pt x="3146" y="1825"/>
                  <a:pt x="3216" y="1401"/>
                </a:cubicBezTo>
                <a:cubicBezTo>
                  <a:pt x="3286" y="977"/>
                  <a:pt x="2403" y="292"/>
                  <a:pt x="2189" y="0"/>
                </a:cubicBezTo>
              </a:path>
            </a:pathLst>
          </a:custGeom>
          <a:noFill/>
          <a:ln cap="rnd" w="38160">
            <a:solidFill>
              <a:srgbClr val="ff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Химия твердого тела Лекция 7 распад твердого раствора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3E571F-51AD-47DA-9441-A2B39224394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10287000" cy="549360"/>
          </a:xfrm>
          <a:prstGeom prst="rect">
            <a:avLst/>
          </a:prstGeom>
          <a:solidFill>
            <a:srgbClr val="bbe0e3">
              <a:alpha val="78000"/>
            </a:srgbClr>
          </a:solidFill>
          <a:ln w="9360">
            <a:solidFill>
              <a:srgbClr val="66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Размер критического зародыша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-360" y="620640"/>
            <a:ext cx="1028700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ост частицы происходит в том случае, если ее радиус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евышает некоторое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ритическое значени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ост закритического зародыша сопровождается непрерывным уменьшением свободной энергии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ритический размер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соответствует условию максимума величины </a:t>
            </a:r>
            <a:br>
              <a:rPr sz="2400"/>
            </a:b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/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|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r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0,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* = 2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ru-RU" sz="3200" spc="-1" strike="noStrike" baseline="-30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 baseline="-30000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ru-RU" sz="3200" spc="-1" strike="noStrike" baseline="-30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/ 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ru-RU" sz="3200" spc="-1" strike="noStrike" baseline="-30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ahoma"/>
              </a:rPr>
              <a:t>Δ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дстановка критического размера в уравнение для 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даст величину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аботы гомогенного образования критического зародыш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br>
              <a:rPr sz="2400"/>
            </a:b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* = (16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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SL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/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ahoma"/>
              </a:rPr>
              <a:t>Δ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ahoma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0" y="5661000"/>
            <a:ext cx="10287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ru-RU" sz="22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удельная теплота кристаллизации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[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Дж/моль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]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?, </a:t>
            </a:r>
            <a:br>
              <a:rPr sz="2200"/>
            </a:br>
            <a:r>
              <a:rPr b="0" i="1" lang="ru-RU" sz="2200" spc="-1" strike="noStrike">
                <a:solidFill>
                  <a:srgbClr val="333399"/>
                </a:solidFill>
                <a:latin typeface="Tahoma"/>
                <a:ea typeface="Times New Roman"/>
              </a:rPr>
              <a:t>d</a:t>
            </a:r>
            <a:r>
              <a:rPr b="0" lang="ru-RU" sz="2200" spc="-1" strike="noStrike" baseline="-30000">
                <a:solidFill>
                  <a:srgbClr val="333399"/>
                </a:solidFill>
                <a:latin typeface="Tahoma"/>
                <a:ea typeface="Times New Roman"/>
              </a:rPr>
              <a:t>s</a:t>
            </a:r>
            <a:r>
              <a:rPr b="0" lang="ru-RU" sz="2200" spc="-1" strike="noStrike">
                <a:solidFill>
                  <a:srgbClr val="000000"/>
                </a:solidFill>
                <a:latin typeface="Tahoma"/>
                <a:ea typeface="Times New Roman"/>
              </a:rPr>
              <a:t> – плотность твердой фазы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Times New Roman"/>
              </a:rPr>
              <a:t>[</a:t>
            </a:r>
            <a:r>
              <a:rPr b="0" lang="ru-RU" sz="2200" spc="-1" strike="noStrike">
                <a:solidFill>
                  <a:srgbClr val="000000"/>
                </a:solidFill>
                <a:latin typeface="Tahoma"/>
                <a:ea typeface="Times New Roman"/>
              </a:rPr>
              <a:t>моль/см</a:t>
            </a:r>
            <a:r>
              <a:rPr b="0" lang="ru-RU" sz="2200" spc="-1" strike="noStrike" baseline="30000">
                <a:solidFill>
                  <a:srgbClr val="000000"/>
                </a:solidFill>
                <a:latin typeface="Tahoma"/>
                <a:ea typeface="Times New Roman"/>
              </a:rPr>
              <a:t>3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Times New Roman"/>
              </a:rPr>
              <a:t>]</a:t>
            </a:r>
            <a:r>
              <a:rPr b="0" lang="ru-RU" sz="2200" spc="-1" strike="noStrike">
                <a:solidFill>
                  <a:srgbClr val="000000"/>
                </a:solidFill>
                <a:latin typeface="Tahoma"/>
                <a:ea typeface="Times New Roman"/>
              </a:rPr>
              <a:t> 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308320" y="5084640"/>
            <a:ext cx="615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Проверить размерност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Химия твердого тела Лекция 7 распад твердого раствора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C47064-1B89-438C-838D-41F353FD839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10287000" cy="620640"/>
          </a:xfrm>
          <a:prstGeom prst="rect">
            <a:avLst/>
          </a:prstGeom>
          <a:solidFill>
            <a:srgbClr val="bbe0e3">
              <a:alpha val="78000"/>
            </a:srgbClr>
          </a:solidFill>
          <a:ln w="9360">
            <a:solidFill>
              <a:srgbClr val="66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Гетерогенное зародышеобразование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-360" y="620280"/>
            <a:ext cx="10287000" cy="201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40000"/>
          </a:bodyPr>
          <a:p>
            <a:pPr marL="137160" indent="0" algn="ctr">
              <a:lnSpc>
                <a:spcPct val="12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400" spc="-1" strike="noStrike">
                <a:solidFill>
                  <a:srgbClr val="000000"/>
                </a:solidFill>
                <a:latin typeface="Times New Roman"/>
              </a:rPr>
              <a:t>Новая фаза образуется на поверхности</a:t>
            </a:r>
            <a:br>
              <a:rPr sz="3400"/>
            </a:br>
            <a:r>
              <a:rPr b="1" lang="ru-RU" sz="3400" spc="-1" strike="noStrike">
                <a:solidFill>
                  <a:srgbClr val="000000"/>
                </a:solidFill>
                <a:latin typeface="Times New Roman"/>
              </a:rPr>
              <a:t>(фаз, частиц, стенок)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137160" indent="0" algn="ctr">
              <a:lnSpc>
                <a:spcPct val="12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137160" indent="0" algn="ctr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3300"/>
                </a:solidFill>
                <a:latin typeface="Times New Roman"/>
              </a:rPr>
              <a:t>Движущая сила зарождения новой фазы</a:t>
            </a:r>
            <a:r>
              <a:rPr b="0" lang="ru-RU" sz="3000" spc="-1" strike="noStrike">
                <a:solidFill>
                  <a:srgbClr val="ff3300"/>
                </a:solidFill>
                <a:latin typeface="Times New Roman"/>
              </a:rPr>
              <a:t>: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137160" indent="0" algn="ctr">
              <a:lnSpc>
                <a:spcPct val="12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0000"/>
                </a:solidFill>
                <a:latin typeface="Times New Roman"/>
                <a:ea typeface="Tahoma"/>
              </a:rPr>
              <a:t>Δ</a:t>
            </a:r>
            <a:r>
              <a:rPr b="0" i="1" lang="en-US" sz="4200" spc="-1" strike="noStrike">
                <a:solidFill>
                  <a:srgbClr val="000000"/>
                </a:solidFill>
                <a:latin typeface="Times New Roman"/>
                <a:ea typeface="Tahoma"/>
              </a:rPr>
              <a:t>G</a:t>
            </a:r>
            <a:r>
              <a:rPr b="0" lang="en-US" sz="4200" spc="-1" strike="noStrike">
                <a:solidFill>
                  <a:srgbClr val="000000"/>
                </a:solidFill>
                <a:latin typeface="Times New Roman"/>
                <a:ea typeface="Tahoma"/>
              </a:rPr>
              <a:t> &gt;0 </a:t>
            </a:r>
            <a:br>
              <a:rPr sz="4200"/>
            </a:br>
            <a:r>
              <a:rPr b="0" lang="ru-RU" sz="4200" spc="-1" strike="noStrike">
                <a:solidFill>
                  <a:srgbClr val="000000"/>
                </a:solidFill>
                <a:latin typeface="Times New Roman"/>
                <a:ea typeface="Tahoma"/>
              </a:rPr>
              <a:t> </a:t>
            </a:r>
            <a:r>
              <a:rPr b="1" i="1" lang="ru-RU" sz="3400" spc="-1" strike="noStrike">
                <a:solidFill>
                  <a:srgbClr val="000000"/>
                </a:solidFill>
                <a:latin typeface="Times New Roman"/>
              </a:rPr>
              <a:t>избыточная сободная энергия</a:t>
            </a:r>
            <a:r>
              <a:rPr b="0" lang="ru-RU" sz="4200" spc="-1" strike="noStrike">
                <a:solidFill>
                  <a:srgbClr val="000000"/>
                </a:solidFill>
                <a:latin typeface="Times New Roman"/>
                <a:ea typeface="Tahoma"/>
              </a:rPr>
              <a:t> </a:t>
            </a:r>
            <a:r>
              <a:rPr b="1" i="1" lang="ru-RU" sz="3400" spc="-1" strike="noStrike">
                <a:solidFill>
                  <a:srgbClr val="000000"/>
                </a:solidFill>
                <a:latin typeface="Times New Roman"/>
              </a:rPr>
              <a:t>"неравновесность системы"</a:t>
            </a:r>
            <a:r>
              <a:rPr b="1" i="1" lang="en-US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Химия твердого тела Лекция 7 распад твердого раствора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01AAD0-E399-44F9-B862-4B0CB375795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10287000" cy="765000"/>
          </a:xfrm>
          <a:prstGeom prst="rect">
            <a:avLst/>
          </a:prstGeom>
          <a:solidFill>
            <a:srgbClr val="bbe0e3">
              <a:alpha val="78000"/>
            </a:srgbClr>
          </a:solidFill>
          <a:ln w="9360">
            <a:solidFill>
              <a:srgbClr val="66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Гетерогенное зародышеобразование</a:t>
            </a: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2"/>
          <a:stretch/>
        </p:blipFill>
        <p:spPr>
          <a:xfrm>
            <a:off x="6343560" y="765000"/>
            <a:ext cx="3772080" cy="145116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201600" y="836640"/>
            <a:ext cx="9721800" cy="233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реальных условиях большинство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таллов затвердевает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 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&lt;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0,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eq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-за наличия в расплаве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ородных твердых частиц и стенок формы, которые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легчают процесс зародышеобразован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82600" y="3068640"/>
            <a:ext cx="9720360" cy="306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49560" indent="-2149560">
              <a:lnSpc>
                <a:spcPct val="12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ластер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имеющего на плоской подложке форму сферического сегмент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49560" indent="-2149560">
              <a:lnSpc>
                <a:spcPct val="12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бота гетерогенного зародышеобразован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49560" indent="-2149560">
              <a:lnSpc>
                <a:spcPct val="12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ге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r 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2 + cos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(1 - cos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SL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v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r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/ 3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49560" indent="-2149560">
              <a:lnSpc>
                <a:spcPct val="12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Э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нергия гетерогенного зародышеобразования отличается от гомогенного зародышеобразования только сомножителем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br>
              <a:rPr sz="2100"/>
            </a:br>
            <a:r>
              <a:rPr b="0" lang="ru-RU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(2 + cos</a:t>
            </a:r>
            <a:r>
              <a:rPr b="0" lang="ru-RU" sz="21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)(1 – cos</a:t>
            </a:r>
            <a:r>
              <a:rPr b="0" lang="ru-RU" sz="21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r>
              <a:rPr b="0" lang="ru-RU" sz="21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 / 4]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=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f(</a:t>
            </a:r>
            <a:r>
              <a:rPr b="0" lang="ru-RU" sz="21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) </a:t>
            </a: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 1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984320" y="6237360"/>
            <a:ext cx="615636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Проверить размерност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Химия твердого тела Лекция 7 распад твердого раствора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1B3FFA-C118-4044-9896-655C8DC67B1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4010040" y="6858000"/>
            <a:ext cx="3078000" cy="201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228760" y="4941720"/>
            <a:ext cx="1538280" cy="1224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70040" y="4005360"/>
            <a:ext cx="1538280" cy="1224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10287000" cy="384120"/>
          </a:xfrm>
          <a:prstGeom prst="rect">
            <a:avLst/>
          </a:prstGeom>
          <a:solidFill>
            <a:srgbClr val="bbe0e3">
              <a:alpha val="78000"/>
            </a:srgbClr>
          </a:solidFill>
          <a:ln w="9360">
            <a:solidFill>
              <a:srgbClr val="66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Критическое зародышеобразование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-360" y="764640"/>
            <a:ext cx="10287000" cy="609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ритические радиусы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зародыша при гомогенном и гетерогенном образовании равны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ростом смачиваемост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) энергетический барьер, препятствующий зарождению, уменьшается, и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эффективность влияния подложки на процесс зародышеобразования растет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0" y="5084640"/>
            <a:ext cx="10287000" cy="1773360"/>
          </a:xfrm>
          <a:prstGeom prst="rect">
            <a:avLst/>
          </a:prstGeom>
          <a:blipFill rotWithShape="0">
            <a:blip r:embed="rId2">
              <a:alphaModFix amt="43000"/>
            </a:blip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360600" y="3716280"/>
            <a:ext cx="1538280" cy="1224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416200" y="3860640"/>
            <a:ext cx="2321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Arial"/>
              </a:rPr>
              <a:t>homo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&gt; M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Arial"/>
              </a:rPr>
              <a:t>get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276960" y="3933720"/>
            <a:ext cx="406440" cy="358920"/>
          </a:xfrm>
          <a:prstGeom prst="ellipse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5477040"/>
            <a:ext cx="8140680" cy="825480"/>
          </a:xfrm>
          <a:prstGeom prst="rect">
            <a:avLst/>
          </a:prstGeom>
          <a:solidFill>
            <a:srgbClr val="bbe0e3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Для образования зародыша необходимо меньше вещества и, соответственно, меньшее врем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Химия твердого тела Лекция 7 распад твердого раствора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B658DF-AE03-4652-8296-430325F4D17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200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7.40741E-007 L 0.68507 -0.89907 E">
                                      <p:cBhvr>
                                        <p:cTn id="59" dur="5000" fill="hold"/>
                                        <p:tgtEl>
                                          <p:spTgt spid="2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10287000" cy="620640"/>
          </a:xfrm>
          <a:prstGeom prst="rect">
            <a:avLst/>
          </a:prstGeom>
          <a:solidFill>
            <a:srgbClr val="bbe0e3">
              <a:alpha val="78000"/>
            </a:srgbClr>
          </a:solidFill>
          <a:ln w="9360">
            <a:solidFill>
              <a:srgbClr val="66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Кинетика зародышеобразования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524400" y="758880"/>
            <a:ext cx="6762600" cy="251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ru-RU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число "энергетически доступных мест" (при гетерогенном образовании в основном определяется дефектами кристалла или примесями). </a:t>
            </a:r>
            <a:br>
              <a:rPr sz="2500"/>
            </a:b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число зародышей в момент времени </a:t>
            </a:r>
            <a:r>
              <a:rPr b="0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i="1" lang="ru-RU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— константа скорости зародышеобразования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9" name="Image10275" descr=""/>
          <p:cNvPicPr/>
          <p:nvPr/>
        </p:nvPicPr>
        <p:blipFill>
          <a:blip r:embed=""/>
          <a:stretch/>
        </p:blipFill>
        <p:spPr>
          <a:xfrm>
            <a:off x="0" y="3429000"/>
            <a:ext cx="3846600" cy="64440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0" y="3429000"/>
            <a:ext cx="5789520" cy="640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проинтегрироват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0" y="4365720"/>
            <a:ext cx="10287000" cy="1991160"/>
          </a:xfrm>
          <a:prstGeom prst="rect">
            <a:avLst/>
          </a:prstGeom>
          <a:solidFill>
            <a:srgbClr val="ffffff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370800" bIns="370800" anchor="t">
            <a:spAutoFit/>
          </a:bodyPr>
          <a:p>
            <a:pPr algn="ctr">
              <a:spcBef>
                <a:spcPts val="25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1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Нарисовать </a:t>
            </a:r>
            <a:br>
              <a:rPr sz="4100"/>
            </a:br>
            <a:r>
              <a:rPr b="1" i="1" lang="ru-RU" sz="41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кинетические кривые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2"/>
          <a:stretch/>
        </p:blipFill>
        <p:spPr>
          <a:xfrm>
            <a:off x="0" y="871560"/>
            <a:ext cx="3441600" cy="1017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Химия твердого тела Лекция 7 распад твердого раствора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B2E500-674B-45B2-A396-64FB01F8D80B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10287000" cy="692280"/>
          </a:xfrm>
          <a:prstGeom prst="rect">
            <a:avLst/>
          </a:prstGeom>
          <a:solidFill>
            <a:srgbClr val="bbe0e3">
              <a:alpha val="78000"/>
            </a:srgbClr>
          </a:solidFill>
          <a:ln w="9360">
            <a:solidFill>
              <a:srgbClr val="66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Кинетика зародышеобразования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42840" y="939960"/>
            <a:ext cx="5100840" cy="280980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915840" y="2400480"/>
            <a:ext cx="3629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915840" y="2400480"/>
            <a:ext cx="30006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5143680" y="906480"/>
            <a:ext cx="5143320" cy="284328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4708080" y="1200240"/>
            <a:ext cx="3877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9785160" y="1197000"/>
            <a:ext cx="3877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0" y="3794400"/>
            <a:ext cx="490212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нетические кривые зародышеобразования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 rot="10800000">
            <a:off x="5138280" y="3913920"/>
            <a:ext cx="514836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висимости скорости зародышеобразования от времени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0" y="4940280"/>
            <a:ext cx="10287000" cy="2101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2158920"/>
                <a:tab algn="l" pos="4300560"/>
                <a:tab algn="l" pos="71787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 соответствует 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0 (мгновенное зародышеобразование); </a:t>
            </a:r>
            <a:br>
              <a:rPr sz="2500"/>
            </a:br>
            <a:r>
              <a:rPr b="0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—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 </a:t>
            </a:r>
            <a:r>
              <a:rPr b="0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—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</a:t>
            </a:r>
            <a:r>
              <a:rPr b="0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—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 </a:t>
            </a:r>
            <a:r>
              <a:rPr b="0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&gt; 1; </a:t>
            </a:r>
            <a:br>
              <a:rPr sz="2500"/>
            </a:br>
            <a:r>
              <a:rPr b="0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— </a:t>
            </a:r>
            <a:br>
              <a:rPr sz="2500"/>
            </a:b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ru-RU" sz="2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— инкубационный период зародышеобразования); </a:t>
            </a:r>
            <a:br>
              <a:rPr sz="2500"/>
            </a:br>
            <a:r>
              <a:rPr b="0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—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и </a:t>
            </a:r>
            <a:r>
              <a:rPr b="0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ru-RU" sz="2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&lt; </a:t>
            </a:r>
            <a:r>
              <a:rPr b="0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ru-RU" sz="2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3" name="Image10279" descr=""/>
          <p:cNvPicPr/>
          <p:nvPr/>
        </p:nvPicPr>
        <p:blipFill>
          <a:blip r:embed=""/>
          <a:stretch/>
        </p:blipFill>
        <p:spPr>
          <a:xfrm>
            <a:off x="689040" y="5373720"/>
            <a:ext cx="1863720" cy="414360"/>
          </a:xfrm>
          <a:prstGeom prst="rect">
            <a:avLst/>
          </a:prstGeom>
          <a:ln w="0">
            <a:noFill/>
          </a:ln>
        </p:spPr>
      </p:pic>
      <p:pic>
        <p:nvPicPr>
          <p:cNvPr id="234" name="Image10280" descr=""/>
          <p:cNvPicPr/>
          <p:nvPr/>
        </p:nvPicPr>
        <p:blipFill>
          <a:blip r:embed=""/>
          <a:stretch/>
        </p:blipFill>
        <p:spPr>
          <a:xfrm>
            <a:off x="3589200" y="5343480"/>
            <a:ext cx="1293840" cy="459000"/>
          </a:xfrm>
          <a:prstGeom prst="rect">
            <a:avLst/>
          </a:prstGeom>
          <a:ln w="0">
            <a:noFill/>
          </a:ln>
        </p:spPr>
      </p:pic>
      <p:pic>
        <p:nvPicPr>
          <p:cNvPr id="235" name="Image10281" descr=""/>
          <p:cNvPicPr/>
          <p:nvPr/>
        </p:nvPicPr>
        <p:blipFill>
          <a:blip r:embed=""/>
          <a:stretch/>
        </p:blipFill>
        <p:spPr>
          <a:xfrm>
            <a:off x="5742000" y="5297400"/>
            <a:ext cx="2316240" cy="523800"/>
          </a:xfrm>
          <a:prstGeom prst="rect">
            <a:avLst/>
          </a:prstGeom>
          <a:ln w="0">
            <a:noFill/>
          </a:ln>
        </p:spPr>
      </p:pic>
      <p:pic>
        <p:nvPicPr>
          <p:cNvPr id="236" name="Image10283" descr=""/>
          <p:cNvPicPr/>
          <p:nvPr/>
        </p:nvPicPr>
        <p:blipFill>
          <a:blip r:embed=""/>
          <a:stretch/>
        </p:blipFill>
        <p:spPr>
          <a:xfrm>
            <a:off x="930240" y="6453360"/>
            <a:ext cx="2838600" cy="428400"/>
          </a:xfrm>
          <a:prstGeom prst="rect">
            <a:avLst/>
          </a:prstGeom>
          <a:ln w="0">
            <a:noFill/>
          </a:ln>
        </p:spPr>
      </p:pic>
      <p:pic>
        <p:nvPicPr>
          <p:cNvPr id="237" name="Image10282" descr=""/>
          <p:cNvPicPr/>
          <p:nvPr/>
        </p:nvPicPr>
        <p:blipFill>
          <a:blip r:embed=""/>
          <a:stretch/>
        </p:blipFill>
        <p:spPr>
          <a:xfrm>
            <a:off x="851040" y="5661000"/>
            <a:ext cx="3402000" cy="52236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4"/>
          <a:stretch/>
        </p:blipFill>
        <p:spPr>
          <a:xfrm>
            <a:off x="0" y="4913280"/>
            <a:ext cx="10283760" cy="1944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Химия твердого тела Лекция 7 распад твердого раствора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3D53CE-6A8F-43FE-BB72-DA13163C2101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0" y="1989000"/>
            <a:ext cx="1028700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(g) - число зародышей размером g; 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число одиночных атомов в системе;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Ф(g) – определяет вероятность флуктуаций с возникновением g атомных комплексов, связана с изменением термодинамического потенциал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2"/>
          <a:stretch/>
        </p:blipFill>
        <p:spPr>
          <a:xfrm>
            <a:off x="6288120" y="1125360"/>
            <a:ext cx="3998880" cy="7369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10287000" cy="981000"/>
          </a:xfrm>
          <a:prstGeom prst="rect">
            <a:avLst/>
          </a:prstGeom>
          <a:solidFill>
            <a:srgbClr val="bbe0e3">
              <a:alpha val="78000"/>
            </a:srgbClr>
          </a:solidFill>
          <a:ln w="9360">
            <a:solidFill>
              <a:srgbClr val="66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Теория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Фольмера – Вебера </a:t>
            </a:r>
            <a:br>
              <a:rPr sz="3600"/>
            </a:b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(Гиббса – " – " – Френкеля – Зельдовича)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0" y="1071720"/>
            <a:ext cx="5954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стулировано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неко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стационарное распределение докритических зародыше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6197760" y="3645000"/>
            <a:ext cx="3516120" cy="76500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0" y="3500280"/>
            <a:ext cx="712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ольмер прдложил выражение для скорости стационарного рождения зародышей в виде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0" y="4797360"/>
            <a:ext cx="10287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облемы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е учтено влияние нестационарных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начальных стадий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процессов конденсации на скорость кристаллизации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праведлива только для достаточно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больших ансамблей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частиц в зародыше и при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малых отклонениях от равновесног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состояния системы и малых пресыщениях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Химия твердого тела Лекция 7 распад твердого раствора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BD4763-6265-4CC2-870D-84B2347895D7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10287000" cy="765000"/>
          </a:xfrm>
          <a:prstGeom prst="rect">
            <a:avLst/>
          </a:prstGeom>
          <a:solidFill>
            <a:srgbClr val="bbe0e3">
              <a:alpha val="78000"/>
            </a:srgbClr>
          </a:solidFill>
          <a:ln w="9360">
            <a:solidFill>
              <a:srgbClr val="66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Теория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Беккера - Деринга</a:t>
            </a: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0" y="836640"/>
            <a:ext cx="9923400" cy="17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сли известна функция распределения F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</a:rPr>
              <a:t>g,t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то известны все основные параметры, характеризующие дисперсные системы, (плотность зародышей в каждый момент времени, их средний размер и т.п.) 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сли выражение для F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</a:rPr>
              <a:t>g,t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найдено, то скорость образования критических зародышей может быть определена по формуле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2"/>
          <a:stretch/>
        </p:blipFill>
        <p:spPr>
          <a:xfrm>
            <a:off x="5143680" y="2421000"/>
            <a:ext cx="5062320" cy="82872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>
            <a:off x="0" y="4797360"/>
            <a:ext cx="10287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блемы теории Беккера- Деринга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исло атомов в зародыше должно быть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велик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чтобы его можно было считать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непрерывны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араметром,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вод уравнения Беккера- Деринга предполагает отсутствие столкновений между зародышами, 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рименимо лишь к самым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начальны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тадиям и при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малых пресыщениях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7655040" y="3860640"/>
            <a:ext cx="2220480" cy="836640"/>
            <a:chOff x="7655040" y="3860640"/>
            <a:chExt cx="2220480" cy="836640"/>
          </a:xfrm>
        </p:grpSpPr>
        <p:pic>
          <p:nvPicPr>
            <p:cNvPr id="251" name="" descr=""/>
            <p:cNvPicPr/>
            <p:nvPr/>
          </p:nvPicPr>
          <p:blipFill>
            <a:blip r:embed="rId3"/>
            <a:stretch/>
          </p:blipFill>
          <p:spPr>
            <a:xfrm>
              <a:off x="7655040" y="4213080"/>
              <a:ext cx="2220480" cy="484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2" name=""/>
            <p:cNvSpPr/>
            <p:nvPr/>
          </p:nvSpPr>
          <p:spPr>
            <a:xfrm>
              <a:off x="7772760" y="3860640"/>
              <a:ext cx="1901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000000"/>
                  </a:solidFill>
                  <a:latin typeface="Times New Roman"/>
                </a:rPr>
                <a:t>Фольмер – Вебер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3" name=""/>
          <p:cNvSpPr/>
          <p:nvPr/>
        </p:nvSpPr>
        <p:spPr>
          <a:xfrm>
            <a:off x="39600" y="3141720"/>
            <a:ext cx="5062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* - формальный аналог коэффициента диффузии в пространстве размеров, зависящий от 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331040" y="3716280"/>
            <a:ext cx="2673360" cy="1081080"/>
          </a:xfrm>
          <a:prstGeom prst="rect">
            <a:avLst/>
          </a:prstGeom>
          <a:noFill/>
          <a:ln w="9360">
            <a:solidFill>
              <a:srgbClr val="66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Химия твердого тела Лекция 7 распад твердого раствора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9D5363-5B57-48FE-AB45-F55746833CF4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1028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Образование двухкомпонентного твердого раствор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0" y="692280"/>
            <a:ext cx="3767040" cy="23684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8160" y="3058200"/>
            <a:ext cx="3619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Направление диффузионных потоков при образовании твердого раствора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46600" y="979560"/>
            <a:ext cx="6440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Скорость образования фазы твердого раствора диффузией компонент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4657680" y="2060640"/>
          <a:ext cx="4048200" cy="720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57680" y="2060640"/>
                    <a:ext cx="4048200" cy="720720"/>
                  </a:xfrm>
                  <a:prstGeom prst="rect">
                    <a:avLst/>
                  </a:prstGeom>
                  <a:ln w="9360">
                    <a:solidFill>
                      <a:srgbClr val="6600cc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4657680" y="2852640"/>
          <a:ext cx="4311720" cy="1704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657680" y="2852640"/>
                    <a:ext cx="4311720" cy="170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527040" y="4724280"/>
            <a:ext cx="891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Концентрация меняется по толщине слоя раствор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Химия твердого тела Лекция 7 распад твердого раствора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1F9A15-0770-4F6B-ACCA-BBE4DB11588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10287000" cy="765000"/>
          </a:xfrm>
          <a:prstGeom prst="rect">
            <a:avLst/>
          </a:prstGeom>
          <a:solidFill>
            <a:srgbClr val="bbe0e3">
              <a:alpha val="78000"/>
            </a:srgbClr>
          </a:solidFill>
          <a:ln w="9360">
            <a:solidFill>
              <a:srgbClr val="66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Теория Лифшица-Слезова </a:t>
            </a: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0" y="765000"/>
            <a:ext cx="10085400" cy="33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 ростом числа зародышей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пересыщение уменьшаетс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скорость зарождения падает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процессах выпадения растворенного вещества из пересыщенного раствора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тепенью метастабильности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истемы является величина </a:t>
            </a:r>
            <a:br>
              <a:rPr sz="2800"/>
            </a:b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относительного пересыщения раствор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791320" y="2349360"/>
            <a:ext cx="2674800" cy="107964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0" y="4508640"/>
            <a:ext cx="5143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скорость зарождения зависит от пересыщения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3"/>
          <a:stretch/>
        </p:blipFill>
        <p:spPr>
          <a:xfrm>
            <a:off x="4900680" y="4508640"/>
            <a:ext cx="3645000" cy="103644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0" y="5661000"/>
            <a:ext cx="8059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уменьшение пересыщения сопровождается ростом размера критического зародыш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4"/>
          <a:stretch/>
        </p:blipFill>
        <p:spPr>
          <a:xfrm>
            <a:off x="8223120" y="5661000"/>
            <a:ext cx="1462320" cy="89712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/>
          <p:nvPr/>
        </p:nvSpPr>
        <p:spPr>
          <a:xfrm>
            <a:off x="0" y="4149720"/>
            <a:ext cx="10287000" cy="0"/>
          </a:xfrm>
          <a:prstGeom prst="line">
            <a:avLst/>
          </a:prstGeom>
          <a:ln w="76320">
            <a:solidFill>
              <a:srgbClr val="66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-39600" y="5589720"/>
            <a:ext cx="10287000" cy="0"/>
          </a:xfrm>
          <a:prstGeom prst="line">
            <a:avLst/>
          </a:prstGeom>
          <a:ln w="76320">
            <a:solidFill>
              <a:srgbClr val="66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Химия твердого тела Лекция 7 распад твердого раствора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01C340-4B1D-4BF9-8130-F4D2FB6E54D3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10287000" cy="3068640"/>
          </a:xfrm>
          <a:prstGeom prst="rect">
            <a:avLst/>
          </a:prstGeom>
          <a:solidFill>
            <a:srgbClr val="bbe0e3">
              <a:alpha val="78000"/>
            </a:srgbClr>
          </a:solidFill>
          <a:ln w="9360">
            <a:solidFill>
              <a:srgbClr val="66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Во всех моделях должно присутствовать уравнение скорости химической реакции с учетом диффузии</a:t>
            </a:r>
            <a:br>
              <a:rPr sz="3200"/>
            </a:b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(диффузионная кинетика)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5" name=""/>
              <p:cNvSpPr txBox="1"/>
              <p:nvPr/>
            </p:nvSpPr>
            <p:spPr>
              <a:xfrm>
                <a:off x="2513160" y="3429000"/>
                <a:ext cx="5259240" cy="13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C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kC</m:t>
                        </m:r>
                      </m:e>
                      <m:sub>
                        <m:r>
                          <m:t xml:space="preserve">g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/>
                    </m:sSub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Химия твердого тела Лекция 7 распад твердого раствора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8DFF68-0DAF-40EB-8278-D516528C36FD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10287000" cy="673200"/>
          </a:xfrm>
          <a:prstGeom prst="rect">
            <a:avLst/>
          </a:prstGeom>
          <a:solidFill>
            <a:srgbClr val="bbe0e3">
              <a:alpha val="78000"/>
            </a:srgbClr>
          </a:solidFill>
          <a:ln w="9360">
            <a:solidFill>
              <a:srgbClr val="66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Скорость гомогенного зародышеобразования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9240" y="692280"/>
            <a:ext cx="10287000" cy="547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7000"/>
          </a:bodyPr>
          <a:p>
            <a:pPr marL="435600" indent="-435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скорость гомогенного зарождени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Times New Roman"/>
              </a:rPr>
              <a:t>гом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зависит от переохлаждения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ожет быть описана формулой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35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35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35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35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35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n 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бщее количество атомов в единице объема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35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 – межатомное расстояние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35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предэкспоненциальный множитель в законе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Аррениуса для коэффициента диффузии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35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в жидкой фазе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35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2000" spc="-1" strike="noStrike" baseline="-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энергия активации диффузии, приходящаяся на 1 атом (молекулу)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35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 –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стоянная Больцман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35600" indent="-435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дельная теплота кристаллизаци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ж/мол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?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35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 – плотность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оль/см</a:t>
            </a:r>
            <a:r>
              <a:rPr b="0" lang="ru-RU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356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* = 2</a:t>
            </a:r>
            <a:r>
              <a:rPr b="0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/ </a:t>
            </a:r>
            <a:r>
              <a:rPr b="0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ahoma"/>
              </a:rPr>
              <a:t>Δ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T ,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5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 – равновесная температура фазового переход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8" name=""/>
          <p:cNvGraphicFramePr/>
          <p:nvPr/>
        </p:nvGraphicFramePr>
        <p:xfrm>
          <a:off x="3117960" y="1052640"/>
          <a:ext cx="6480000" cy="1371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6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117960" y="1052640"/>
                    <a:ext cx="64800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0" name=""/>
          <p:cNvGraphicFramePr/>
          <p:nvPr/>
        </p:nvGraphicFramePr>
        <p:xfrm>
          <a:off x="6858000" y="2781360"/>
          <a:ext cx="2854440" cy="1017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7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858000" y="2781360"/>
                    <a:ext cx="2854440" cy="101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2" name=""/>
          <p:cNvSpPr/>
          <p:nvPr/>
        </p:nvSpPr>
        <p:spPr>
          <a:xfrm>
            <a:off x="0" y="6165720"/>
            <a:ext cx="469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Здесь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L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жидкость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ристалл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Химия твердого тела Лекция 7 распад твердого раствора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DED12D-3054-40E5-9F52-D237F495DEFD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64680" y="-360"/>
            <a:ext cx="9688680" cy="336600"/>
          </a:xfrm>
          <a:prstGeom prst="rect">
            <a:avLst/>
          </a:prstGeom>
          <a:solidFill>
            <a:srgbClr val="bbe0e3">
              <a:alpha val="78000"/>
            </a:srgbClr>
          </a:solidFill>
          <a:ln w="9360">
            <a:solidFill>
              <a:srgbClr val="66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Зависимость от переохлаждения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-360" y="4724280"/>
            <a:ext cx="1028700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Для вязких жидкостей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Times New Roman"/>
              </a:rPr>
              <a:t>гом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с ростом переохлаждения, достигнув максимума, падает из-за уменьшения коэффициента диффузи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2"/>
          <a:stretch/>
        </p:blipFill>
        <p:spPr>
          <a:xfrm>
            <a:off x="5143680" y="620640"/>
            <a:ext cx="5143320" cy="290052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0" y="692280"/>
            <a:ext cx="5143680" cy="28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казатель степени экспоненты зависит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 переохлаждени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~0,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наблюдается быстрое возрастание скорости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го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характерно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ля металлических жидкосте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7" name=""/>
          <p:cNvGraphicFramePr/>
          <p:nvPr/>
        </p:nvGraphicFramePr>
        <p:xfrm>
          <a:off x="950760" y="3645000"/>
          <a:ext cx="8385480" cy="1154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50760" y="3645000"/>
                    <a:ext cx="8385480" cy="115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9" name=""/>
          <p:cNvSpPr/>
          <p:nvPr/>
        </p:nvSpPr>
        <p:spPr>
          <a:xfrm>
            <a:off x="851040" y="6140520"/>
            <a:ext cx="8343720" cy="459720"/>
          </a:xfrm>
          <a:prstGeom prst="rect">
            <a:avLst/>
          </a:prstGeom>
          <a:noFill/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облема металлического стекл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Химия твердого тела Лекция 7 распад твердого раствора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CBB345-3097-4246-989C-643F4C5CD7C8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10287000" cy="673200"/>
          </a:xfrm>
          <a:prstGeom prst="rect">
            <a:avLst/>
          </a:prstGeom>
          <a:solidFill>
            <a:srgbClr val="bbe0e3">
              <a:alpha val="78000"/>
            </a:srgbClr>
          </a:solidFill>
          <a:ln w="9360">
            <a:solidFill>
              <a:srgbClr val="66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Скорость гетерогенного зародышеобразования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-360" y="692280"/>
            <a:ext cx="10287000" cy="533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49280" indent="-4492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скорость зарождения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зависит от переохлаждения может быть описана формулой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49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49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49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49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n 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бщее количество атомов в единице объема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49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 – межатомное расстояние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49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предэкспоненциальный множитель в законе Аррениуса для коэффициента диффузии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49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в жидкой фазе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49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2000" spc="-1" strike="noStrike" baseline="-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энергия активации диффузии,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иходящаяся на 1 атом (молекулу)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49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 –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стоянная Больцман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2" name=""/>
          <p:cNvGraphicFramePr/>
          <p:nvPr/>
        </p:nvGraphicFramePr>
        <p:xfrm>
          <a:off x="6615000" y="3789360"/>
          <a:ext cx="2854440" cy="1017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8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615000" y="3789360"/>
                    <a:ext cx="2854440" cy="101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4" name=""/>
          <p:cNvSpPr/>
          <p:nvPr/>
        </p:nvSpPr>
        <p:spPr>
          <a:xfrm>
            <a:off x="5629320" y="4941720"/>
            <a:ext cx="4330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Symbol"/>
                <a:ea typeface="Symbol"/>
              </a:rPr>
              <a:t>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Н</a:t>
            </a:r>
            <a:r>
              <a:rPr b="0" lang="ru-RU" sz="22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пл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 – удельная теплота кристаллизации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5" name=""/>
          <p:cNvGraphicFramePr/>
          <p:nvPr/>
        </p:nvGraphicFramePr>
        <p:xfrm>
          <a:off x="687240" y="1413000"/>
          <a:ext cx="7493040" cy="1204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8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87240" y="1413000"/>
                    <a:ext cx="7493040" cy="12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7" name=""/>
          <p:cNvGraphicFramePr/>
          <p:nvPr/>
        </p:nvGraphicFramePr>
        <p:xfrm>
          <a:off x="6108840" y="1052640"/>
          <a:ext cx="3744720" cy="5252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8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108840" y="1052640"/>
                    <a:ext cx="3744720" cy="52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Химия твердого тела Лекция 7 распад твердого раствора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61F562-CE80-4EC3-A23A-A175CD430A1B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10287000" cy="441360"/>
          </a:xfrm>
          <a:prstGeom prst="rect">
            <a:avLst/>
          </a:prstGeom>
          <a:solidFill>
            <a:srgbClr val="bbe0e3">
              <a:alpha val="78000"/>
            </a:srgbClr>
          </a:solidFill>
          <a:ln w="9360">
            <a:solidFill>
              <a:srgbClr val="66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зародышеобразование</a:t>
            </a:r>
            <a:endParaRPr b="1" i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0" name=""/>
          <p:cNvGraphicFramePr/>
          <p:nvPr/>
        </p:nvGraphicFramePr>
        <p:xfrm>
          <a:off x="851040" y="1343160"/>
          <a:ext cx="7853400" cy="1299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9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51040" y="1343160"/>
                    <a:ext cx="7853400" cy="129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2" name=""/>
          <p:cNvSpPr/>
          <p:nvPr/>
        </p:nvSpPr>
        <p:spPr>
          <a:xfrm>
            <a:off x="201600" y="765000"/>
            <a:ext cx="1008540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рость зародышеобразован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762120" y="2637000"/>
          <a:ext cx="9163080" cy="1206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9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62120" y="2637000"/>
                    <a:ext cx="9163080" cy="120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5" name=""/>
          <p:cNvSpPr/>
          <p:nvPr/>
        </p:nvSpPr>
        <p:spPr>
          <a:xfrm>
            <a:off x="42840" y="4148280"/>
            <a:ext cx="996156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825804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Где в этих уравнениях </a:t>
            </a:r>
            <a:br>
              <a:rPr sz="3200"/>
            </a:br>
            <a:r>
              <a:rPr b="1" i="1" lang="en-US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спрятано уравнение</a:t>
            </a:r>
            <a:r>
              <a:rPr b="1" i="1" lang="en-US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	</a:t>
            </a:r>
            <a:r>
              <a:rPr b="1" i="1" lang="en-US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6"/>
          <a:stretch/>
        </p:blipFill>
        <p:spPr>
          <a:xfrm>
            <a:off x="5143680" y="4292640"/>
            <a:ext cx="3814560" cy="111132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Химия твердого тела Лекция 7 распад твердого раствора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DC080A-F040-439B-ABA8-622ADF2474CB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" descr=""/>
          <p:cNvPicPr/>
          <p:nvPr/>
        </p:nvPicPr>
        <p:blipFill>
          <a:blip r:embed="rId2"/>
          <a:stretch/>
        </p:blipFill>
        <p:spPr>
          <a:xfrm>
            <a:off x="122400" y="692280"/>
            <a:ext cx="7202160" cy="561168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4900680" y="3573360"/>
            <a:ext cx="5103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очки – экспериментальные данные по предельному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ерегреву жидкости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 — критическая точк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0" y="0"/>
            <a:ext cx="1028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.П. Скрипов, М.З. Файзуллин Фазовые переходы кристалл-жидкость-пар и термодинамическое подобие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.: ФИЗМАТЛИТ, 2003. - 160 с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155960" y="4508640"/>
            <a:ext cx="217260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Бинодаль (/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809520" y="2997360"/>
            <a:ext cx="571428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линия достижимых перегревов 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572840" y="1125360"/>
            <a:ext cx="237852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пинодаль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618280" y="5176800"/>
            <a:ext cx="124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гекса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631960" y="1628640"/>
            <a:ext cx="81000" cy="432000"/>
          </a:xfrm>
          <a:prstGeom prst="line">
            <a:avLst/>
          </a:prstGeom>
          <a:ln w="57240">
            <a:solidFill>
              <a:srgbClr val="ff33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flipH="1" flipV="1">
            <a:off x="2712600" y="2276280"/>
            <a:ext cx="3807000" cy="865080"/>
          </a:xfrm>
          <a:prstGeom prst="line">
            <a:avLst/>
          </a:prstGeom>
          <a:ln w="57240">
            <a:solidFill>
              <a:srgbClr val="ff33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Химия твердого тела Лекция 7 распад твердого раствора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2940F9-1EBB-420E-A455-FB9D993C63E9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10287000" cy="620640"/>
          </a:xfrm>
          <a:prstGeom prst="rect">
            <a:avLst/>
          </a:prstGeom>
          <a:solidFill>
            <a:srgbClr val="bbe0e3">
              <a:alpha val="78000"/>
            </a:srgbClr>
          </a:solidFill>
          <a:ln w="9360">
            <a:solidFill>
              <a:srgbClr val="66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Взаимосвязь перегрева с радиусом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там же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2"/>
          <a:stretch/>
        </p:blipFill>
        <p:spPr>
          <a:xfrm>
            <a:off x="0" y="2205000"/>
            <a:ext cx="5567400" cy="429732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201600" y="692280"/>
            <a:ext cx="9802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емейство линий неустойчивого равновесия, соответствующих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иксированным значениям радиуса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ферического пузырька пара в перегретом гексане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629320" y="2249640"/>
            <a:ext cx="4657680" cy="2531160"/>
          </a:xfrm>
          <a:prstGeom prst="rect">
            <a:avLst/>
          </a:prstGeom>
          <a:noFill/>
          <a:ln w="1908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Для получения мелкодисперсных фаз надо иметь большое пересыщение (?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872320" y="5157720"/>
            <a:ext cx="4213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6600cc"/>
                </a:solidFill>
                <a:latin typeface="Arial"/>
              </a:rPr>
              <a:t>В твердом теле условие неразрывности среды изменит эту закономерность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389320" y="4957920"/>
            <a:ext cx="2025360" cy="549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пинодаль жидкого гексан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38720" y="5013360"/>
            <a:ext cx="779400" cy="274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г = 3 н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58800" y="4221000"/>
            <a:ext cx="779400" cy="274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г = 5 н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62040" y="3629160"/>
            <a:ext cx="893880" cy="274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г = 10 н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66000" y="3268800"/>
            <a:ext cx="893880" cy="274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г = 50 н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884600" y="2637000"/>
            <a:ext cx="910440" cy="274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бинодал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Химия твердого тела Лекция 7 распад твердого раствора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AA7447-7CB6-47F8-A5E8-8A3069F58EF2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166400" cy="1341360"/>
          </a:xfrm>
          <a:prstGeom prst="rect">
            <a:avLst/>
          </a:prstGeom>
          <a:solidFill>
            <a:srgbClr val="bbe0e3">
              <a:alpha val="78000"/>
            </a:srgbClr>
          </a:solidFill>
          <a:ln w="9360">
            <a:solidFill>
              <a:srgbClr val="66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Основные стадии реакций в твёрдой фазе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39240" y="1483920"/>
            <a:ext cx="10287000" cy="496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04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) поверхностная диффуз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) Химическая реакция 2) Диффузия в приповерхностные слои (в местах контакта компонентов)??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) Возникновение дефектов, разрыхление кристаллических решеток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) Образование и распад твердых растворов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6600cc"/>
                </a:solidFill>
                <a:latin typeface="Times New Roman"/>
              </a:rPr>
              <a:t>6) Спекание и рекристаллизация исходных веществ и продукта</a:t>
            </a:r>
            <a:r>
              <a:rPr b="0" lang="en-US" sz="2400" spc="-1" strike="noStrike">
                <a:solidFill>
                  <a:srgbClr val="6600cc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) Отжиг дефектов в кристаллической решетке продукта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) Возгонк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) Диссоциаци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) Возникновение и рост зародышей фазы продукт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) Собственно химическое взаимодействи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Химия твердого тела Лекция 7 распад твердого раствора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FE0E29-AFAD-4649-BF04-64309D07599C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10287000" cy="765000"/>
          </a:xfrm>
          <a:prstGeom prst="rect">
            <a:avLst/>
          </a:prstGeom>
          <a:solidFill>
            <a:srgbClr val="bbe0e3">
              <a:alpha val="78000"/>
            </a:srgbClr>
          </a:solidFill>
          <a:ln w="9360">
            <a:solidFill>
              <a:srgbClr val="66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Если фазовая диаграмма такая</a:t>
            </a: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0" y="711360"/>
            <a:ext cx="10287000" cy="6102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Химия твердого тела Лекция 7 распад твердого раствора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41326A-C8EB-40E0-A55F-80E44DCC092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10287000" cy="765000"/>
          </a:xfrm>
          <a:prstGeom prst="rect">
            <a:avLst/>
          </a:prstGeom>
          <a:solidFill>
            <a:srgbClr val="bbe0e3">
              <a:alpha val="78000"/>
            </a:srgbClr>
          </a:solidFill>
          <a:ln w="9360">
            <a:solidFill>
              <a:srgbClr val="66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А, если фазовая диаграмма такая</a:t>
            </a: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0" y="836640"/>
            <a:ext cx="10287000" cy="5505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Химия твердого тела Лекция 7 распад твердого раствора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8F05DC-F525-49E6-90C4-7F8A9A9E4E5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10287000" cy="765000"/>
          </a:xfrm>
          <a:prstGeom prst="rect">
            <a:avLst/>
          </a:prstGeom>
          <a:solidFill>
            <a:srgbClr val="bbe0e3">
              <a:alpha val="78000"/>
            </a:srgbClr>
          </a:solidFill>
          <a:ln w="9360">
            <a:solidFill>
              <a:srgbClr val="66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или такая</a:t>
            </a: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0" y="765000"/>
            <a:ext cx="10287000" cy="5537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Химия твердого тела Лекция 7 распад твердого раствора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FE5016-3476-4A87-A248-226DCAD7AB1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10287000" cy="765000"/>
          </a:xfrm>
          <a:prstGeom prst="rect">
            <a:avLst/>
          </a:prstGeom>
          <a:solidFill>
            <a:srgbClr val="bbe0e3">
              <a:alpha val="78000"/>
            </a:srgbClr>
          </a:solidFill>
          <a:ln w="9360">
            <a:solidFill>
              <a:srgbClr val="66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Фазовые диаграммы</a:t>
            </a: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0" y="765000"/>
            <a:ext cx="2898720" cy="45356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359160" y="765000"/>
            <a:ext cx="3324240" cy="45356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6858000" y="765000"/>
            <a:ext cx="3429000" cy="453564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608040" y="5445000"/>
            <a:ext cx="8908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И ещё много других много-многотомных изда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Химия твердого тела Лекция 7 распад твердого раствора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740AE5-16BD-47F4-83B0-AF1C722D79A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10287000" cy="581040"/>
          </a:xfrm>
          <a:prstGeom prst="rect">
            <a:avLst/>
          </a:prstGeom>
          <a:solidFill>
            <a:srgbClr val="bbe0e3">
              <a:alpha val="78000"/>
            </a:srgbClr>
          </a:solidFill>
          <a:ln w="9360">
            <a:solidFill>
              <a:srgbClr val="66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Распад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твердого раствора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691920"/>
            <a:ext cx="10206000" cy="187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зменение однородности или состава пересыщенного твердого раствора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сплав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сопровождающегося образованием новых фаз или зон; обеспечивает переход материала в более равновесное состоя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3789360"/>
            <a:ext cx="10287000" cy="22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спинодальный распад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spinodal decomposition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] —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сслоение по составу переохлажденного твердого раствора (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сплав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), не требующее образования зародышей критического размера. Распад сразу охватывает весь объем исходной фазы с образованием высокодисперсной структур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1600" y="3124080"/>
            <a:ext cx="9883800" cy="368280"/>
          </a:xfrm>
          <a:prstGeom prst="rect">
            <a:avLst/>
          </a:prstGeom>
          <a:solidFill>
            <a:srgbClr val="bbe0e3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Ещё распад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: двухфазный + зонный + прерывистый + фазовы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Химия твердого тела Лекция 7 распад твердого раствора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9A9037-8A03-4E6F-9052-E84788A5A6F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0" y="2565360"/>
            <a:ext cx="4454640" cy="403236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10287000" cy="765000"/>
          </a:xfrm>
          <a:prstGeom prst="rect">
            <a:avLst/>
          </a:prstGeom>
          <a:solidFill>
            <a:srgbClr val="bbe0e3">
              <a:alpha val="78000"/>
            </a:srgbClr>
          </a:solidFill>
          <a:ln w="9360">
            <a:solidFill>
              <a:srgbClr val="66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Бинодаль и спинодаль</a:t>
            </a: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-41400" y="692280"/>
            <a:ext cx="1028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ривые относительной (бинодаль) и абсолютной (спинодаль) неустойчивости раствор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711760" y="4508640"/>
            <a:ext cx="4292640" cy="8254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область абсолютной неустойчивости раствор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-41400" y="1484280"/>
            <a:ext cx="8344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Бинодаль ограничивает область устойчивых состояний вещества относительно конечных флуктуаций – линия, на которой химический потенциал компонента одинаков в обеих фазах (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697280" y="2708280"/>
            <a:ext cx="558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пинодаль ограничивает область устойчивых состояний – относительно бесконечно малых флуктуаци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7993080" y="1484280"/>
          <a:ext cx="1522440" cy="990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993080" y="1484280"/>
                    <a:ext cx="1522440" cy="990720"/>
                  </a:xfrm>
                  <a:prstGeom prst="rect">
                    <a:avLst/>
                  </a:prstGeom>
                  <a:ln w="9360">
                    <a:solidFill>
                      <a:srgbClr val="ff33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6" name=""/>
          <p:cNvSpPr/>
          <p:nvPr/>
        </p:nvSpPr>
        <p:spPr>
          <a:xfrm>
            <a:off x="2795760" y="5373720"/>
            <a:ext cx="7208640" cy="8254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Область метастабильных состояний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перегретая жидкость, переохлажденный пар и т.п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98600" y="3644640"/>
            <a:ext cx="2835000" cy="1152360"/>
          </a:xfrm>
          <a:prstGeom prst="line">
            <a:avLst/>
          </a:prstGeom>
          <a:ln w="57240">
            <a:solidFill>
              <a:srgbClr val="ff33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1255320" y="4005000"/>
            <a:ext cx="2104920" cy="1655640"/>
          </a:xfrm>
          <a:prstGeom prst="line">
            <a:avLst/>
          </a:prstGeom>
          <a:ln w="57240">
            <a:solidFill>
              <a:srgbClr val="ff33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2500200"/>
            <a:ext cx="425304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</a:rPr>
              <a:t>Демонстрация расчета бинодали и спинодали в МАТКАД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281400" y="4724280"/>
            <a:ext cx="890640" cy="936720"/>
          </a:xfrm>
          <a:prstGeom prst="line">
            <a:avLst/>
          </a:prstGeom>
          <a:ln w="57240">
            <a:solidFill>
              <a:srgbClr val="ff33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7088040" y="3422520"/>
          <a:ext cx="2025720" cy="97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088040" y="3422520"/>
                    <a:ext cx="2025720" cy="971640"/>
                  </a:xfrm>
                  <a:prstGeom prst="rect">
                    <a:avLst/>
                  </a:prstGeom>
                  <a:ln w="9360">
                    <a:solidFill>
                      <a:srgbClr val="ff33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Химия твердого тела Лекция 7 распад твердого раствора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FA3E00-5325-4E50-AF54-D15580D55C4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9T07:05:51Z</dcterms:created>
  <dc:creator>Виктор</dc:creator>
  <dc:description/>
  <dc:language>en-US</dc:language>
  <cp:lastModifiedBy>Fedoseev</cp:lastModifiedBy>
  <dcterms:modified xsi:type="dcterms:W3CDTF">2010-12-11T09:24:47Z</dcterms:modified>
  <cp:revision>62</cp:revision>
  <dc:subject/>
  <dc:title>Кинетика твердофазных реакций </dc:title>
</cp:coreProperties>
</file>