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11.jpeg" ContentType="image/jpeg"/>
  <Override PartName="/ppt/media/image7.wmf" ContentType="image/x-wmf"/>
  <Override PartName="/ppt/media/image6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png" ContentType="image/png"/>
  <Override PartName="/ppt/media/image24.wmf" ContentType="image/x-wmf"/>
  <Override PartName="/ppt/media/image23.jpeg" ContentType="image/jpeg"/>
  <Override PartName="/ppt/media/image20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6.wmf" ContentType="image/x-wmf"/>
  <Override PartName="/ppt/media/image22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4A513-2678-44C9-A952-B4D057B41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51096-3172-45DE-9B8B-5FC02BE7E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38CAE-24EC-4E37-948B-BDC8E5B633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500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56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500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556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88C19-89C6-4B87-AB21-DE2B266047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51502-A8AE-4EA6-8743-487BF0044C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E6F14-454B-46F4-8C25-7691972BA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5A2C1-9DC8-4904-A0A7-5E349A5FA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E5E5E-BDF2-4DE3-8B98-0B5FF709F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02870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41D75-2386-424B-87F8-1EB888DFA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B1065-B3A5-42EF-B760-6266FD63B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97488-47D7-4998-B349-C2CEDCF7C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4607-772A-40D0-8A76-919690384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0" y="6545160"/>
            <a:ext cx="91137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113400" y="6381360"/>
            <a:ext cx="1173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C025-541B-407B-91EA-29D502BFE61B}" type="slidenum"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fedoseev@phys.unn.ru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9680" y="189000"/>
            <a:ext cx="8745480" cy="295272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инетика твердофазных реакций.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озврат и рекристаллизаци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-360" y="3501720"/>
            <a:ext cx="102870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кц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имический факультет ННГ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 курс, 9 семест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едосеев Виктор Борисови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ессор кафедры физического материаловедения физического факультета ННГ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fedoseev@phys.unn.r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4428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тадии возврат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30240" y="1844640"/>
            <a:ext cx="8507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55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озврат 1-го род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"отдых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т наблюдаемых изменений в микроструктуре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кле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нижается 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на 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1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03320" y="549360"/>
            <a:ext cx="1838880" cy="85680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0,2 Т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П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349360"/>
            <a:ext cx="1028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озврат 2-го ро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"полигонизация"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й в микроструктуре не обнаруживаетс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клеп снижается на 20...30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97520" y="2060640"/>
            <a:ext cx="2725920" cy="85680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-0.3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Т</a:t>
            </a:r>
            <a:r>
              <a:rPr b="1" i="1" lang="ru-RU" sz="4400" spc="-1" strike="noStrike" baseline="-25000">
                <a:solidFill>
                  <a:srgbClr val="000000"/>
                </a:solidFill>
                <a:latin typeface="Times New Roman"/>
              </a:rPr>
              <a:t>П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1600" y="4797360"/>
            <a:ext cx="631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акле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гартов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= упрочнение металлов и сплавов при холодной пластической де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248600" y="3429000"/>
            <a:ext cx="2733480" cy="2476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819680" y="5942160"/>
            <a:ext cx="5467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лияние холодной пластической деформации на механические свойства метал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DFB2-A2EE-4B9F-8FC0-799CED640F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5349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Times New Roman"/>
              </a:rPr>
              <a:t>Полигонизация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040" y="620640"/>
            <a:ext cx="9639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дия возврата, при которой в пределах каждого кристалла образуются новые малоугловые границы.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льжением и переползанием дислокаций разделяет кристалл на "субзерна-полигоны", свободные от дислокац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8680" y="2492280"/>
            <a:ext cx="4761000" cy="3224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981680" y="2565360"/>
            <a:ext cx="5305320" cy="301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Что так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- дислокации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вектор Бюргерса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переползание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скольжение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малоугловые границ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7240" y="5805360"/>
            <a:ext cx="9155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Что заставляет дислокации перестраивать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15EAA-390A-4A62-B873-7EDF20CB0F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заимодействи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кция 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258480" cy="35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162720" rIns="162720" tIns="81360" bIns="813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тягивают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 противоположным вектором сдвига, лежащие в одной плоскости скольжения, при сближении уничтожают друг друга (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ннигиля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жат в разных плоскостях скольжения, для аннигиляции требуется переполз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талкивают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 одинаковы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4526640"/>
            <a:ext cx="6033240" cy="1368360"/>
            <a:chOff x="0" y="4526640"/>
            <a:chExt cx="6033240" cy="1368360"/>
          </a:xfrm>
        </p:grpSpPr>
        <p:grpSp>
          <p:nvGrpSpPr>
            <p:cNvPr id="113" name=""/>
            <p:cNvGrpSpPr/>
            <p:nvPr/>
          </p:nvGrpSpPr>
          <p:grpSpPr>
            <a:xfrm>
              <a:off x="110520" y="4630680"/>
              <a:ext cx="1787760" cy="1264320"/>
              <a:chOff x="110520" y="4630680"/>
              <a:chExt cx="1787760" cy="1264320"/>
            </a:xfrm>
          </p:grpSpPr>
          <p:sp>
            <p:nvSpPr>
              <p:cNvPr id="114" name=""/>
              <p:cNvSpPr/>
              <p:nvPr/>
            </p:nvSpPr>
            <p:spPr>
              <a:xfrm>
                <a:off x="110520" y="4630680"/>
                <a:ext cx="1787760" cy="632160"/>
              </a:xfrm>
              <a:prstGeom prst="ellipse">
                <a:avLst/>
              </a:prstGeom>
              <a:gradFill rotWithShape="0">
                <a:gsLst>
                  <a:gs pos="0">
                    <a:srgbClr val="ff3300">
                      <a:alpha val="62352"/>
                    </a:srgbClr>
                  </a:gs>
                  <a:gs pos="100000">
                    <a:srgbClr val="fece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0520" y="5155560"/>
                <a:ext cx="1787760" cy="739440"/>
              </a:xfrm>
              <a:prstGeom prst="ellipse">
                <a:avLst/>
              </a:prstGeom>
              <a:gradFill rotWithShape="0">
                <a:gsLst>
                  <a:gs pos="0">
                    <a:srgbClr val="6600cc">
                      <a:alpha val="59215"/>
                    </a:srgbClr>
                  </a:gs>
                  <a:gs pos="100000">
                    <a:srgbClr val="e9dbf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780120" y="4969440"/>
                <a:ext cx="445320" cy="211320"/>
                <a:chOff x="780120" y="4969440"/>
                <a:chExt cx="445320" cy="21132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003680" y="4969440"/>
                  <a:ext cx="0" cy="211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80120" y="5180760"/>
                  <a:ext cx="445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" name=""/>
            <p:cNvGrpSpPr/>
            <p:nvPr/>
          </p:nvGrpSpPr>
          <p:grpSpPr>
            <a:xfrm>
              <a:off x="2122560" y="4630680"/>
              <a:ext cx="1787760" cy="1264320"/>
              <a:chOff x="2122560" y="4630680"/>
              <a:chExt cx="1787760" cy="1264320"/>
            </a:xfrm>
          </p:grpSpPr>
          <p:sp>
            <p:nvSpPr>
              <p:cNvPr id="120" name=""/>
              <p:cNvSpPr/>
              <p:nvPr/>
            </p:nvSpPr>
            <p:spPr>
              <a:xfrm>
                <a:off x="2122560" y="4630680"/>
                <a:ext cx="1787760" cy="632160"/>
              </a:xfrm>
              <a:prstGeom prst="ellipse">
                <a:avLst/>
              </a:prstGeom>
              <a:gradFill rotWithShape="0">
                <a:gsLst>
                  <a:gs pos="0">
                    <a:srgbClr val="ff3300">
                      <a:alpha val="62352"/>
                    </a:srgbClr>
                  </a:gs>
                  <a:gs pos="100000">
                    <a:srgbClr val="fece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22560" y="5155560"/>
                <a:ext cx="1787760" cy="739440"/>
              </a:xfrm>
              <a:prstGeom prst="ellipse">
                <a:avLst/>
              </a:prstGeom>
              <a:gradFill rotWithShape="0">
                <a:gsLst>
                  <a:gs pos="0">
                    <a:srgbClr val="6600cc">
                      <a:alpha val="59215"/>
                    </a:srgbClr>
                  </a:gs>
                  <a:gs pos="100000">
                    <a:srgbClr val="e9dbf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2792160" y="4969440"/>
                <a:ext cx="445320" cy="211320"/>
                <a:chOff x="2792160" y="4969440"/>
                <a:chExt cx="445320" cy="2113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3015720" y="4969440"/>
                  <a:ext cx="0" cy="211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792160" y="5180760"/>
                  <a:ext cx="445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 flipH="1">
              <a:off x="0" y="5239800"/>
              <a:ext cx="5587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245480" y="4526640"/>
              <a:ext cx="1787760" cy="1264320"/>
              <a:chOff x="4245480" y="4526640"/>
              <a:chExt cx="1787760" cy="1264320"/>
            </a:xfrm>
          </p:grpSpPr>
          <p:sp>
            <p:nvSpPr>
              <p:cNvPr id="127" name=""/>
              <p:cNvSpPr/>
              <p:nvPr/>
            </p:nvSpPr>
            <p:spPr>
              <a:xfrm flipV="1">
                <a:off x="4245480" y="5158800"/>
                <a:ext cx="1787760" cy="632160"/>
              </a:xfrm>
              <a:prstGeom prst="ellipse">
                <a:avLst/>
              </a:prstGeom>
              <a:gradFill rotWithShape="0">
                <a:gsLst>
                  <a:gs pos="0">
                    <a:srgbClr val="ff3300">
                      <a:alpha val="62352"/>
                    </a:srgbClr>
                  </a:gs>
                  <a:gs pos="100000">
                    <a:srgbClr val="fece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4245480" y="4526640"/>
                <a:ext cx="1787760" cy="739440"/>
              </a:xfrm>
              <a:prstGeom prst="ellipse">
                <a:avLst/>
              </a:prstGeom>
              <a:gradFill rotWithShape="0">
                <a:gsLst>
                  <a:gs pos="0">
                    <a:srgbClr val="6600cc">
                      <a:alpha val="59215"/>
                    </a:srgbClr>
                  </a:gs>
                  <a:gs pos="100000">
                    <a:srgbClr val="e9dbf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4915080" y="5240880"/>
                <a:ext cx="445320" cy="211320"/>
                <a:chOff x="4915080" y="5240880"/>
                <a:chExt cx="445320" cy="211320"/>
              </a:xfrm>
            </p:grpSpPr>
            <p:sp>
              <p:nvSpPr>
                <p:cNvPr id="130" name=""/>
                <p:cNvSpPr/>
                <p:nvPr/>
              </p:nvSpPr>
              <p:spPr>
                <a:xfrm flipV="1">
                  <a:off x="5138640" y="5240880"/>
                  <a:ext cx="0" cy="211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915080" y="5240880"/>
                  <a:ext cx="445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2" name=""/>
            <p:cNvSpPr/>
            <p:nvPr/>
          </p:nvSpPr>
          <p:spPr>
            <a:xfrm flipH="1">
              <a:off x="4245480" y="5262840"/>
              <a:ext cx="5587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238560" y="5158440"/>
              <a:ext cx="5587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7199280" y="4391280"/>
            <a:ext cx="1509480" cy="1233000"/>
            <a:chOff x="7199280" y="4391280"/>
            <a:chExt cx="1509480" cy="1233000"/>
          </a:xfrm>
        </p:grpSpPr>
        <p:sp>
          <p:nvSpPr>
            <p:cNvPr id="135" name=""/>
            <p:cNvSpPr/>
            <p:nvPr/>
          </p:nvSpPr>
          <p:spPr>
            <a:xfrm flipV="1">
              <a:off x="7199280" y="5007960"/>
              <a:ext cx="1509480" cy="616320"/>
            </a:xfrm>
            <a:prstGeom prst="ellipse">
              <a:avLst/>
            </a:prstGeom>
            <a:gradFill rotWithShape="0">
              <a:gsLst>
                <a:gs pos="0">
                  <a:srgbClr val="ff3300">
                    <a:alpha val="62352"/>
                  </a:srgbClr>
                </a:gs>
                <a:gs pos="100000">
                  <a:srgbClr val="fece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7199280" y="4390920"/>
              <a:ext cx="1509480" cy="721080"/>
            </a:xfrm>
            <a:prstGeom prst="ellipse">
              <a:avLst/>
            </a:prstGeom>
            <a:gradFill rotWithShape="0">
              <a:gsLst>
                <a:gs pos="0">
                  <a:srgbClr val="6600cc">
                    <a:alpha val="59215"/>
                  </a:srgbClr>
                </a:gs>
                <a:gs pos="100000">
                  <a:srgbClr val="e9dbf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7764480" y="5087520"/>
              <a:ext cx="375840" cy="206280"/>
              <a:chOff x="7764480" y="5087520"/>
              <a:chExt cx="375840" cy="2062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7953120" y="5087520"/>
                <a:ext cx="0" cy="20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764480" y="5087520"/>
                <a:ext cx="37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8777160" y="5213880"/>
            <a:ext cx="1509480" cy="1233000"/>
            <a:chOff x="8777160" y="5213880"/>
            <a:chExt cx="1509480" cy="1233000"/>
          </a:xfrm>
        </p:grpSpPr>
        <p:sp>
          <p:nvSpPr>
            <p:cNvPr id="141" name=""/>
            <p:cNvSpPr/>
            <p:nvPr/>
          </p:nvSpPr>
          <p:spPr>
            <a:xfrm flipV="1">
              <a:off x="8777160" y="5830560"/>
              <a:ext cx="1509480" cy="616320"/>
            </a:xfrm>
            <a:prstGeom prst="ellipse">
              <a:avLst/>
            </a:prstGeom>
            <a:gradFill rotWithShape="0">
              <a:gsLst>
                <a:gs pos="0">
                  <a:srgbClr val="ff3300">
                    <a:alpha val="62352"/>
                  </a:srgbClr>
                </a:gs>
                <a:gs pos="100000">
                  <a:srgbClr val="fece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8777160" y="5213520"/>
              <a:ext cx="1509480" cy="721080"/>
            </a:xfrm>
            <a:prstGeom prst="ellipse">
              <a:avLst/>
            </a:prstGeom>
            <a:gradFill rotWithShape="0">
              <a:gsLst>
                <a:gs pos="0">
                  <a:srgbClr val="6600cc">
                    <a:alpha val="59215"/>
                  </a:srgbClr>
                </a:gs>
                <a:gs pos="100000">
                  <a:srgbClr val="e9dbf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9342360" y="5910120"/>
              <a:ext cx="375840" cy="206280"/>
              <a:chOff x="9342360" y="5910120"/>
              <a:chExt cx="375840" cy="206280"/>
            </a:xfrm>
          </p:grpSpPr>
          <p:sp>
            <p:nvSpPr>
              <p:cNvPr id="144" name=""/>
              <p:cNvSpPr/>
              <p:nvPr/>
            </p:nvSpPr>
            <p:spPr>
              <a:xfrm flipV="1">
                <a:off x="9531000" y="5910120"/>
                <a:ext cx="0" cy="20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342360" y="5910120"/>
                <a:ext cx="37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"/>
          <p:cNvSpPr/>
          <p:nvPr/>
        </p:nvSpPr>
        <p:spPr>
          <a:xfrm flipH="1">
            <a:off x="8437320" y="5896080"/>
            <a:ext cx="546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8297640" y="5073480"/>
            <a:ext cx="54612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88160" y="3840120"/>
            <a:ext cx="3979800" cy="3429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437320" y="5896080"/>
            <a:ext cx="546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8297640" y="5073480"/>
            <a:ext cx="54612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983800" y="3976560"/>
            <a:ext cx="82548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204840" y="3976560"/>
            <a:ext cx="6858000" cy="24670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8437320" y="5896080"/>
            <a:ext cx="546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8297640" y="5073480"/>
            <a:ext cx="54612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DA418-5F20-476C-810C-C13D0CE908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32200" y="2055960"/>
            <a:ext cx="3737160" cy="30844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заимодействи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кция 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258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162720" rIns="162720" tIns="81360" bIns="813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тягивают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 одинаковы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лежащие в в разных плоскостях сколь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168560" y="2196000"/>
            <a:ext cx="1505880" cy="1233000"/>
            <a:chOff x="1168560" y="2196000"/>
            <a:chExt cx="1505880" cy="1233000"/>
          </a:xfrm>
        </p:grpSpPr>
        <p:sp>
          <p:nvSpPr>
            <p:cNvPr id="159" name=""/>
            <p:cNvSpPr/>
            <p:nvPr/>
          </p:nvSpPr>
          <p:spPr>
            <a:xfrm flipV="1">
              <a:off x="1168560" y="2812680"/>
              <a:ext cx="1505880" cy="616320"/>
            </a:xfrm>
            <a:prstGeom prst="ellipse">
              <a:avLst/>
            </a:prstGeom>
            <a:gradFill rotWithShape="0">
              <a:gsLst>
                <a:gs pos="0">
                  <a:srgbClr val="ff3300">
                    <a:alpha val="62352"/>
                  </a:srgbClr>
                </a:gs>
                <a:gs pos="100000">
                  <a:srgbClr val="fece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168560" y="2195640"/>
              <a:ext cx="1505880" cy="721080"/>
            </a:xfrm>
            <a:prstGeom prst="ellipse">
              <a:avLst/>
            </a:prstGeom>
            <a:gradFill rotWithShape="0">
              <a:gsLst>
                <a:gs pos="0">
                  <a:srgbClr val="6600cc">
                    <a:alpha val="59215"/>
                  </a:srgbClr>
                </a:gs>
                <a:gs pos="100000">
                  <a:srgbClr val="e9dbf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1732680" y="2892240"/>
              <a:ext cx="374760" cy="206280"/>
              <a:chOff x="1732680" y="2892240"/>
              <a:chExt cx="374760" cy="206280"/>
            </a:xfrm>
          </p:grpSpPr>
          <p:sp>
            <p:nvSpPr>
              <p:cNvPr id="162" name=""/>
              <p:cNvSpPr/>
              <p:nvPr/>
            </p:nvSpPr>
            <p:spPr>
              <a:xfrm flipV="1">
                <a:off x="1920960" y="2892240"/>
                <a:ext cx="0" cy="20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732680" y="2892240"/>
                <a:ext cx="37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1440000" y="3292920"/>
            <a:ext cx="1507680" cy="1233000"/>
            <a:chOff x="1440000" y="3292920"/>
            <a:chExt cx="1507680" cy="1233000"/>
          </a:xfrm>
        </p:grpSpPr>
        <p:sp>
          <p:nvSpPr>
            <p:cNvPr id="165" name=""/>
            <p:cNvSpPr/>
            <p:nvPr/>
          </p:nvSpPr>
          <p:spPr>
            <a:xfrm flipV="1">
              <a:off x="1440000" y="3909600"/>
              <a:ext cx="1507680" cy="616320"/>
            </a:xfrm>
            <a:prstGeom prst="ellipse">
              <a:avLst/>
            </a:prstGeom>
            <a:gradFill rotWithShape="0">
              <a:gsLst>
                <a:gs pos="0">
                  <a:srgbClr val="ff3300">
                    <a:alpha val="62352"/>
                  </a:srgbClr>
                </a:gs>
                <a:gs pos="100000">
                  <a:srgbClr val="fece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440000" y="3292560"/>
              <a:ext cx="1507680" cy="721080"/>
            </a:xfrm>
            <a:prstGeom prst="ellipse">
              <a:avLst/>
            </a:prstGeom>
            <a:gradFill rotWithShape="0">
              <a:gsLst>
                <a:gs pos="0">
                  <a:srgbClr val="6600cc">
                    <a:alpha val="59215"/>
                  </a:srgbClr>
                </a:gs>
                <a:gs pos="100000">
                  <a:srgbClr val="e9dbf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004480" y="3989160"/>
              <a:ext cx="375480" cy="206280"/>
              <a:chOff x="2004480" y="3989160"/>
              <a:chExt cx="375480" cy="206280"/>
            </a:xfrm>
          </p:grpSpPr>
          <p:sp>
            <p:nvSpPr>
              <p:cNvPr id="168" name=""/>
              <p:cNvSpPr/>
              <p:nvPr/>
            </p:nvSpPr>
            <p:spPr>
              <a:xfrm flipV="1">
                <a:off x="2193120" y="3989160"/>
                <a:ext cx="0" cy="20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004480" y="3989160"/>
                <a:ext cx="37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1579680" y="4251600"/>
            <a:ext cx="1507680" cy="1233000"/>
            <a:chOff x="1579680" y="4251600"/>
            <a:chExt cx="1507680" cy="1233000"/>
          </a:xfrm>
        </p:grpSpPr>
        <p:sp>
          <p:nvSpPr>
            <p:cNvPr id="171" name=""/>
            <p:cNvSpPr/>
            <p:nvPr/>
          </p:nvSpPr>
          <p:spPr>
            <a:xfrm flipV="1">
              <a:off x="1579680" y="4868280"/>
              <a:ext cx="1507680" cy="616320"/>
            </a:xfrm>
            <a:prstGeom prst="ellipse">
              <a:avLst/>
            </a:prstGeom>
            <a:gradFill rotWithShape="0">
              <a:gsLst>
                <a:gs pos="0">
                  <a:srgbClr val="ff3300">
                    <a:alpha val="62352"/>
                  </a:srgbClr>
                </a:gs>
                <a:gs pos="100000">
                  <a:srgbClr val="fece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579680" y="4251240"/>
              <a:ext cx="1507680" cy="721080"/>
            </a:xfrm>
            <a:prstGeom prst="ellipse">
              <a:avLst/>
            </a:prstGeom>
            <a:gradFill rotWithShape="0">
              <a:gsLst>
                <a:gs pos="0">
                  <a:srgbClr val="6600cc">
                    <a:alpha val="59215"/>
                  </a:srgbClr>
                </a:gs>
                <a:gs pos="100000">
                  <a:srgbClr val="e9dbf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144160" y="4947840"/>
              <a:ext cx="375480" cy="206280"/>
              <a:chOff x="2144160" y="4947840"/>
              <a:chExt cx="375480" cy="206280"/>
            </a:xfrm>
          </p:grpSpPr>
          <p:sp>
            <p:nvSpPr>
              <p:cNvPr id="174" name=""/>
              <p:cNvSpPr/>
              <p:nvPr/>
            </p:nvSpPr>
            <p:spPr>
              <a:xfrm flipV="1">
                <a:off x="2332800" y="4947840"/>
                <a:ext cx="0" cy="20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44160" y="4947840"/>
                <a:ext cx="37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5143680" y="6141960"/>
            <a:ext cx="3017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Что это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4840" y="5624640"/>
            <a:ext cx="3294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енка дислок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427640" y="3153960"/>
            <a:ext cx="4249080" cy="1096560"/>
            <a:chOff x="4427640" y="3153960"/>
            <a:chExt cx="4249080" cy="1096560"/>
          </a:xfrm>
        </p:grpSpPr>
        <p:sp>
          <p:nvSpPr>
            <p:cNvPr id="179" name=""/>
            <p:cNvSpPr/>
            <p:nvPr/>
          </p:nvSpPr>
          <p:spPr>
            <a:xfrm flipV="1">
              <a:off x="4427640" y="3565080"/>
              <a:ext cx="1918800" cy="685440"/>
            </a:xfrm>
            <a:prstGeom prst="line">
              <a:avLst/>
            </a:prstGeom>
            <a:ln w="381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21480" y="3153960"/>
              <a:ext cx="2055240" cy="271800"/>
            </a:xfrm>
            <a:prstGeom prst="line">
              <a:avLst/>
            </a:prstGeom>
            <a:ln w="381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929040" y="5373720"/>
            <a:ext cx="562464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зультат = азориентировка блоков и зерен –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</a:rPr>
              <a:t>граница зерн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0AFE2-08A0-485A-9016-AA1A011ABB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9228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три основных стадии рекристаллизации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7040" y="907920"/>
            <a:ext cx="93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cc"/>
                </a:solidFill>
                <a:latin typeface="Times New Roman"/>
              </a:rPr>
              <a:t>Первичная стад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cc"/>
                </a:solidFill>
                <a:latin typeface="Times New Roman"/>
              </a:rPr>
              <a:t>Собиратель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cc"/>
                </a:solidFill>
                <a:latin typeface="Times New Roman"/>
              </a:rPr>
              <a:t>Вторична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rcRect l="8266" t="0" r="8266" b="9884"/>
          <a:stretch/>
        </p:blipFill>
        <p:spPr>
          <a:xfrm>
            <a:off x="0" y="2786040"/>
            <a:ext cx="10085400" cy="373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14F88-B8A0-4214-9F7B-15B1F52CD2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9228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Стадии рекристаллизации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rcRect l="3298" t="0" r="0" b="0"/>
          <a:stretch/>
        </p:blipFill>
        <p:spPr>
          <a:xfrm>
            <a:off x="0" y="765000"/>
            <a:ext cx="7005600" cy="5766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561000" y="836640"/>
            <a:ext cx="3159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ервич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61000" y="2852640"/>
            <a:ext cx="3686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обиратель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24800" y="4292640"/>
            <a:ext cx="3159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торич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61000" y="836640"/>
            <a:ext cx="3159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ервич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61000" y="2852640"/>
            <a:ext cx="3686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обиратель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26400" y="5157720"/>
            <a:ext cx="30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номальный рост зер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9FF3F-AC84-4FD2-8410-75AF6DC727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5493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imes New Roman"/>
              </a:rPr>
              <a:t>Первичная стадия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549360"/>
            <a:ext cx="10287000" cy="21052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оцесс замены деформированных зерен более совершенным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елкими, равноосным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зернами той же фазы.</a:t>
            </a:r>
            <a:r>
              <a:rPr b="0" lang="ru-RU" sz="2800" spc="-1" strike="noStrike">
                <a:solidFill>
                  <a:srgbClr val="000000"/>
                </a:solidFill>
                <a:latin typeface="TimesNewRomanPSMT"/>
              </a:rPr>
              <a:t> </a:t>
            </a:r>
            <a:br>
              <a:rPr sz="28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бразование центров рекристаллизации,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с исчезновением последнего деформированного зер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00" y="4651200"/>
            <a:ext cx="10247400" cy="22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мпература первичной рекристаллиз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больших степенях деформации: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Р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П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коэффициент, зависит от состава и содержания примесей; Т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П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температура плавления, 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аллы 0.3-0.4, твёрдые растворы 0.5-0.8, высокочистые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5657760"/>
            <a:ext cx="9802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Причины повышения температуры при протекании твердофазной реакци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540160"/>
            <a:ext cx="10287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Движущая сил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энергия, аккумулированная в наклепанном металле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истема стремится перейти в устойчивое состояние с неискаженной кристаллической решеткой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 энергия дефектов внутри зер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3716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imes New Roman"/>
              </a:rPr>
              <a:t>Что такое равноосны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DB03D-A25B-49AE-9112-E9777ACC98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9228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ервичная стадия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765000"/>
            <a:ext cx="10287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ование новых неискаженных кристаллитов в деформированном материал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областей "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вободных от дислокац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" или значительно более совершенных, чем окружающая матрица (=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ародыши или центры рекристаллиза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, отделенных от нее границами с большими углами разориентиров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родыши рекристаллизации растут за счет окружающей деформированной матриц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родыши формируются, как правило, при росте субзерен, оформившихся при полигониз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сходит наиболее радикальное восстановление структуры и свойств недеформированного материа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2F5C-A344-40E2-9179-1E01033C1D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20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обирательная рекристаллизац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5640" y="1197000"/>
            <a:ext cx="9315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600" y="620640"/>
            <a:ext cx="97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оцесс роста одних рекристаллизованных зерен за счет других путем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играции границ зере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1200" y="2997360"/>
            <a:ext cx="9802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6600cc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ерна укрупняются более или менее равномерно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6600cc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тяженность границ уменьшае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6600cc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глы в стыках зерен приближаются к 1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6600cc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текает при температурах существенно более высоких, чем при первич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1824120"/>
            <a:ext cx="9639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Движущая сил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энергия границ зер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оверхностна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A6482-8882-4D08-B82A-571A53ABD6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5349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играция границ зерен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92280"/>
            <a:ext cx="102870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иффузионное перемещение границ зерен в результате движения ступенек и зернограничных дислокац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767040" cy="4827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846600" y="4238640"/>
            <a:ext cx="3241440" cy="2286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929040" y="1916280"/>
            <a:ext cx="63579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корость определяется скоростью самодиффузии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цесс идет при температурах, значительно выше температуры рекристалл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 при пластической деформации процессу способствует поток дислока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040" y="4508640"/>
            <a:ext cx="9234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В какую сторону мигрирует граница?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Движущие сил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822C1-3788-4D87-B729-429597E0A9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1253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Задание к 26.11.10 – сообщение (5-10 мин) по теме методы исследования твердых тел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979560"/>
            <a:ext cx="10287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1133640"/>
          <a:ext cx="10247400" cy="4991040"/>
        </p:xfrm>
        <a:graphic>
          <a:graphicData uri="http://schemas.openxmlformats.org/drawingml/2006/table">
            <a:tbl>
              <a:tblPr/>
              <a:tblGrid>
                <a:gridCol w="7655040"/>
                <a:gridCol w="2592360"/>
              </a:tblGrid>
              <a:tr h="51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ические методы исследования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рова Елена Леонидов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ракционные методы исследован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плиева Ксения Александ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определения элементного состав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орская Оксана Вадим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сследования ближнего окружения и окислительного состояния атом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аева Юлия Александ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сследования колебательной структуры твердых тел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ева Татьяна Анато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оаналитические метод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ачёва Вероника Вячеслав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сследования термодинамики твердофазных процессов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ёмин Андрей Вадим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экспериментов по исследованию кинетики твердофазных реакци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0" y="6237360"/>
            <a:ext cx="1028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[А.В.К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нотько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И.А.П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ресняков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Ю.Д.Т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ретьяков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Химия твердого тела Г л а в а 7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и др. источ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4AF99-5E2A-4642-BC02-2FECF9FAD4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981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торичная рекристаллизация</a:t>
            </a:r>
            <a:br>
              <a:rPr sz="32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[secondary recrystallization]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203480"/>
            <a:ext cx="10287000" cy="8254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разование структуры с высокой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однородность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размеров зерен и пониженными механическими свойств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133720"/>
            <a:ext cx="10287000" cy="119124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разование структуры, состоящей из множества сравнительно мелких зерен примерно одинакового размера и гораздо меньшего числа очень крупных зер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429000"/>
            <a:ext cx="10287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номальный рост отдельных зерен - «поедание» сосед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365720"/>
            <a:ext cx="10287000" cy="186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Движущая сил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энергия границ зерен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оверхностна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при собирательной рекристаллизации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03097-6A78-4F80-9E3A-0AE21A47E3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90792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динамическая рекристаллизация </a:t>
            </a:r>
            <a:br>
              <a:rPr sz="3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[dynamic recrystallization]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009800"/>
            <a:ext cx="1028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 первичная рекристаллизация непосредственно при (горячей) пластической деформации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062080"/>
            <a:ext cx="1028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оявляющихся при рекристаллизации зернах во время их роста плотность дислокаций постепенно повышается при деформац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здаются условия зарождения новых рекристаллизационных зерен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508640"/>
            <a:ext cx="1028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ногократные циклы: "рекристаллизация - рост плотности дислокаций" при деформации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неизменный средний размер зер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цесс протекает тем быстрее, чем выше Т де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4581360"/>
            <a:ext cx="10287000" cy="19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Движущая сил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Энергия дефектов внутри зерн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оверхностная энергия границ зерен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абота деформац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нешний источ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3518D-0FD3-431B-92B7-A6F9330DE5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крытая энергия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ored energ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836640"/>
            <a:ext cx="10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ble I. Average Microcrystalline Sizes Obtained by X-Ray Diff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1268280"/>
          <a:ext cx="10287000" cy="3570480"/>
        </p:xfrm>
        <a:graphic>
          <a:graphicData uri="http://schemas.openxmlformats.org/drawingml/2006/table">
            <a:tbl>
              <a:tblPr/>
              <a:tblGrid>
                <a:gridCol w="1469880"/>
                <a:gridCol w="1468440"/>
                <a:gridCol w="1470240"/>
                <a:gridCol w="1471680"/>
                <a:gridCol w="1468440"/>
                <a:gridCol w="1468440"/>
                <a:gridCol w="1469880"/>
              </a:tblGrid>
              <a:tr h="5590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i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rain size, n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, kJ/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i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i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0" y="4941720"/>
            <a:ext cx="1008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Nanocrystalline Metals Prepared by High-Energy Ball Mi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537372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плота плавл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5,48 кДж/мо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плота плавл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800" spc="-1" strike="noStrike">
                <a:solidFill>
                  <a:srgbClr val="6600cc"/>
                </a:solidFill>
                <a:latin typeface="Times New Roman"/>
              </a:rPr>
              <a:t>2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Дж/мо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00680" y="5740560"/>
            <a:ext cx="5386320" cy="95436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точненное значение энтальпии плавления C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(Cr) = ~29.0 ± 0.8 кД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ВТАНТЕРМ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E999A-388F-4306-B1B6-0A69A22ED2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крытая энергия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ored energ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2492280"/>
            <a:ext cx="46576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Typical energies determined experimentally 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quilibrated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high-angle grain boundarie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of high mel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oint metals are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J cm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761000" y="1844640"/>
            <a:ext cx="5526000" cy="44974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836640"/>
            <a:ext cx="10287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 maximum dislocation densities measu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in heavily deformed metals are less than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~1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which would correspond to an energy of less than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kJ/mol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5373720"/>
            <a:ext cx="457524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адо перевести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J cm</a:t>
            </a:r>
            <a:r>
              <a:rPr b="1" lang="ru-RU" sz="3200" spc="-1" strike="noStrike" baseline="30000">
                <a:solidFill>
                  <a:srgbClr val="ff0000"/>
                </a:solidFill>
                <a:latin typeface="Times New Roman"/>
              </a:rPr>
              <a:t>-2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в kJ/m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DD265-D2CB-4318-A294-E82A926EC5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20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Как ловить запасенную энергию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5183280" cy="3565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143680" y="581040"/>
            <a:ext cx="51433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A.P. Zhilyaev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1,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G.V. Nurislamova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S. Suriñach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M.D. Baró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T. G. Langdon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orimetric measurements of grain growth in ultrafine-grained nickel /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.Phys.Mech.5(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Institute of Mechanics, Russian Academy of Science, 450000 Ufa, Russia; 2) Institute for Physics of Advanced Materials, Ufa State Aviation Technical University, 450000 Ufa, Russ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 Universitat Autònoma de Barcelona, 08193 Bellaterra, Spain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) Departments of Aerospace &amp; Mechanical Engineering and Materials Science, University of Southern California, Los Angeles, CA 90089-1453, 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9600" y="4149720"/>
            <a:ext cx="5143680" cy="23860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326960" y="5734080"/>
            <a:ext cx="3632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eat flow curve of copper cold ro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32240" y="4938840"/>
            <a:ext cx="5872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емпература плавления меди - 108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дельная теплота плавления меди - 42 кал/г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36680" y="5157720"/>
            <a:ext cx="2349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.4 Т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п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5BC8A-720F-4A6F-BA1F-55FF199814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20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Как ловить запасенную энергию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060640"/>
            <a:ext cx="10287000" cy="32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 реакционной калоримет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арякин Н.В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.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Федосеев В.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лориметрическое определение теплосодержания микрокристаллического никеля и термодинамическая интерпретация результа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// Испытания материалов и конструкций. Н. Новгород. Интелсервис. 2000. Вып. 2. С. 25–2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00cc"/>
                </a:solidFill>
                <a:uFillTx/>
                <a:latin typeface="Times New Roman"/>
              </a:rPr>
              <a:t>сегодня можно обратиться 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нязев Александр Владимирови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ХФ ННГУ,  каф. Химии твердого те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620640"/>
            <a:ext cx="1028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Ближайшие ДСК можно найти на 3-м этаже ИХВВ РАН (Кутьин Александр Михайлович),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+ ИМХ РАН, НИИХимии и НИФТИ ННГУ, и т.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FAA53-5875-4338-8D32-19EDBD9F29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90792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тадинамическая рекристаллизация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[meta-dynamic recrystallization]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125360"/>
            <a:ext cx="10287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кристаллизация, происходящая после горячей пластической деформа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ст зародышей зерен, образованных при динамической рекристаллиз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 статической отличается отсутствием инкубационного периода = есть готовые центры рекристаллизации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спевает полностью завершиться за короткий период времени охлаждения металла от температуры деформ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4797360"/>
            <a:ext cx="10085400" cy="165996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ариант реализации механизмов (мета)динамической рекристаллизации при твердофазных реакциях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"Механохимия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23400" cy="342900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504720" y="3429000"/>
            <a:ext cx="9782280" cy="314172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03F95-4CFB-45C3-B4D8-697C018A59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хема изменения микроструктуры материал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ри нагрев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10287000" cy="2556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82600" y="3860640"/>
            <a:ext cx="9802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- исходный материал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- начало первичной рекристаллизаци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- завершение первичной рекристаллизаци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, д - стадии собирательной рекристалл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70ECC-E59C-48D6-88A1-0BAC6C82D8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166400" cy="981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сновные стадии реакций в твёрдой фазе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1028700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1) поверхностная диффуз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2) Химическая реакция 2) Диффузия в приповерхностные слои (в местах контакта компонентов)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3) Возникновение дефектов, разрыхление кристаллических решет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) Образование и распад твердых раствор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) Спекание и</a:t>
            </a:r>
            <a:r>
              <a:rPr b="1" i="1" lang="en-US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рекристаллизация исходных веществ и продук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) </a:t>
            </a:r>
            <a:r>
              <a:rPr b="1" i="1" lang="en-US" sz="3600" spc="-1" strike="noStrike">
                <a:solidFill>
                  <a:srgbClr val="6600cc"/>
                </a:solidFill>
                <a:latin typeface="Times New Roman"/>
              </a:rPr>
              <a:t>Отжиг дефектов в кристаллической решетке продук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) Возгон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9) Диссоци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10) Возникновение и рост зародышей фазы продук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11) Собственно химическое взаимодейств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1D136-3E8B-4639-95C4-02ACC03982D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Релаксация дефектной структуры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2600" y="765000"/>
            <a:ext cx="9721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лекции 2-7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Какие объекты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Какие взаимодействия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Каков результат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51040" y="3933720"/>
            <a:ext cx="85057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Равновесные размер зерна, концентрация дефектов, химический состав, фазовый соста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5734080"/>
            <a:ext cx="10287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Можно ли "отжечь" все дефект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D5039-56AD-4761-981C-F6B7007D7A3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166400" cy="69228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тадии реакций в твёрдой фазе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836280"/>
            <a:ext cx="10287000" cy="53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осле процесс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—3) Поверхностной и объёмной диффузии с протеканием химических превращ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4) с возникновением, ростом и перераспределением дефект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5) образования и распада твердых растворов реагентов друг с другом и с продуктами химической реа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 также одновременно с этими процесс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исходит преобразование дисперсной структуры системы пут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кания, переконденсации и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 рекристаллизации дисперсных фаз исходных веществ и образовавшегося продукта</a:t>
            </a:r>
            <a:r>
              <a:rPr b="0" lang="ru-RU" sz="2000" spc="-1" strike="noStrike">
                <a:solidFill>
                  <a:srgbClr val="6600cc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(7) Отжиг дефектов в кристаллической решетке продук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(8) Возгон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(9) Диссоциа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(10) Возникновение и рост зародышей фазы продук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(11) Собственно химическое взаимодейств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E9295-8AE1-456A-AEF6-52C9D2D9A6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981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лияние температуры на равновесную плотность дефектов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143680" y="1084320"/>
            <a:ext cx="5043240" cy="32414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86320" y="1084320"/>
            <a:ext cx="4900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лияние температуры (300-900 К) на количество и размеры п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0" y="981000"/>
            <a:ext cx="5143680" cy="329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0" y="4324320"/>
            <a:ext cx="1028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 ростом температуры плотность дефектов растет, средний размер уменьшае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 ростом давления плотност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ислокационных петел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меньшается, средний размер раст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663400" y="18050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5877000"/>
            <a:ext cx="10287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А пор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60567-C651-4683-89EA-4F2F8D24725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052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ак распределена энергия в поликристаллическом материале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12991" r="4846" b="0"/>
          <a:stretch/>
        </p:blipFill>
        <p:spPr>
          <a:xfrm>
            <a:off x="131760" y="1125360"/>
            <a:ext cx="5011920" cy="5399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224320" y="1598760"/>
                <a:ext cx="4292640" cy="96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5841000" y="1239840"/>
            <a:ext cx="33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Энергия границ зёре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35240" y="2536920"/>
            <a:ext cx="32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Энергия дисл. петел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72960" y="462168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число атомов в зер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02840" y="5197680"/>
            <a:ext cx="276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– размер зер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бической фор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224320" y="2967120"/>
                <a:ext cx="40388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ν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ν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dν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ν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dν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EAB75-0787-48DC-BCCD-03D97A6E597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90792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 нанокристаллических материалах существенная часть запасённой энергии содержится внутри зерна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5497560" cy="29527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297960" y="155736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люми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537080" y="3486240"/>
            <a:ext cx="5710320" cy="30700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8645040" y="37926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ит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2301E-424C-4022-B731-41EB7FFC50D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лотность дефектов (дислокационных петель) зависит от размера зерна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5143680" cy="27748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143680" y="1197000"/>
            <a:ext cx="5143320" cy="2808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0" y="4132440"/>
            <a:ext cx="102870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Чем меньше размер зерна, тем больше  плотность дислок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Чем меньше размер зерна, тем меньше дислокаций в одном зер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08320" y="5805360"/>
            <a:ext cx="575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Противоречия н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05B96-237A-467C-93F8-78A892FB881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4428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Задач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2520" y="765000"/>
            <a:ext cx="99219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еть равновесие "раствор - частица" для дисперсной системы с размером (или радиус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частиц  L в дисперсионной сред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зависит состав частиц от их размера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распределяется примесь между частицами и дисперсионной средой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зависит количество примесей в частицах дисперсной фазы от дисперсности (размер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A5598-0894-4F83-8846-56A7586EF10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5349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cc"/>
                </a:solidFill>
                <a:latin typeface="Times New Roman"/>
              </a:rPr>
              <a:t>Ответ?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6257880" cy="41893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3038400" y="765000"/>
            <a:ext cx="6561360" cy="20955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0" y="4869000"/>
            <a:ext cx="3808440" cy="1457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767040" y="4869000"/>
            <a:ext cx="651996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эффициент разделения в эмульсии со сферическими капля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с плоской поверхностью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E7956-71CB-47AE-A461-B54C091278F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9000"/>
            <a:ext cx="10287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 во время, и посл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екания, образования новых фаз = распада твердых растворов, химических превращений, взаимной диффузии и т.п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териал находится в неравновесном состоя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 &gt; 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ереход к равновесному состояни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меньшение искажений кристаллической решетки снятием упругих напряжений, залечиванием дефектов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зменением химического соста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8E4AF-D1B4-45AD-8E97-DD642A047E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3068640"/>
            <a:ext cx="10287000" cy="72072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imes New Roman"/>
              </a:rPr>
              <a:t>рекристаллизация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860640"/>
            <a:ext cx="1028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цесс образования и роста (или только роста) одних кристаллических зёрен (кристаллитов) поликристалла за счёт других той же фаз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10287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озвра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435640"/>
            <a:ext cx="1028700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При возврате свойства восстанавливаются частично, 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при рекристаллизации полностью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25360"/>
            <a:ext cx="1028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се изменения тонкой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уктур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и свойств, при которых не меняется микроструктура (размер и форма зерна) деформированного материа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33975-8F15-4D0F-B8B0-F8CC4B65C3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549360"/>
            <a:ext cx="10287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ометрические и иные особенности процесса рекристаллизации очищенн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содержавшего 3,4 •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% (ат.) 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рекристаллизованные объемы возникали в виде ≪колоний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прикасающихся зерен, вытянутых вдоль стыков зерен деформированной матрицы (т. е. вдоль линии пересечения трех деформированных зерен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 все ≪колонии≫ образовывались или обнаруживались в самом начале процесса отжига, т. е. фактически при нулевом времени, и никакого дальнейшего изотермического зарождения в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ем интервале исследованных времен отжига не наблюдалос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 только небольшая часть, примерно 0,05, общего количества тройных стыков матрицы создавала ≪колонии≫;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) каждая ≪колония≫ приобретала в сущности свойственну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й длину, равную длине тройного стыка, при зарожден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) после зарождения рост происходил только в двух направлениях, перпендикулярных линии тройного стыка матрицы, тогда как увеличение третьего измерения зерен ≪колонии≫ приостанавливалось их столкновением ввиду роста зародышей параллельно линии тройного сты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) при данной температуре отжига скорости роста различных ≪колоний≫ отличались друг от друга, причем максимальна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орость была больше минимальной примерно в 12 раз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5181480" cy="6381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091120" y="476280"/>
            <a:ext cx="5195880" cy="638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AE3D7-91AB-4DE2-BDA2-D5093B76A1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0068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7783560" cy="3206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900680" y="0"/>
            <a:ext cx="5386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Процессы возврата и рекристаллизации идут одновременно, поэтому разделение на стадии услов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Можно разделить стадии предварительным отжиг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FA4B7-330F-4DD8-A5E1-826E38BFEE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Направление процессов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0" r="0" b="9884"/>
          <a:stretch/>
        </p:blipFill>
        <p:spPr>
          <a:xfrm>
            <a:off x="0" y="3789360"/>
            <a:ext cx="9759960" cy="273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765000"/>
            <a:ext cx="4900680" cy="3032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941720" y="692280"/>
            <a:ext cx="534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лияние нагрева деформированного материала (металла) на механические сво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81680" y="2817720"/>
            <a:ext cx="53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менение структуры деформированного материала при нагре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90680" y="2133720"/>
            <a:ext cx="4126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еде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ч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838CF-2B28-463B-8CD8-9B00673E36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3400"/>
            <a:ext cx="10287000" cy="7412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чность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2400" y="1557360"/>
            <a:ext cx="96375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еде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ч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яжение, соответствующее максимальной нагрузке, предшествующее процессу разрушения матери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-39600" y="3065400"/>
            <a:ext cx="5587560" cy="3604320"/>
            <a:chOff x="-39600" y="3065400"/>
            <a:chExt cx="5587560" cy="3604320"/>
          </a:xfrm>
        </p:grpSpPr>
        <p:sp>
          <p:nvSpPr>
            <p:cNvPr id="69" name=""/>
            <p:cNvSpPr/>
            <p:nvPr/>
          </p:nvSpPr>
          <p:spPr>
            <a:xfrm>
              <a:off x="455760" y="3065400"/>
              <a:ext cx="5092200" cy="3185640"/>
            </a:xfrm>
            <a:custGeom>
              <a:avLst/>
              <a:gdLst/>
              <a:ahLst/>
              <a:rect l="l" t="t" r="r" b="b"/>
              <a:pathLst>
                <a:path w="1633" h="1225">
                  <a:moveTo>
                    <a:pt x="0" y="0"/>
                  </a:moveTo>
                  <a:lnTo>
                    <a:pt x="0" y="1225"/>
                  </a:lnTo>
                  <a:lnTo>
                    <a:pt x="1633" y="122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5760" y="3246840"/>
              <a:ext cx="3599640" cy="3003840"/>
            </a:xfrm>
            <a:custGeom>
              <a:avLst/>
              <a:gdLst/>
              <a:ahLst/>
              <a:rect l="l" t="t" r="r" b="b"/>
              <a:pathLst>
                <a:path w="1860" h="1668">
                  <a:moveTo>
                    <a:pt x="0" y="1668"/>
                  </a:moveTo>
                  <a:lnTo>
                    <a:pt x="227" y="715"/>
                  </a:lnTo>
                  <a:cubicBezTo>
                    <a:pt x="297" y="518"/>
                    <a:pt x="361" y="527"/>
                    <a:pt x="420" y="488"/>
                  </a:cubicBezTo>
                  <a:lnTo>
                    <a:pt x="580" y="480"/>
                  </a:lnTo>
                  <a:cubicBezTo>
                    <a:pt x="649" y="445"/>
                    <a:pt x="741" y="355"/>
                    <a:pt x="836" y="280"/>
                  </a:cubicBezTo>
                  <a:cubicBezTo>
                    <a:pt x="931" y="205"/>
                    <a:pt x="1031" y="64"/>
                    <a:pt x="1148" y="32"/>
                  </a:cubicBezTo>
                  <a:cubicBezTo>
                    <a:pt x="1265" y="0"/>
                    <a:pt x="1421" y="29"/>
                    <a:pt x="1540" y="88"/>
                  </a:cubicBezTo>
                  <a:cubicBezTo>
                    <a:pt x="1659" y="147"/>
                    <a:pt x="1793" y="322"/>
                    <a:pt x="1860" y="38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94960" y="4534920"/>
              <a:ext cx="613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94960" y="4687920"/>
              <a:ext cx="373320" cy="10440"/>
            </a:xfrm>
            <a:custGeom>
              <a:avLst/>
              <a:gdLst/>
              <a:ahLst/>
              <a:rect l="l" t="t" r="r" b="b"/>
              <a:pathLst>
                <a:path w="193" h="6">
                  <a:moveTo>
                    <a:pt x="0" y="6"/>
                  </a:moveTo>
                  <a:lnTo>
                    <a:pt x="19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09320" y="4111560"/>
              <a:ext cx="1170720" cy="1440"/>
            </a:xfrm>
            <a:custGeom>
              <a:avLst/>
              <a:gdLst/>
              <a:ahLst/>
              <a:rect l="l" t="t" r="r" b="b"/>
              <a:pathLst>
                <a:path w="515" h="1">
                  <a:moveTo>
                    <a:pt x="0" y="0"/>
                  </a:moveTo>
                  <a:lnTo>
                    <a:pt x="51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50680" y="3270240"/>
              <a:ext cx="613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55760" y="3963600"/>
              <a:ext cx="613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3960" y="4212360"/>
              <a:ext cx="541440" cy="2016720"/>
            </a:xfrm>
            <a:custGeom>
              <a:avLst/>
              <a:gdLst/>
              <a:ahLst/>
              <a:rect l="l" t="t" r="r" b="b"/>
              <a:pathLst>
                <a:path w="280" h="1120">
                  <a:moveTo>
                    <a:pt x="0" y="1120"/>
                  </a:moveTo>
                  <a:lnTo>
                    <a:pt x="28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71000" y="4208760"/>
              <a:ext cx="1052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69200" y="4698360"/>
              <a:ext cx="0" cy="15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32720" y="4520520"/>
              <a:ext cx="1440" cy="17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87520" y="4125960"/>
              <a:ext cx="0" cy="212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00960" y="3309840"/>
              <a:ext cx="0" cy="29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35080" y="4208760"/>
              <a:ext cx="0" cy="204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18920" y="3963600"/>
              <a:ext cx="0" cy="22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447840" y="5615280"/>
              <a:ext cx="735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ru-RU" sz="1600" spc="-1" strike="noStrike" baseline="-25000">
                  <a:solidFill>
                    <a:srgbClr val="000000"/>
                  </a:solidFill>
                  <a:latin typeface="Times New Roman"/>
                </a:rPr>
                <a:t>пц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090440" y="5533920"/>
              <a:ext cx="734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ru-RU" sz="1600" spc="-1" strike="noStrike" baseline="-25000">
                  <a:solidFill>
                    <a:srgbClr val="000000"/>
                  </a:solidFill>
                  <a:latin typeface="Times New Roman"/>
                </a:rPr>
                <a:t>уп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413360" y="4471200"/>
              <a:ext cx="734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ru-RU" sz="1600" spc="-1" strike="noStrike" baseline="-25000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2205360" y="4302000"/>
              <a:ext cx="734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ru-RU" sz="1600" spc="-1" strike="noStrike" baseline="-25000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2760840" y="3650400"/>
              <a:ext cx="735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ru-RU" sz="1600" spc="-1" strike="noStrike" baseline="-25000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3637440" y="4386600"/>
              <a:ext cx="734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ru-RU" sz="1600" spc="-1" strike="noStrike" baseline="-25000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-852120" y="4039560"/>
              <a:ext cx="196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Напряжение,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84800" y="6332400"/>
              <a:ext cx="298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Деформация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40520" y="3963600"/>
              <a:ext cx="615240" cy="2287080"/>
            </a:xfrm>
            <a:custGeom>
              <a:avLst/>
              <a:gdLst/>
              <a:ahLst/>
              <a:rect l="l" t="t" r="r" b="b"/>
              <a:pathLst>
                <a:path w="280" h="1120">
                  <a:moveTo>
                    <a:pt x="0" y="1120"/>
                  </a:moveTo>
                  <a:lnTo>
                    <a:pt x="28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930240" y="620640"/>
            <a:ext cx="827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особность материала сопротивляться деформации и разруше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57680" y="2924280"/>
            <a:ext cx="5508720" cy="11912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нструкционные стали - 600...3000 н/м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люминиевые сплавы - 200...900 н/м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итановые сплавы - 600...1600 н/м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мпозиционные материалы - 300...20000н/м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4221000"/>
            <a:ext cx="4454640" cy="208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едел пропорционально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п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едел упруго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у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еде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кчест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условны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едел текчести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пряжение разруш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9 Возврат и рекристаллизац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920E3-51B1-4921-8C5B-4BDDDEF150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7:05:51Z</dcterms:created>
  <dc:creator>Виктор</dc:creator>
  <dc:description/>
  <dc:language>en-US</dc:language>
  <cp:lastModifiedBy>Fedoseev</cp:lastModifiedBy>
  <dcterms:modified xsi:type="dcterms:W3CDTF">2010-12-11T09:30:44Z</dcterms:modified>
  <cp:revision>68</cp:revision>
  <dc:subject/>
  <dc:title>Кинетика твердофазных реакций </dc:title>
</cp:coreProperties>
</file>